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908-EF61-460A-B417-1C63E790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24D3-6AA3-4FD1-A473-D72B968A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ED97-4A49-427C-8738-FB6C735D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03A-CB9A-4D88-8DF5-E84A3377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D0C-9590-469E-9170-E22F1292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91B-A74F-45FD-B2F0-97A5A3AC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B70-E88F-47EA-91DB-4F232CBE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751-CD07-4472-9502-EDB2F1F2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FA1D-2C69-40B7-9CA8-8F9C119E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9BE-637D-45A8-ACE6-6A71396A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DACA-2C18-4A9F-824C-D2DBB9FB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5E5E-3FAA-49D1-AA4E-CD0E47C4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E8AD-D0E6-4C8F-A050-EECB91058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eservoirGrunge"/>
              </a:rPr>
              <a:t>Agmin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Agminate- aggregated together au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The agminated group crowded the stage, jumping to the sound of the metal rock mus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Latin root: agmin- throng or crow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+ATE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concert-crowd"/>
          <p:cNvPicPr/>
          <p:nvPr/>
        </p:nvPicPr>
        <p:blipFill>
          <a:blip r:embed="rId1"/>
          <a:stretch/>
        </p:blipFill>
        <p:spPr>
          <a:xfrm>
            <a:off x="2666880" y="1905120"/>
            <a:ext cx="3810240" cy="2523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52280" y="152280"/>
            <a:ext cx="1219320" cy="6626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7696080" y="152280"/>
            <a:ext cx="1219320" cy="6626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1447920" y="457200"/>
            <a:ext cx="1066680" cy="1219320"/>
          </a:xfrm>
          <a:prstGeom prst="lightningBol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 rot="4173000">
            <a:off x="6476760" y="380880"/>
            <a:ext cx="990360" cy="1295640"/>
          </a:xfrm>
          <a:prstGeom prst="lightningBol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72400" y="228600"/>
            <a:ext cx="10666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a B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eri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1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eservoirGrunge"/>
              </a:rPr>
              <a:t>Au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augment- to enlarg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The specialized eye doctor augmented the patient’s pupil to check for vision imperfe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orky's"/>
              </a:rPr>
              <a:t>augmentāre:</a:t>
            </a: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 to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333600" cy="190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137160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327672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137160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27672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orky's"/>
              </a:rPr>
              <a:t>Vivac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vivacious- adj. lively or spirit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The vivacious family loved their family time they had on vacation, so for a last goodbye they jumped in the air for jo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Latin root: vivere, victum- t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jumping-for-joy2_oppg"/>
          <p:cNvPicPr/>
          <p:nvPr/>
        </p:nvPicPr>
        <p:blipFill>
          <a:blip r:embed="rId1"/>
          <a:stretch/>
        </p:blipFill>
        <p:spPr>
          <a:xfrm>
            <a:off x="1600200" y="1143000"/>
            <a:ext cx="5952960" cy="39528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/>
          <p:cNvSpPr/>
          <p:nvPr/>
        </p:nvSpPr>
        <p:spPr>
          <a:xfrm>
            <a:off x="1066680" y="685800"/>
            <a:ext cx="1143000" cy="1143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4:08:46Z</dcterms:created>
  <dc:creator>HP Authorized Customer</dc:creator>
  <dc:description/>
  <dc:language>en-US</dc:language>
  <cp:lastModifiedBy>HP Authorized Customer</cp:lastModifiedBy>
  <dcterms:modified xsi:type="dcterms:W3CDTF">2010-01-22T00:13:53Z</dcterms:modified>
  <cp:revision>6</cp:revision>
  <dc:subject/>
  <dc:title>Agminate </dc:title>
</cp:coreProperties>
</file>