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4AC-68EA-43DF-B690-6BA7BD2B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708-130B-4AD4-9616-6D50C15B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9172-C1BA-40D5-B3A3-8F2CE8A7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2E1-DA44-4FA9-882F-0D0FF5DA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2B2F-9A76-46A7-8E7B-F3F13D68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1C60-8FD5-4D6E-A238-6410E1AD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277-7695-417C-914A-FD96F23F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C7B-8DC3-4BFE-B950-5CC104B3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78E-2105-445F-9DEA-6E548171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4F1-EBA5-47B0-914E-F0E039F7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E40-A836-43F3-BC13-4BC58035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372-D882-48DC-9D3B-FB19E807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7F1A-EAA0-44C4-83ED-B4B5070FD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eservoirGrunge"/>
              </a:rPr>
              <a:t>Agmin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Agminate- aggregated together au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The agminated group crowded the stage, jumping to the sound of the metal rock mu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Latin root: agmin- throng or crow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+ATE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oncert-crowd"/>
          <p:cNvPicPr/>
          <p:nvPr/>
        </p:nvPicPr>
        <p:blipFill>
          <a:blip r:embed="rId1"/>
          <a:stretch/>
        </p:blipFill>
        <p:spPr>
          <a:xfrm>
            <a:off x="2666880" y="1905120"/>
            <a:ext cx="3810240" cy="2523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522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76960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1447920" y="457200"/>
            <a:ext cx="1066680" cy="121932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 rot="4173000">
            <a:off x="6476760" y="380880"/>
            <a:ext cx="990360" cy="129564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72400" y="228600"/>
            <a:ext cx="10666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a B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eri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1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eservoirGrunge"/>
              </a:rPr>
              <a:t>Au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augment- to enlar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The specialized eye doctor augmented the patient’s pupil to check for vision imperfe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orky's"/>
              </a:rPr>
              <a:t>augmentāre: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to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333600" cy="190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rky's"/>
              </a:rPr>
              <a:t>Vivac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vivacious- adj. lively or spiri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The vivacious family loved their family time they had on vacation, so for a last goodbye they jumped in the air for jo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Latin root: vivere, victum- t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jumping-for-joy2_oppg"/>
          <p:cNvPicPr/>
          <p:nvPr/>
        </p:nvPicPr>
        <p:blipFill>
          <a:blip r:embed="rId1"/>
          <a:stretch/>
        </p:blipFill>
        <p:spPr>
          <a:xfrm>
            <a:off x="1600200" y="1143000"/>
            <a:ext cx="5952960" cy="39528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/>
          <p:cNvSpPr/>
          <p:nvPr/>
        </p:nvSpPr>
        <p:spPr>
          <a:xfrm>
            <a:off x="1066680" y="685800"/>
            <a:ext cx="1143000" cy="1143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4:08:46Z</dcterms:created>
  <dc:creator>HP Authorized Customer</dc:creator>
  <dc:description/>
  <dc:language>en-US</dc:language>
  <cp:lastModifiedBy>HP Authorized Customer</cp:lastModifiedBy>
  <dcterms:modified xsi:type="dcterms:W3CDTF">2010-01-22T00:13:53Z</dcterms:modified>
  <cp:revision>6</cp:revision>
  <dc:subject/>
  <dc:title>Agminate </dc:title>
</cp:coreProperties>
</file>