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104-B4C2-4319-97E4-B07E3269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20C-7548-4AAE-B264-528BC0C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CD9-A813-43D2-9138-B8A1D0E8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C76-57E5-4A31-B680-237A8F08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971-A8F9-42CB-A7AF-9AD89CE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791-D11D-4C18-9171-9A06A020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E10-5130-47EB-9DB6-225075C0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792-93A7-4938-84C3-EBB4484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C2C-EEB1-4DC7-AB7C-7945500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FBA-4459-46C0-A919-6D327F1D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F31-0CC9-4F48-B0E9-F3A2C51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8B6-ABEF-4D07-8277-24298E1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BCB1-527D-4306-B362-1F87EE7F5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3:53Z</dcterms:modified>
  <cp:revision>6</cp:revision>
  <dc:subject/>
  <dc:title>Agminate </dc:title>
</cp:coreProperties>
</file>