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D3B-C767-4075-8995-DC29C335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7BB-8E6F-4FDF-98DB-97BDB607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295-667A-4E75-BE66-4CBFC8F6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E83-9B85-43E2-B2D8-710707D4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9C8-8065-4645-9C57-69161B8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63C-ECBF-45C9-B416-26ED8569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AA1-39AF-4595-AA37-1B49BEE6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5E0-E7BE-485F-ADD9-28C91796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6F8-3C97-4DC0-872E-FBDC3388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20C-2A3D-4960-83BE-2FB06175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737-781E-4CD4-921C-0306333A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AFA-DEB9-4D80-8E23-F5AE501F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1135-9348-4387-A85D-0A4F2760B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eservoirGrunge"/>
              </a:rPr>
              <a:t>Agmin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Agminate- aggregated together au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The agminated group crowded the stage, jumping to the sound of the metal rock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Latin root: agmin- throng or 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+AT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ncert-crowd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252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22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960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447920" y="457200"/>
            <a:ext cx="1066680" cy="121932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4173000">
            <a:off x="6476760" y="380880"/>
            <a:ext cx="990360" cy="129564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228600"/>
            <a:ext cx="1066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a B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eservoirGrunge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augment- to enlar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The specialized eye doctor augmented the patient’s pupil to check for vision imper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orky's"/>
              </a:rPr>
              <a:t>augmentāre: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to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rky's"/>
              </a:rPr>
              <a:t>Viva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vivacious- adj. lively or spiri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The vivacious family loved their family time they had on vacation, so for a last goodbye they jumped in the air for jo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Latin root: vivere, victum-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umping-for-joy2_oppg"/>
          <p:cNvPicPr/>
          <p:nvPr/>
        </p:nvPicPr>
        <p:blipFill>
          <a:blip r:embed="rId1"/>
          <a:stretch/>
        </p:blipFill>
        <p:spPr>
          <a:xfrm>
            <a:off x="1600200" y="1143000"/>
            <a:ext cx="5952960" cy="3952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066680" y="685800"/>
            <a:ext cx="114300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4:08:46Z</dcterms:created>
  <dc:creator>HP Authorized Customer</dc:creator>
  <dc:description/>
  <dc:language>en-US</dc:language>
  <cp:lastModifiedBy>HP Authorized Customer</cp:lastModifiedBy>
  <dcterms:modified xsi:type="dcterms:W3CDTF">2010-01-22T00:13:53Z</dcterms:modified>
  <cp:revision>6</cp:revision>
  <dc:subject/>
  <dc:title>Agminate </dc:title>
</cp:coreProperties>
</file>