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D208-264A-4CC6-A39B-61D4D641D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F756-1B9E-4EE7-8A07-03F643F70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9F48-067C-45D2-A963-308D7EDD3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F5C9-43FA-4A11-9095-EA8586576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1E5D-41F0-439E-8D84-ADD5D464A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9557-703C-4A22-AE1E-F974AE12E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B0E6-871F-4C33-8BF1-CCE8B1EAA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4BA0-6FBF-4BA8-BE7D-93DB8D368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AE2E-4775-4321-937D-FB93F3FB5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D27C-41D9-4E29-A34C-4602713D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30C7-5B9B-4429-B730-DF879D75E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1916-7C77-4336-A251-2154D10A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930D5-A58C-4CBC-AD76-BAA5C71A69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eservoirGrunge"/>
              </a:rPr>
              <a:t>Agminat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Agminate- aggregated together aug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The agminated group crowded the stage, jumping to the sound of the metal rock mus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Latin root: agmin- throng or crow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+ATE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concert-crowd"/>
          <p:cNvPicPr/>
          <p:nvPr/>
        </p:nvPicPr>
        <p:blipFill>
          <a:blip r:embed="rId1"/>
          <a:stretch/>
        </p:blipFill>
        <p:spPr>
          <a:xfrm>
            <a:off x="2666880" y="1905120"/>
            <a:ext cx="3810240" cy="25239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8"/>
          <p:cNvSpPr/>
          <p:nvPr/>
        </p:nvSpPr>
        <p:spPr>
          <a:xfrm>
            <a:off x="152280" y="152280"/>
            <a:ext cx="1219320" cy="6626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7696080" y="152280"/>
            <a:ext cx="1219320" cy="6626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10"/>
          <p:cNvSpPr/>
          <p:nvPr/>
        </p:nvSpPr>
        <p:spPr>
          <a:xfrm>
            <a:off x="1447920" y="457200"/>
            <a:ext cx="1066680" cy="1219320"/>
          </a:xfrm>
          <a:prstGeom prst="lightningBol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11"/>
          <p:cNvSpPr/>
          <p:nvPr/>
        </p:nvSpPr>
        <p:spPr>
          <a:xfrm rot="4173000">
            <a:off x="6476760" y="380880"/>
            <a:ext cx="990360" cy="1295640"/>
          </a:xfrm>
          <a:prstGeom prst="lightningBol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772400" y="228600"/>
            <a:ext cx="10666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na Ba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erio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/21/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eservoirGrunge"/>
              </a:rPr>
              <a:t>Au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orky's"/>
              </a:rPr>
              <a:t>augment- to enlarg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orky'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Porky's"/>
              </a:rPr>
              <a:t>The specialized eye doctor augmented the patient’s pupil to check for vision imperfec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Porky's"/>
              </a:rPr>
              <a:t>augmentāre:</a:t>
            </a:r>
            <a:r>
              <a:rPr b="1" lang="en-US" sz="2400" spc="-1" strike="noStrike">
                <a:solidFill>
                  <a:srgbClr val="000000"/>
                </a:solidFill>
                <a:latin typeface="Porky's"/>
              </a:rPr>
              <a:t> to incr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819520" y="1676520"/>
            <a:ext cx="3333600" cy="1904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438280" y="1371600"/>
            <a:ext cx="609840" cy="60948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38280" y="3276720"/>
            <a:ext cx="609840" cy="60948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867280" y="1371600"/>
            <a:ext cx="609840" cy="60948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867280" y="3276720"/>
            <a:ext cx="609840" cy="60948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orky's"/>
              </a:rPr>
              <a:t>Vivaci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5257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ba Super"/>
              </a:rPr>
              <a:t>vivacious- adj. lively or spirite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ba Super"/>
              </a:rPr>
              <a:t>The vivacious family loved their family time they had on vacation, so for a last goodbye they jumped in the air for jo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ba Super"/>
              </a:rPr>
              <a:t>Latin root: vivere, victum- to l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jumping-for-joy2_oppg"/>
          <p:cNvPicPr/>
          <p:nvPr/>
        </p:nvPicPr>
        <p:blipFill>
          <a:blip r:embed="rId1"/>
          <a:stretch/>
        </p:blipFill>
        <p:spPr>
          <a:xfrm>
            <a:off x="1600200" y="1143000"/>
            <a:ext cx="5952960" cy="395280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6"/>
          <p:cNvSpPr/>
          <p:nvPr/>
        </p:nvSpPr>
        <p:spPr>
          <a:xfrm>
            <a:off x="1066680" y="685800"/>
            <a:ext cx="1143000" cy="11430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9T04:08:46Z</dcterms:created>
  <dc:creator>HP Authorized Customer</dc:creator>
  <dc:description/>
  <dc:language>en-US</dc:language>
  <cp:lastModifiedBy>HP Authorized Customer</cp:lastModifiedBy>
  <dcterms:modified xsi:type="dcterms:W3CDTF">2010-01-22T00:13:53Z</dcterms:modified>
  <cp:revision>6</cp:revision>
  <dc:subject/>
  <dc:title>Agminate </dc:title>
</cp:coreProperties>
</file>