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A9F-A229-42B0-AA10-721BA7A2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518-1BD9-4133-B82D-D8787312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084-F834-4D74-8710-D85B242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DCA-0642-4918-A1E9-912EE7D4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328-9C3E-464B-B331-25B0446A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7F6-B3E6-40A7-AF9A-DFD42CF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35D-8B5F-4423-A9A2-969B511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783-8527-4B1C-A71E-1348ABCE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81C-4419-48BD-8B68-3E1BEB3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8A3-2E92-410D-A3F5-8E18D09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AF5-6A64-449E-9250-49CD5D4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B1C-C51F-411F-8EAD-49D788E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14D-97BE-4D33-878A-596699B0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eservoirGrunge"/>
              </a:rPr>
              <a:t>Agmin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Agminate- aggregated together au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The agminated group crowded the stage, jumping to the sound of the metal rock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Latin root: agmin- throng or crow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+ATE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ncert-crowd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252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22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96080" y="152280"/>
            <a:ext cx="1219320" cy="6626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447920" y="457200"/>
            <a:ext cx="1066680" cy="121932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4173000">
            <a:off x="6476760" y="380880"/>
            <a:ext cx="990360" cy="1295640"/>
          </a:xfrm>
          <a:prstGeom prst="lightningBol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228600"/>
            <a:ext cx="1066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a B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i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eservoirGrunge"/>
              </a:rPr>
              <a:t>Au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augment- to enlar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The specialized eye doctor augmented the patient’s pupil to check for vision imper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orky's"/>
              </a:rPr>
              <a:t>augmentāre:</a:t>
            </a:r>
            <a:r>
              <a:rPr b="1" lang="en-US" sz="2400" spc="-1" strike="noStrike">
                <a:solidFill>
                  <a:srgbClr val="000000"/>
                </a:solidFill>
                <a:latin typeface="Porky's"/>
              </a:rPr>
              <a:t> to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609840" cy="6094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rky's"/>
              </a:rPr>
              <a:t>Viva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vivacious- adj. lively or spiri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The vivacious family loved their family time they had on vacation, so for a last goodbye they jumped in the air for jo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a Super"/>
              </a:rPr>
              <a:t>Latin root: vivere, victum-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umping-for-joy2_oppg"/>
          <p:cNvPicPr/>
          <p:nvPr/>
        </p:nvPicPr>
        <p:blipFill>
          <a:blip r:embed="rId1"/>
          <a:stretch/>
        </p:blipFill>
        <p:spPr>
          <a:xfrm>
            <a:off x="1600200" y="1143000"/>
            <a:ext cx="5952960" cy="3952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066680" y="685800"/>
            <a:ext cx="1143000" cy="1143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4:08:46Z</dcterms:created>
  <dc:creator>HP Authorized Customer</dc:creator>
  <dc:description/>
  <dc:language>en-US</dc:language>
  <cp:lastModifiedBy>HP Authorized Customer</cp:lastModifiedBy>
  <dcterms:modified xsi:type="dcterms:W3CDTF">2010-01-22T00:13:53Z</dcterms:modified>
  <cp:revision>6</cp:revision>
  <dc:subject/>
  <dc:title>Agminate </dc:title>
</cp:coreProperties>
</file>