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D9A-6890-440A-96FA-6F399B06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9CB-62F5-4C1C-9CD8-4AFABD38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772-2941-4C8F-A08B-D78DC787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D31-A5D3-4E77-B30C-7BBF2F3E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CAE-A606-4EC0-8C68-8BA36879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6E6-573B-4534-A201-6D3B4E3B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3A7-665B-43FD-9373-9118E680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852-76CE-43DA-AA23-D22ACCA9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10C-69EF-4C73-B2ED-3A42F894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A84-B956-4864-BCFF-AA6D240F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81F-4A73-49DC-B5F0-9A95E0DD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9EC-9E7B-46E4-AC11-68B48707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3B32-9153-4AC8-A697-FC1127C74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sion and Transcen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xton Pugh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sion- n; a strong feeling of dislike, opposition, repugnance, or anti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ppopotamus had a strong aversion for the rhinoce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427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en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endent- adj; going beyond ordinary limits, surpassing, exc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 was extremely happy when his teacher said he was transc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819520"/>
            <a:ext cx="609480" cy="609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2819520"/>
            <a:ext cx="609840" cy="609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3429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3352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952520" y="487692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086240" y="48006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487692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48006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38680" y="36576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772400" y="3657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7162560" y="3657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028840" y="3657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143000"/>
            <a:ext cx="2362320" cy="1219320"/>
          </a:xfrm>
          <a:prstGeom prst="wedgeRectCallout">
            <a:avLst>
              <a:gd name="adj1" fmla="val -29504"/>
              <a:gd name="adj2" fmla="val 84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id excellent, exceeded all my expecta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3:23:46Z</dcterms:created>
  <dc:creator>Braxton Pugh</dc:creator>
  <dc:description/>
  <dc:language>en-US</dc:language>
  <cp:lastModifiedBy>Braxton Pugh</cp:lastModifiedBy>
  <dcterms:modified xsi:type="dcterms:W3CDTF">2010-01-19T03:41:13Z</dcterms:modified>
  <cp:revision>3</cp:revision>
  <dc:subject/>
  <dc:title>Aversion</dc:title>
</cp:coreProperties>
</file>