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F0A-18C9-4F8F-BC4A-107798C1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B33-FC3F-4E03-A87D-96FB7EDF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EFF-5DF0-4CDB-AE06-AF6020BB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146-02FB-41DC-AEFA-AB56A3F2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EE9-5786-44EA-89A3-E8D145BF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4A2-9F81-4291-A474-017F4BF8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C4C-6836-4193-8E19-BB46A9C9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45E-7520-47F2-96BE-FA0EB021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04A-5E49-4834-B83D-2D5696C4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BD9-F5A6-4FF8-BAC4-20FFB103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418-69A0-476E-948F-A70D96AA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AF8-B915-4924-A76F-6A155F93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6D61-1A68-4C21-8115-B2B99B7CD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sion and Transcen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xton Pugh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sion- n; a strong feeling of dislike, opposition, repugnance, or anti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ppopotamus had a strong aversion for the rhinoce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427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en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endent- adj; going beyond ordinary limits, surpassing, exc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 was extremely happy when his teacher said he was transc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819520"/>
            <a:ext cx="609480" cy="609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2819520"/>
            <a:ext cx="609840" cy="609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3352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952520" y="487692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86240" y="48006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487692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48006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38680" y="36576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77240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716256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02884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143000"/>
            <a:ext cx="2362320" cy="1219320"/>
          </a:xfrm>
          <a:prstGeom prst="wedgeRectCallout">
            <a:avLst>
              <a:gd name="adj1" fmla="val -29504"/>
              <a:gd name="adj2" fmla="val 84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id excellent, exceeded all my expecta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3:23:46Z</dcterms:created>
  <dc:creator>Braxton Pugh</dc:creator>
  <dc:description/>
  <dc:language>en-US</dc:language>
  <cp:lastModifiedBy>Braxton Pugh</cp:lastModifiedBy>
  <dcterms:modified xsi:type="dcterms:W3CDTF">2010-01-19T03:41:13Z</dcterms:modified>
  <cp:revision>3</cp:revision>
  <dc:subject/>
  <dc:title>Aversion</dc:title>
</cp:coreProperties>
</file>