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A5C-514F-44B9-9941-3AAF601C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625-AA5F-46BA-8843-1E581224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110-21BE-4B42-849D-83D07A0F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B961-9BEB-48BC-B672-343FF28F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CBA-832A-44D6-8604-6F4CBCEF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B211-6AE0-4218-B6EA-14E6F1E5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7939-E377-4B61-8DA3-D1C362AF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A58F-1BF9-45E9-AA31-4EB0FD38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B1D6-118C-4962-BCD9-4283C9CD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003-8142-41A7-B076-6D9AA338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36C-5040-4633-AB0F-C721C92A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B50D-4FA3-44EB-9FC1-EF508AD5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7C99-E0E3-4029-BCA8-E4254CD73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sion and Transcen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xton Pugh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sion- n; a strong feeling of dislike, opposition, repugnance, or anti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ppopotamus had a strong aversion for the rhinoce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427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en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endent- adj; going beyond ordinary limits, surpassing, exc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 was extremely happy when his teacher said he was transcen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2819520"/>
            <a:ext cx="609480" cy="609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2819520"/>
            <a:ext cx="609840" cy="609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3429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33526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952520" y="4876920"/>
            <a:ext cx="6858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086240" y="480060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4876920"/>
            <a:ext cx="6858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480060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638680" y="36576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772400" y="3657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7162560" y="3657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028840" y="3657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143000"/>
            <a:ext cx="2362320" cy="1219320"/>
          </a:xfrm>
          <a:prstGeom prst="wedgeRectCallout">
            <a:avLst>
              <a:gd name="adj1" fmla="val -29504"/>
              <a:gd name="adj2" fmla="val 84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id excellent, exceeded all my expectat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3:23:46Z</dcterms:created>
  <dc:creator>Braxton Pugh</dc:creator>
  <dc:description/>
  <dc:language>en-US</dc:language>
  <cp:lastModifiedBy>Braxton Pugh</cp:lastModifiedBy>
  <dcterms:modified xsi:type="dcterms:W3CDTF">2010-01-19T03:41:13Z</dcterms:modified>
  <cp:revision>3</cp:revision>
  <dc:subject/>
  <dc:title>Aversion</dc:title>
</cp:coreProperties>
</file>