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146-1D9B-4297-B200-0A835F82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92E-BFBC-4EC4-BE17-8F43DA0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518-5D46-45FA-BC64-670E1E0A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05E-B47F-4938-AA68-7B0886DC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5DD-056E-4C4F-B1D5-1A6D9D93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5FB-8822-4E1B-BF5D-6A6C685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32F-104C-48FD-8151-AAE7615F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8C9-AC5A-4D62-B4EE-63CB681D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AA8-A15E-4D6E-99CA-B6CB369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DF5-F2E7-454C-9112-BFFFA44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874-46E1-4976-BDF6-CE01D4F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996-C415-463C-9914-ED65CA3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B57-513E-41AC-98C6-EA7599F3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 and 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xton Pug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sion- n; a strong feeling of dislike, opposition, repugnance, or anti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ppopotamus had a strong aversion for the rhinoce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27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endent- adj; going beyond ordinary limits, surpassing, exc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was extremely happy when his teacher said he was transc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819520"/>
            <a:ext cx="6094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5252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24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3657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7724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16256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143000"/>
            <a:ext cx="2362320" cy="1219320"/>
          </a:xfrm>
          <a:prstGeom prst="wedgeRectCallout">
            <a:avLst>
              <a:gd name="adj1" fmla="val -29504"/>
              <a:gd name="adj2" fmla="val 84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d excellent, exceeded all my expect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23:46Z</dcterms:created>
  <dc:creator>Braxton Pugh</dc:creator>
  <dc:description/>
  <dc:language>en-US</dc:language>
  <cp:lastModifiedBy>Braxton Pugh</cp:lastModifiedBy>
  <dcterms:modified xsi:type="dcterms:W3CDTF">2010-01-19T03:41:13Z</dcterms:modified>
  <cp:revision>3</cp:revision>
  <dc:subject/>
  <dc:title>Aversion</dc:title>
</cp:coreProperties>
</file>