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158-ECAB-4F9E-A784-A05515DF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D75-18D3-40F7-8EC1-52EE6AB7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93E-C4CC-42DD-83A0-B7004806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E56-4C84-4097-8735-10674B95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EEBB-B7BA-4332-AB36-BEA0A494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762A-0B44-430B-9C85-9E7CC6D3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DA37-B5F1-4F91-9BCE-D1E1CA8B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CFD2-10CE-4B8B-BCB0-6FA1AA63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F45B-C919-4388-BD1F-51815D1B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290E-0198-4AAF-BC00-CE2AE98D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1811-8D4D-4FED-AAEB-9704ADF1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BC2-699D-4866-9807-A1E93A11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699B-13BB-4D81-9F7D-B970B44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3B6B-33DE-4611-A211-7C85DF3F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DC09-838F-48BD-9D5A-6FF711E7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7A28-2115-4A48-82AA-681D7BC7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BC6B-C6A1-413C-8C43-34B7CF54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344-0F16-4360-B432-34127F6D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B57-8B13-4246-8CC2-CA779F3A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7EA-BA1E-47A2-8852-F7A5C272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28B-D621-4247-BD9F-457D62AD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C07-6098-4A37-8D73-7222624A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E77-E9AE-4402-996E-7C93DA5F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B9E-26A1-4278-9401-A3909769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718C-A2D3-467B-A11D-D0E570B852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10A5-8B76-43E0-B0FC-4EAAD012D6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occaccio0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occaccio_by_Morghe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50px-Boccaccio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838080"/>
            <a:ext cx="3017880" cy="50911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1447920" y="762120"/>
            <a:ext cx="632448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ovanni Boccaccio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2514600" y="4952880"/>
            <a:ext cx="380988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313-1375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20150400">
            <a:off x="304920" y="914040"/>
            <a:ext cx="37335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day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5"/>
          <p:cNvSpPr txBox="1"/>
          <p:nvPr/>
        </p:nvSpPr>
        <p:spPr>
          <a:xfrm rot="318600">
            <a:off x="4495320" y="1066320"/>
            <a:ext cx="38102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traveler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6"/>
          <p:cNvSpPr txBox="1"/>
          <p:nvPr/>
        </p:nvSpPr>
        <p:spPr>
          <a:xfrm rot="906600">
            <a:off x="2895120" y="2285640"/>
            <a:ext cx="331632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story each day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1447920" y="44956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3581280" y="4191120"/>
            <a:ext cx="4191120" cy="17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00 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102280" y="5410080"/>
            <a:ext cx="40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, the na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ameron”-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3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ale of courtly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igo is devoted to Monna Giovanna, a married woman, and will do anything to gain her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 rot="20601600">
            <a:off x="685800" y="1523880"/>
            <a:ext cx="48672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Federigo's Falcon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352680" y="2590920"/>
            <a:ext cx="506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one of those t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alian poet and pain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Boccaccio, engraved by Raffaello Sanzio Morghen, after Vinzenzo Gozzo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685800"/>
            <a:ext cx="3611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Tusc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d poetry from an early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 sent him to Naples to apprentice as a ba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ed his dad into letting him study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ally success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ples in the 1330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time period, he followed his true calling:  po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l in love with the married daughter of the king of Naples (Robert the W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“Fiammetta” in many of his stories, including the narrator in “Federigo’s Falcon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stories became famous/even Chaucer used some of his stories as a basis for his “Tales,” including “The Knight’s Tal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knight"/>
          <p:cNvPicPr/>
          <p:nvPr/>
        </p:nvPicPr>
        <p:blipFill>
          <a:blip r:embed="rId1"/>
          <a:stretch/>
        </p:blipFill>
        <p:spPr>
          <a:xfrm>
            <a:off x="5029200" y="762120"/>
            <a:ext cx="381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1349-1352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ed on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Decame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came famous for thi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ter Yea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ways wrote/began working on a book that contained 106 biographies of famous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nvolved in politics/possibly a coup atte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n emissary for the church at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Active until his death of heart disease at age 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676520" y="380880"/>
            <a:ext cx="5790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he Decamer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 rot="20013600">
            <a:off x="304920" y="1980720"/>
            <a:ext cx="49719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a collection of t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within a frame 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14" name="WordArt 6"/>
          <p:cNvSpPr txBox="1"/>
          <p:nvPr/>
        </p:nvSpPr>
        <p:spPr>
          <a:xfrm rot="1510800">
            <a:off x="5105160" y="2590920"/>
            <a:ext cx="3467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10 charac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2057400" y="373392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leeing to the countr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o escape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lague in Flo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Each day, they picked a different person to be the “king” or “queen” and preside over that day’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tory-telling.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20:23:24Z</dcterms:created>
  <dc:creator>tammyhu</dc:creator>
  <dc:description/>
  <dc:language>en-US</dc:language>
  <cp:lastModifiedBy>GACS</cp:lastModifiedBy>
  <dcterms:modified xsi:type="dcterms:W3CDTF">2009-10-06T13:23:18Z</dcterms:modified>
  <cp:revision>5</cp:revision>
  <dc:subject/>
  <dc:title>Slide 1</dc:title>
</cp:coreProperties>
</file>