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AEC-F554-4EAC-972F-B0294F66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9EA-2D9B-4D12-81A4-E72F53D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3E1-0207-425F-B7AB-EA62F5E2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2EF-27B5-4842-964F-FC6380D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CA1B-A9BF-4507-840E-1829AE6D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3313-68CA-40BA-9DC4-0B7F95F5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DD3-245B-4E79-8780-3D3BF0D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DA63-447F-4863-B82B-1F8D1B3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81CD-28CA-41E5-8735-05E327D3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3C2A-7827-4442-AA04-5E9689D2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F617-D652-42D8-B689-DA5795E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6E3-92D6-4869-B353-E0210F0B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118-A025-4F3B-84E2-7A67BD3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8CD-6759-4F6E-9E0C-9A71FCB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DBBA-C33B-4F7A-8175-65051AC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92BD-C7BB-4D19-ABEE-C47E3A16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C4B-B039-44D7-B81D-9F45CB1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9CC-FD78-467F-A868-E15563B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CAA-E2D1-4B6B-BE46-3855F6D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6AA-0FAA-42F2-9F84-E722A45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E7B-1D35-4865-98F3-38125EB6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311-41E4-4C76-9B2F-637F320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361-DFF8-4679-8DB9-D6358680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EB1-0C63-4487-83F0-B23169D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40C8-D4C4-4275-9008-FD4FDA31AE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1129-4656-449A-983B-A4EE1D6A8A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_by_Morghe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50px-Boccaccio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838080"/>
            <a:ext cx="3017880" cy="50911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447920" y="762120"/>
            <a:ext cx="63244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ovanni Boccacc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514600" y="4952880"/>
            <a:ext cx="380988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13-137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20150400">
            <a:off x="304920" y="91404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day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 rot="318600">
            <a:off x="4495320" y="1066320"/>
            <a:ext cx="3810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travel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6"/>
          <p:cNvSpPr txBox="1"/>
          <p:nvPr/>
        </p:nvSpPr>
        <p:spPr>
          <a:xfrm rot="906600">
            <a:off x="2895120" y="2285640"/>
            <a:ext cx="3316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story each day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1447920" y="44956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581280" y="4191120"/>
            <a:ext cx="419112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00 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02280" y="541008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the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meron”-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3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le of courtly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igo is devoted to Monna Giovanna, a married woman, and will do anything to gain her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20601600">
            <a:off x="685800" y="1523880"/>
            <a:ext cx="4867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Federigo's Falcon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352680" y="2590920"/>
            <a:ext cx="506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one of those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alian poet and pain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Boccaccio, engraved by Raffaello Sanzio Morghen, after Vinzenzo Gozz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Tusc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d poetry from an early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sent him to Naples to apprentice as a ba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ed his dad into letting him study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ples in the 1330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 period, he followed his true calling: 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 in love with the married daughter of the king of Naples (Robert the W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“Fiammetta” in many of his stories, including the narrator in “Federigo’s Falco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tories became famous/even Chaucer used some of his stories as a basis for his “Tales,” including “The Knight’s Ta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knight"/>
          <p:cNvPicPr/>
          <p:nvPr/>
        </p:nvPicPr>
        <p:blipFill>
          <a:blip r:embed="rId1"/>
          <a:stretch/>
        </p:blipFill>
        <p:spPr>
          <a:xfrm>
            <a:off x="5029200" y="762120"/>
            <a:ext cx="381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1349-135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ed on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Decame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came famous for thi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ter Ye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rote/began working on a book that contained 106 biographies of famous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volved in politics/possibly a coup atte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n emissary for the church at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ctive until his death of heart disease at age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6765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 Decame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20013600">
            <a:off x="304920" y="1980720"/>
            <a:ext cx="4971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a collection of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ithin a fram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 rot="1510800">
            <a:off x="5105160" y="2590920"/>
            <a:ext cx="34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0 charac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373392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eeing to the count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o escap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lague in Flo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Each day, they picked a different person to be the “king” or “queen” and preside over that day’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y-telling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0:23:24Z</dcterms:created>
  <dc:creator>tammyhu</dc:creator>
  <dc:description/>
  <dc:language>en-US</dc:language>
  <cp:lastModifiedBy>GACS</cp:lastModifiedBy>
  <dcterms:modified xsi:type="dcterms:W3CDTF">2009-10-06T13:23:18Z</dcterms:modified>
  <cp:revision>5</cp:revision>
  <dc:subject/>
  <dc:title>Slide 1</dc:title>
</cp:coreProperties>
</file>