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8F9-F7AC-4849-AD60-AD1163EC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985-EE02-4986-8044-F5BA69E9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C7E-5375-4403-A30B-BBAB1EF9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B2B-5029-4560-9F84-11323C5F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746E-4C1F-411A-8DCF-403BDE89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5677-9695-4647-8691-5B80F5D0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F1A7-B858-4CE6-89D6-610AF6A2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DA7E-8345-4A87-B560-3C1FB12F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6571-D918-484A-8D0D-55046C6B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E0C1-EDF9-454E-9D83-1326FB03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3BE6-5F5D-463C-96E7-7BB3208C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B44-8D23-4D27-890C-D93C2204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C630-E1B0-4E89-9DA2-0EDD5497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279E-6804-4501-8A32-E82A5818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761B-B679-46DA-99D6-2DFAA356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6ED6-2BCA-428E-9CCF-1C69395D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B253-A5FE-4740-890E-DF92C8B8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CBA-314C-4177-BA2C-2BAE7FCD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B9A-3039-4444-AA88-F9324E7B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447-8B2A-431E-A22A-02576840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A56-2BAD-4193-BAB9-B4960C83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9CE-A793-496A-BD6A-E73DCD84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45F-66CC-4DE4-910B-EA3068CC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E18D-0D8B-4312-BF82-BD31A17E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0D86-0C3D-4A2C-8964-D40475021F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0221-FC26-4CA3-A67A-FCF2743764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occaccio0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occaccio_by_Morghe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150px-Boccaccio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838080"/>
            <a:ext cx="3017880" cy="509112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1447920" y="762120"/>
            <a:ext cx="632448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ovanni Boccaccio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2514600" y="4952880"/>
            <a:ext cx="3809880" cy="17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313-1375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 rot="20150400">
            <a:off x="304920" y="914040"/>
            <a:ext cx="37335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day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5"/>
          <p:cNvSpPr txBox="1"/>
          <p:nvPr/>
        </p:nvSpPr>
        <p:spPr>
          <a:xfrm rot="318600">
            <a:off x="4495320" y="1066320"/>
            <a:ext cx="38102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traveler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6"/>
          <p:cNvSpPr txBox="1"/>
          <p:nvPr/>
        </p:nvSpPr>
        <p:spPr>
          <a:xfrm rot="906600">
            <a:off x="2895120" y="2285640"/>
            <a:ext cx="3316320" cy="12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story each day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7"/>
          <p:cNvSpPr txBox="1"/>
          <p:nvPr/>
        </p:nvSpPr>
        <p:spPr>
          <a:xfrm>
            <a:off x="1447920" y="4495680"/>
            <a:ext cx="1447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8"/>
          <p:cNvSpPr txBox="1"/>
          <p:nvPr/>
        </p:nvSpPr>
        <p:spPr>
          <a:xfrm>
            <a:off x="3581280" y="4191120"/>
            <a:ext cx="4191120" cy="17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00 st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102280" y="5410080"/>
            <a:ext cx="404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ce, the na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ameron”--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3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ale of courtly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igo is devoted to Monna Giovanna, a married woman, and will do anything to gain her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 rot="20601600">
            <a:off x="685800" y="1523880"/>
            <a:ext cx="48672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Federigo's Falcon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3352680" y="2590920"/>
            <a:ext cx="5067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one of those t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alian poet and pain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Boccaccio, engraved by Raffaello Sanzio Morghen, after Vinzenzo Gozzo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685800"/>
            <a:ext cx="3611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in Tusc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d poetry from an early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d sent him to Naples to apprentice as a ban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ed his dad into letting him study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ally success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aples in the 1330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time period, he followed his true calling:  po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l in love with the married daughter of the king of Naples (Robert the Wi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s “Fiammetta” in many of his stories, including the narrator in “Federigo’s Falcon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stories became famous/even Chaucer used some of his stories as a basis for his “Tales,” including “The Knight’s Tal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knight"/>
          <p:cNvPicPr/>
          <p:nvPr/>
        </p:nvPicPr>
        <p:blipFill>
          <a:blip r:embed="rId1"/>
          <a:stretch/>
        </p:blipFill>
        <p:spPr>
          <a:xfrm>
            <a:off x="5029200" y="762120"/>
            <a:ext cx="3813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1349-1352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rked on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The Decamer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came famous for thi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ter Yea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ways wrote/began working on a book that contained 106 biographies of famous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nvolved in politics/possibly a coup atte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n emissary for the church at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Active until his death of heart disease at age 6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676520" y="380880"/>
            <a:ext cx="5790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The Decamer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3" name="WordArt 5"/>
          <p:cNvSpPr txBox="1"/>
          <p:nvPr/>
        </p:nvSpPr>
        <p:spPr>
          <a:xfrm rot="20013600">
            <a:off x="304920" y="1980720"/>
            <a:ext cx="49719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a collection of t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within a frame 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14" name="WordArt 6"/>
          <p:cNvSpPr txBox="1"/>
          <p:nvPr/>
        </p:nvSpPr>
        <p:spPr>
          <a:xfrm rot="1510800">
            <a:off x="5105160" y="2590920"/>
            <a:ext cx="3467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10 charact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2057400" y="3733920"/>
            <a:ext cx="5029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leeing to the countr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o escape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lague in Flor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Each day, they picked a different person to be the “king” or “queen” and preside over that day’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story-telling.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20:23:24Z</dcterms:created>
  <dc:creator>tammyhu</dc:creator>
  <dc:description/>
  <dc:language>en-US</dc:language>
  <cp:lastModifiedBy>GACS</cp:lastModifiedBy>
  <dcterms:modified xsi:type="dcterms:W3CDTF">2009-10-06T13:23:18Z</dcterms:modified>
  <cp:revision>5</cp:revision>
  <dc:subject/>
  <dc:title>Slide 1</dc:title>
</cp:coreProperties>
</file>