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1F8-A451-4660-9E13-C84995DF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797-B9CD-4E95-BCD2-A582D15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AF7-24B3-4218-B260-02F5849E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B73-F0C9-4560-8734-2D8F86DA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10E-61E0-429C-835F-1AA5951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AAFB-25B8-4FA5-853F-C0F3E75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97C-6191-4EF7-882D-4B80266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0F2D-A0E5-425F-B303-C4D4F24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120-D898-49F8-B902-ED168818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6E80-53CD-45E5-895D-BC23444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F9C9-DCFB-45CB-9454-ED752DC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1EB-AEB9-46FD-8ECB-19AF55A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8EC-C019-4484-A28D-6073122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0C1-F00B-4BAA-9B9C-67B5006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2BDA-0DB2-4993-985E-CADEFAD2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7D7-94AB-4B0C-A216-91C5CE36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2EC-5DD9-4C84-9373-A66ED406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27D-5010-4CC3-8838-3C00CB6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FEA-77AF-47C7-B3D2-838CBFD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B15-B293-468E-9AD5-88868A9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06D-9F93-4A7B-AC94-4DBA9506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8ED-40BF-41DC-903E-1152900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962-E03E-481F-8412-A037F04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6A1-A286-40A2-9B63-DEE0A9C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E3C8-C1CE-448E-AFC4-31FEF841B1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CA3E-1051-4646-9FC4-CAA0A74739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ccaccio_by_Morghe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50px-Boccaccio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838080"/>
            <a:ext cx="3017880" cy="50911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447920" y="762120"/>
            <a:ext cx="63244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ovanni Boccacc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514600" y="4952880"/>
            <a:ext cx="380988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313-137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20150400">
            <a:off x="304920" y="91404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day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 rot="318600">
            <a:off x="4495320" y="1066320"/>
            <a:ext cx="3810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travel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6"/>
          <p:cNvSpPr txBox="1"/>
          <p:nvPr/>
        </p:nvSpPr>
        <p:spPr>
          <a:xfrm rot="906600">
            <a:off x="2895120" y="2285640"/>
            <a:ext cx="3316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story each day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1447920" y="44956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581280" y="4191120"/>
            <a:ext cx="419112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00 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02280" y="541008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ce, the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meron”-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3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le of courtly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igo is devoted to Monna Giovanna, a married woman, and will do anything to gain her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20601600">
            <a:off x="685800" y="1523880"/>
            <a:ext cx="4867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Federigo's Falcon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352680" y="2590920"/>
            <a:ext cx="506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one of those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alian poet and pain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Boccaccio, engraved by Raffaello Sanzio Morghen, after Vinzenzo Gozz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Tusc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d poetry from an early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sent him to Naples to apprentice as a ba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ed his dad into letting him study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ples in the 1330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 period, he followed his true calling: 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 in love with the married daughter of the king of Naples (Robert the W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“Fiammetta” in many of his stories, including the narrator in “Federigo’s Falco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tories became famous/even Chaucer used some of his stories as a basis for his “Tales,” including “The Knight’s Ta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knight"/>
          <p:cNvPicPr/>
          <p:nvPr/>
        </p:nvPicPr>
        <p:blipFill>
          <a:blip r:embed="rId1"/>
          <a:stretch/>
        </p:blipFill>
        <p:spPr>
          <a:xfrm>
            <a:off x="5029200" y="762120"/>
            <a:ext cx="381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1349-135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ed on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Decame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came famous for thi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ter Ye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rote/began working on a book that contained 106 biographies of famous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volved in politics/possibly a coup atte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n emissary for the church at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ctive until his death of heart disease at age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6765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he Decame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20013600">
            <a:off x="304920" y="1980720"/>
            <a:ext cx="49719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a collection of t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ithin a fram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4" name="WordArt 6"/>
          <p:cNvSpPr txBox="1"/>
          <p:nvPr/>
        </p:nvSpPr>
        <p:spPr>
          <a:xfrm rot="1510800">
            <a:off x="5105160" y="2590920"/>
            <a:ext cx="34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0 charac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373392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eeing to the count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o escap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lague in Flo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Each day, they picked a different person to be the “king” or “queen” and preside over that day’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tory-telling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0:23:24Z</dcterms:created>
  <dc:creator>tammyhu</dc:creator>
  <dc:description/>
  <dc:language>en-US</dc:language>
  <cp:lastModifiedBy>GACS</cp:lastModifiedBy>
  <dcterms:modified xsi:type="dcterms:W3CDTF">2009-10-06T13:23:18Z</dcterms:modified>
  <cp:revision>5</cp:revision>
  <dc:subject/>
  <dc:title>Slide 1</dc:title>
</cp:coreProperties>
</file>