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" name="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9" name="" descr=""/>
            <p:cNvPicPr/>
            <p:nvPr/>
          </p:nvPicPr>
          <p:blipFill>
            <a:blip r:embed="rId7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8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9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4" name="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22" name="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9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445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491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537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6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11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6324480" cy="4876560"/>
            <a:chOff x="0" y="0"/>
            <a:chExt cx="6324480" cy="4876560"/>
          </a:xfrm>
        </p:grpSpPr>
        <p:sp>
          <p:nvSpPr>
            <p:cNvPr id="157" name="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5397480" y="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200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35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39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castles.org/architecture/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astle architecture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By: Cameron Roy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-419040" y="-25560"/>
            <a:ext cx="3809880" cy="2527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25560" y="706104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>
            <a:off x="9829800" y="0"/>
            <a:ext cx="3174840" cy="29084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9829800" y="7137360"/>
            <a:ext cx="317484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Bibliography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doni SvtyTwo ITC TT-Book"/>
              </a:rPr>
              <a:t>Ganeri, Anita, Williams, Brian, Martell, Hazel Mary 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Ita"/>
                <a:ea typeface="Bodoni SvtyTwo ITC TT-BookIta"/>
              </a:rPr>
              <a:t>:World History Encyclopedia   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</a:rPr>
              <a:t>Barnes &amp; Noble ISBN 0-7607-3435-6 </a:t>
            </a:r>
            <a:endParaRPr b="0" lang="en-US" sz="28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</a:rPr>
              <a:t>Haywood,John, Hall, Simon :</a:t>
            </a:r>
            <a:r>
              <a:rPr b="0" lang="en-US" sz="2900" spc="-1" strike="noStrike">
                <a:solidFill>
                  <a:srgbClr val="000000"/>
                </a:solidFill>
                <a:latin typeface="Bodoni SvtyTwo ITC TT-BookIta"/>
                <a:ea typeface="Bodoni SvtyTwo ITC TT-BookIta"/>
              </a:rPr>
              <a:t>The Illustrated History of the World: 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Ita"/>
                <a:ea typeface="Bodoni SvtyTwo ITC TT-BookIta"/>
              </a:rPr>
              <a:t>From the Big Bang to the Third Millennium 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</a:rPr>
              <a:t>Barnes and Noble ISBN 0-7607-2417-5</a:t>
            </a:r>
            <a:endParaRPr b="0" lang="en-US" sz="28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</a:rPr>
              <a:t>Castles. com ,</a:t>
            </a:r>
            <a:r>
              <a:rPr b="0" lang="en-US" sz="2900" spc="-1" strike="noStrike">
                <a:solidFill>
                  <a:srgbClr val="000000"/>
                </a:solidFill>
                <a:latin typeface="Bodoni SvtyTwo ITC TT-Book"/>
              </a:rPr>
              <a:t>http://</a:t>
            </a:r>
            <a:r>
              <a:rPr b="0" lang="en-US" sz="2900" spc="-1" strike="noStrike" u="sng">
                <a:solidFill>
                  <a:srgbClr val="009999"/>
                </a:solidFill>
                <a:uFillTx/>
                <a:latin typeface="Bodoni SvtyTwo ITC TT-Book"/>
                <a:hlinkClick r:id="rId5"/>
              </a:rPr>
              <a:t>www.castles.org/architecture/</a:t>
            </a:r>
            <a:endParaRPr b="0" lang="en-US" sz="29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63636"/>
                </a:solidFill>
                <a:latin typeface="Bodoni SvtyTwo ITC TT-Book"/>
              </a:rPr>
              <a:t>Wikipedia The Free Encyclopedia,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http://en.wikipedia.org/wiki/Castles</a:t>
            </a:r>
            <a:r>
              <a:rPr b="0" lang="en-US" sz="2900" spc="-1" strike="noStrike">
                <a:solidFill>
                  <a:srgbClr val="363636"/>
                </a:solidFill>
                <a:latin typeface="Bodoni SvtyTwo ITC TT-Book"/>
              </a:rPr>
              <a:t> </a:t>
            </a:r>
            <a:endParaRPr b="0" lang="en-US" sz="29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As the French say,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523880" y="3035160"/>
            <a:ext cx="9423360" cy="70866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360520" y="4978440"/>
            <a:ext cx="7747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0000"/>
                </a:solidFill>
                <a:latin typeface="Bodoni SvtyTwo ITC TT-Bold"/>
                <a:ea typeface="Bodoni SvtyTwo ITC TT-Bold"/>
              </a:rPr>
              <a:t> </a:t>
            </a:r>
            <a:r>
              <a:rPr b="0" lang="en-US" sz="12800" spc="-1" strike="noStrike">
                <a:solidFill>
                  <a:srgbClr val="ff0000"/>
                </a:solidFill>
                <a:latin typeface="Bodoni SvtyTwo ITC TT-Bold"/>
                <a:ea typeface="Bodoni SvtyTwo ITC TT-Bold"/>
              </a:rPr>
              <a:t>LE END</a:t>
            </a:r>
            <a:endParaRPr b="0" lang="en-US" sz="128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astle Beginning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e earliest castles were constructed in the tenth and eleventh centuries. The earliest known castle is in the Loire Valley in northern France at Doue-la-Fontaine and was built in 950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arly castles were made of  mud and wood. The change to stone happened in the 1100s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Location of Castle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astles are located all across Europe and Israel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 Europe castles are mostly concentrated in western Europe in areas like northern France, Italy, Spain, Portugal,Germany, and Britain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One of the places with the most castles is Loire Valley, France, home of Feudal society and the oldest remaining castle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Reasons for Construction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ere were many reasons for construction, but mainly only to defend the land it was on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 </a:t>
            </a: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Also it showed the power of the ruler it held, and for protected residential housing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astle Defense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tles were built for defense mainly, so naturally they had many defensive features.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tles had many defensive features such as keeps, curtain walls, moats, gatehouses, and flanking towers.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Keeps and Curtain Wall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s were usually in the center of castles and in times of peace were used as homes for people, but could be used as fort inside a fort.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tain walls are the walls of the average medieval castle, built so people couldn’t get in.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Moats, Gatehouses and Flanking Tower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86960" y="298404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ats were used to keep siege engines away such as battering rams and  siege towers(giant structures which stored many soldiers to scale walls).</a:t>
            </a:r>
            <a:endParaRPr b="0" lang="en-US" sz="27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tehouses were the weak points in castles, the entrance/exit and were usually flanked by flanking towers.</a:t>
            </a:r>
            <a:endParaRPr b="0" lang="en-US" sz="28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lanking towers were big cylindrical towers which usually had openings at the top for crossbowmen and dropping hot oil.</a:t>
            </a:r>
            <a:endParaRPr b="0" lang="en-US" sz="27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omposition of Castles</a:t>
            </a:r>
            <a:br>
              <a:rPr sz="6800"/>
            </a:br>
            <a:br>
              <a:rPr sz="6800"/>
            </a:br>
            <a:br>
              <a:rPr sz="6800"/>
            </a:br>
            <a:br>
              <a:rPr sz="6800"/>
            </a:br>
            <a:br>
              <a:rPr sz="6800"/>
            </a:b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Made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astles were made with timber and dirt so building them required no skill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en castles were made with stone. Stone was usually quarried locally and sometimes, was taken from local building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Mortar was made with water, sand and lime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onstruction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  </a:t>
            </a: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onstruction was extremely expensive back then. One example of costs for a single castle was £14,500 which is now 8 or 9 billion dollars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onstruction could last anywhere from 10 - 60 year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