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1EF-F710-42C4-AF9F-57C9466B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ADF-BF19-412E-8D4F-4B22F531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B86-36D6-4849-BB88-E3E69A02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97E-8B3C-4795-8580-587DCBD7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A34-E40F-47E5-8155-79751FB4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DB7-FE6E-42C4-B913-3F0C80EA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6C9-32A6-4ED0-85E5-98F451EB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E5A-0EF6-4754-9529-808A0DE3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BD5-498F-44E7-A4BF-EF74FBF7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4E7-30FE-4BF1-88B6-AA724303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688-967F-45AF-96DE-D4A26C63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7C8-CD89-4133-B7D1-4CD370DD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B719-8CF4-48D2-B85A-5DB2A3767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.; dependent for existence, on something not yet certain; condi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not falling was contingent on whether the pole was sturdy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: to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3581280"/>
            <a:ext cx="2957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3:07:52Z</dcterms:created>
  <dc:creator>Home</dc:creator>
  <dc:description/>
  <dc:language>en-US</dc:language>
  <cp:lastModifiedBy>Home</cp:lastModifiedBy>
  <dcterms:modified xsi:type="dcterms:W3CDTF">2010-01-19T23:11:22Z</dcterms:modified>
  <cp:revision>3</cp:revision>
  <dc:subject/>
  <dc:title>Contingent</dc:title>
</cp:coreProperties>
</file>