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127-440A-4E39-95CD-A9CE4263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2BE-7BB0-4277-A5FB-EF37FF6B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BF7-FD28-44B1-9368-5978F6D5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FAA-6E69-415A-A536-C46E0492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BD9-0D74-4CCE-8996-E9A67B79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905-704D-413C-A8EF-8B6E8040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130-6DB2-48D2-8C37-F3885D9B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6B3-DE38-403B-949A-27A2A8FF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AD6-5FD2-4B30-B386-E45AA62A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AC8-D641-4256-A987-0FE3FA3D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BE7-9E20-4BF0-9D6B-513B4DEA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7AE-3339-492B-938E-34524A0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6B0E-F872-4D5C-A1FC-21FEABD7F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.; dependent for existence, on something not yet certain; condi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not falling was contingent on whether the pole was sturdy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: to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2957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3:07:52Z</dcterms:created>
  <dc:creator>Home</dc:creator>
  <dc:description/>
  <dc:language>en-US</dc:language>
  <cp:lastModifiedBy>Home</cp:lastModifiedBy>
  <dcterms:modified xsi:type="dcterms:W3CDTF">2010-01-19T23:11:22Z</dcterms:modified>
  <cp:revision>3</cp:revision>
  <dc:subject/>
  <dc:title>Contingent</dc:title>
</cp:coreProperties>
</file>