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7EB4-EAD8-43B7-9272-DEB1EA400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89EC-7E71-4A2D-8E93-577262AD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18BD-0190-4E47-87B2-CF615C4B2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77D4-AB9C-44BC-AA78-2D924992F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2B7F-16B2-4751-B659-23922443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49A5-4C3F-482C-8D28-EA4FD6A4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90CE-1AA3-4A1F-B5CD-B53C4B70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8AFB-0013-40A0-B9A2-92CBB545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2658-9407-47EB-9150-D9EF3846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AED7-EBDC-4D98-BDDE-D26F3B9C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1958-6687-4810-93FB-CD171EB2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1539-C312-4D10-9A26-922CFC3D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42DD-6119-480E-89D8-71A032CF0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g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.; dependent for existence, on something not yet certain; condition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ly not falling was contingent on whether the pole was sturdy o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N: to 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05520" y="3581280"/>
            <a:ext cx="2957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23:07:52Z</dcterms:created>
  <dc:creator>Home</dc:creator>
  <dc:description/>
  <dc:language>en-US</dc:language>
  <cp:lastModifiedBy>Home</cp:lastModifiedBy>
  <dcterms:modified xsi:type="dcterms:W3CDTF">2010-01-19T23:11:22Z</dcterms:modified>
  <cp:revision>3</cp:revision>
  <dc:subject/>
  <dc:title>Contingent</dc:title>
</cp:coreProperties>
</file>