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E23-E75E-4B40-A53B-DF07E317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0EE-17DD-4F87-9AB5-9189A0DA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712-A60E-4CF4-A5F5-F6EBD132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849-A77B-43A0-855F-2E07A96B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129-A0DB-4038-90D9-2408C832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F48-4546-4770-B138-A0F91860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322-9430-4E98-B777-2877A7C7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857-200B-45BC-8A55-53862D80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0C6-EC21-42FB-BF05-C2C3EEB7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344-D47E-4338-9FD5-FC07572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3F0-2C36-4D7E-8A0C-2D20849C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84F-8DBD-4B9F-8C41-4B361570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D25B-5905-408F-8FC3-24065AB69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.; dependent for existence, on something not yet certain; condi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not falling was contingent on whether the pole was sturdy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: to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2957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3:07:52Z</dcterms:created>
  <dc:creator>Home</dc:creator>
  <dc:description/>
  <dc:language>en-US</dc:language>
  <cp:lastModifiedBy>Home</cp:lastModifiedBy>
  <dcterms:modified xsi:type="dcterms:W3CDTF">2010-01-19T23:11:22Z</dcterms:modified>
  <cp:revision>3</cp:revision>
  <dc:subject/>
  <dc:title>Contingent</dc:title>
</cp:coreProperties>
</file>