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614-356F-4395-95F1-23B0566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882-2730-4572-AACD-CDBCE47E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9C7-A73B-4DA0-8297-01C2C494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CFA-FF5D-40E5-8E9A-3D77583E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A22-E9B1-43CA-A4E9-D7CDF9B6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3CE-9D25-4A55-9E20-DABBEE29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0CF-9881-43E6-9A46-AA396A0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CA7-1E8B-4BF6-BF52-D5BB8FD2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29F-7AAD-4F94-8B58-1C0BB8A8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35F-4E52-451F-995F-14E20E6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686-7682-48C9-B30F-E3D12D57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F8B-3BEB-447A-B0B7-E7F130E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F61-B38A-4432-8EAB-698BA941C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.; dependent for existence, on something not yet certain; con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not falling was contingent on whether the pole was sturdy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: to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2957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3:07:52Z</dcterms:created>
  <dc:creator>Home</dc:creator>
  <dc:description/>
  <dc:language>en-US</dc:language>
  <cp:lastModifiedBy>Home</cp:lastModifiedBy>
  <dcterms:modified xsi:type="dcterms:W3CDTF">2010-01-19T23:11:22Z</dcterms:modified>
  <cp:revision>3</cp:revision>
  <dc:subject/>
  <dc:title>Contingent</dc:title>
</cp:coreProperties>
</file>