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C71-D21C-4980-BC90-A231B2AE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0E0-632D-4B38-89CC-5A99801F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B49-3991-428A-A816-9331D7BA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1CE-009A-48B7-A259-7475FF5B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24D-1AC5-4CE0-B37A-2B5A2B23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B93-D842-4BEF-A94B-C004A80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A05-9C72-42CE-A330-AAF8640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D5D-5717-4D1E-9503-FBBBC6FB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52A-02FC-4681-B345-55AC9953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25D-B8FE-4616-A6D7-53FA2B5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312-5C11-4354-91BE-911F7AE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9DE-9E78-42EB-B317-CA3238D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1E8C-00BB-4545-A919-C87EB6B750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tin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inate-adj-persisting stubbornly or unwilling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-mulish, obdurate, unyielding, unbending, intracta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- comes from the Latin word “obstinatus” (resolute, inflexible, stubbor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nt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stinate child refrained from exiting the car because of her a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ry-baby-girl-face"/>
          <p:cNvPicPr/>
          <p:nvPr/>
        </p:nvPicPr>
        <p:blipFill>
          <a:blip r:embed="rId2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1:38Z</dcterms:created>
  <dc:creator>greg</dc:creator>
  <dc:description/>
  <dc:language>en-US</dc:language>
  <cp:lastModifiedBy>GACS</cp:lastModifiedBy>
  <dcterms:modified xsi:type="dcterms:W3CDTF">2010-01-22T13:28:33Z</dcterms:modified>
  <cp:revision>2</cp:revision>
  <dc:subject/>
  <dc:title>Obstinate</dc:title>
</cp:coreProperties>
</file>