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1FC-B64C-4838-A27E-BA7EB9D9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6A7-DD01-48E2-B955-1EE3DB85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797-85C8-41C3-B2C6-8E6B62CF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752-0FA8-49B4-8DF8-31003206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952-4EC8-47EB-9B41-1FB8B20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32B-CBE3-40D2-A0F5-A027994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352-FE6C-42B5-A17B-91BD610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5AA-D7E1-4219-8214-F15E84C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8FD-20F7-4E79-85DC-4199729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25E-21E7-47EE-A42B-74325B0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899-6627-48CF-ACA9-5510A6F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9B1-ABE1-499A-8423-473E73A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5BC-18DC-4C0F-8672-CF579B4800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tin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inate-adj-persisting stubbornly or unwilling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-mulish, obdurate, unyielding, unbending, intract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- comes from the Latin word “obstinatus” (resolute, inflexible, stubbor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nt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stinate child refrained from exiting the car because of her a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ry-baby-girl-face"/>
          <p:cNvPicPr/>
          <p:nvPr/>
        </p:nvPicPr>
        <p:blipFill>
          <a:blip r:embed="rId2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1:38Z</dcterms:created>
  <dc:creator>greg</dc:creator>
  <dc:description/>
  <dc:language>en-US</dc:language>
  <cp:lastModifiedBy>GACS</cp:lastModifiedBy>
  <dcterms:modified xsi:type="dcterms:W3CDTF">2010-01-22T13:28:33Z</dcterms:modified>
  <cp:revision>2</cp:revision>
  <dc:subject/>
  <dc:title>Obstinate</dc:title>
</cp:coreProperties>
</file>