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A7CD-934E-4298-A603-3F45926B9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3103-3A27-4D7E-A563-FB56668CA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9B76-D0A2-4B93-91AC-9F4EBF27C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2D22-25D4-4E7C-B03A-7A6DFDD61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EFCA3-4068-4C8B-8FD9-0BBD5AC7E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A6A62-9D44-4712-BD9E-DBFCF4FD7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3CD11-E41D-45C6-A19A-96F5D17F3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F17B5-0B4D-4FED-9767-8BEAF5A39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5B2BF-59C8-49F0-834B-5213A9E09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D419D-1E3E-4710-8961-C43B6E89E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BA7CD-7D1B-4355-A091-B65BBBAC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0047-267E-400E-A2F1-7780BF6E9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2BE2F-C99F-4414-B439-343D69554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77B0A-1525-40C1-9A40-90B0FD02D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F7A28-E03D-497D-BA47-F5D302F70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A49A7-0B39-4C9D-80ED-05B436186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56323-8085-4FAB-910C-EC28F0B04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72A2-B41A-4291-896B-27FA225F1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1795-1AD0-47BB-BC08-37977DDB1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FB98-3FA7-494F-BBB7-5A0F3881D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EA7E-E0B0-4044-97B6-A987C1D34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42AA-1683-492E-92FC-E4F46B6FD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1D65-ED93-44C8-96E1-DD19D1E7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F37F-40B5-40C3-A115-4BBC3BF84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52985-23CD-4D71-982F-C527BA08CCD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8E084-DF0B-4DF0-87B9-6A56C3FD833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elinea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lineation-noun-a chart or diagram; sketch; 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nonyms-account, depiction, picture, rend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igin-1560–70from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atin wor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ēlīneātiōn-(a sketch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enten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elineation of the economic diagram was descriptive and preci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114800" y="3505320"/>
            <a:ext cx="449568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5T00:23:13Z</dcterms:created>
  <dc:creator>greg</dc:creator>
  <dc:description/>
  <dc:language>en-US</dc:language>
  <cp:lastModifiedBy>greg</cp:lastModifiedBy>
  <dcterms:modified xsi:type="dcterms:W3CDTF">2010-01-25T00:34:29Z</dcterms:modified>
  <cp:revision>2</cp:revision>
  <dc:subject/>
  <dc:title>Delineation</dc:title>
</cp:coreProperties>
</file>