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C25-9A19-4E33-9969-F0AC3F87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39A-2176-40B0-80D9-0135A7B6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434-2CAE-4C0A-9A3A-B5A8E6A5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2E1-14F6-4822-AFC5-9AFA21C7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69C-07E5-4C68-895A-A8AC07FD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8C7-E2FA-4030-B89D-22A0E2A6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936-4E7F-42AC-BB40-7D95720C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1E7-FDA7-4613-8553-24E473F8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5E2-C4EE-4795-8929-099DF33C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8B1-6620-448E-991C-570387D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A5D-752D-4D86-94F9-F7182DD6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5E0-B503-4018-89D0-81DC25F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CAC6-7F85-4DD7-98B3-060210F1F7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tin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inate-adj-persisting stubbornly or unwilling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-mulish, obdurate, unyielding, unbending, intract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- comes from the Latin word “obstinatus” (resolute, inflexible, stubbor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nt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bstinate child refrained from exiting the car because of her a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cry-baby-girl-face"/>
          <p:cNvPicPr/>
          <p:nvPr/>
        </p:nvPicPr>
        <p:blipFill>
          <a:blip r:embed="rId2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01:38Z</dcterms:created>
  <dc:creator>greg</dc:creator>
  <dc:description/>
  <dc:language>en-US</dc:language>
  <cp:lastModifiedBy>GACS</cp:lastModifiedBy>
  <dcterms:modified xsi:type="dcterms:W3CDTF">2010-01-22T13:28:33Z</dcterms:modified>
  <cp:revision>2</cp:revision>
  <dc:subject/>
  <dc:title>Obstinate</dc:title>
</cp:coreProperties>
</file>