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69E5-9F83-44E5-9169-E19630298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6663-EB55-4953-8B42-2D84EF09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B307-C51B-4E0C-BC57-1E71FAB86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A3FB-0C51-4030-A3D7-9716008EA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97C1-18C6-4EFF-9194-DF5D72EC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7A8F-67FF-4ABC-BB58-F2D21A78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3BFF-FC7E-4BF4-9609-FE554467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6C10-B111-434F-8FC8-8C85BE76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B72A-1D33-44BB-B596-EBE5AC65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246D-13EE-48AA-9B20-4AE8D2BA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37C7-E2F2-4A2E-9F33-DD96BD5A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71DE-F426-4241-8668-F652C36E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E74E-7FDB-414B-98D1-C9B7B9DEE1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bstina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stinate-adj-persisting stubbornly or unwilling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nonyms-mulish, obdurate, unyielding, unbending, intractab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igin- comes from the Latin word “obstinatus” (resolute, inflexible, stubbor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nten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obstinate child refrained from exiting the car because of her ang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5" descr="cry-baby-girl-face"/>
          <p:cNvPicPr/>
          <p:nvPr/>
        </p:nvPicPr>
        <p:blipFill>
          <a:blip r:embed="rId2"/>
          <a:stretch/>
        </p:blipFill>
        <p:spPr>
          <a:xfrm>
            <a:off x="6286680" y="3048120"/>
            <a:ext cx="2857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1:01:38Z</dcterms:created>
  <dc:creator>greg</dc:creator>
  <dc:description/>
  <dc:language>en-US</dc:language>
  <cp:lastModifiedBy>GACS</cp:lastModifiedBy>
  <dcterms:modified xsi:type="dcterms:W3CDTF">2010-01-22T13:28:33Z</dcterms:modified>
  <cp:revision>2</cp:revision>
  <dc:subject/>
  <dc:title>Obstinate</dc:title>
</cp:coreProperties>
</file>