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ED6-5891-48EE-9025-39107AD4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02B-07F9-467C-84A2-3191367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5D3-EC76-48EA-8EEF-E0EA1838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648-D5E8-4C52-B719-5E2F3A46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E79-A636-4258-A719-287BCC06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3B0-2D40-4F95-9E5E-4730B09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08A-0C5B-4B80-A7B6-22DF347A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AAD-0EC1-4DD4-BA21-DEBD1C6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5B4-5607-40A9-94BF-E55A026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944-B5C8-439A-A1F3-3C0C362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3F1-6762-45F3-AABE-29652E54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CD4-818F-487E-B93C-9569E59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6BA-3EEE-4444-8904-6CCFE85FD9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tin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inate-adj-persisting stubbornly or unwilling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-mulish, obdurate, unyielding, unbending, intract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- comes from the Latin word “obstinatus” (resolute, inflexible, stubbor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nt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bstinate child refrained from exiting the car because of her a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ry-baby-girl-face"/>
          <p:cNvPicPr/>
          <p:nvPr/>
        </p:nvPicPr>
        <p:blipFill>
          <a:blip r:embed="rId2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1:38Z</dcterms:created>
  <dc:creator>greg</dc:creator>
  <dc:description/>
  <dc:language>en-US</dc:language>
  <cp:lastModifiedBy>GACS</cp:lastModifiedBy>
  <dcterms:modified xsi:type="dcterms:W3CDTF">2010-01-22T13:28:33Z</dcterms:modified>
  <cp:revision>2</cp:revision>
  <dc:subject/>
  <dc:title>Obstinate</dc:title>
</cp:coreProperties>
</file>