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8CD-8E43-4D53-911A-E7CD30FE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5D2-BA99-4227-B258-1BD865D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26B-D987-4AC6-B3EF-550886D6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A63-167B-492C-A557-3C0C29FD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9DE-7EC3-475B-B37A-945CA0A1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88A-C0DE-4BF6-BB0C-F2A027D6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A70-8D20-405F-B26B-10B1E7A1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98F-5975-43B7-A755-5DC76B7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48A-4446-4D61-B629-1967370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51C-8C6D-43AA-8969-5D6C4C8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EC6-C67E-4168-A12E-7E44020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004-26A5-4A02-9EB5-CC592BDF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5E2-A5FB-41F7-94E9-01B5F4DF7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tin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inate-adj-persisting stubbornly or unwilling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-mulish, obdurate, unyielding, unbending, intract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- comes from the Latin word “obstinatus” (resolute, inflexible, stubbor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nt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stinate child refrained from exiting the car because of her a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ry-baby-girl-face"/>
          <p:cNvPicPr/>
          <p:nvPr/>
        </p:nvPicPr>
        <p:blipFill>
          <a:blip r:embed="rId2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1:38Z</dcterms:created>
  <dc:creator>greg</dc:creator>
  <dc:description/>
  <dc:language>en-US</dc:language>
  <cp:lastModifiedBy>GACS</cp:lastModifiedBy>
  <dcterms:modified xsi:type="dcterms:W3CDTF">2010-01-22T13:28:33Z</dcterms:modified>
  <cp:revision>2</cp:revision>
  <dc:subject/>
  <dc:title>Obstinate</dc:title>
</cp:coreProperties>
</file>