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0D28-6928-49F7-B53E-B45608A4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A19C-D948-40F3-AA13-B0E0D1F8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0D6C-9AB7-4598-A292-ED2314D0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DF09-D787-47B0-82E0-3D7B7C3A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AD5D-C3C8-49ED-BE1F-D2869337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BB2C-2722-465A-A997-67B82C24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942F-5B95-4164-9B6B-46B91BC0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3A4F-0727-40CA-A22D-1ED081DE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D1EA-F7A8-45F8-83EF-B716A798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6C7B-0A15-4A32-994F-EBE49CB9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E8DC-899B-44E3-BC35-CC45F018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8A75-1F6A-4C62-9B02-B0AE321C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99A9-5C22-45AE-BA31-5781A0F7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C0CD-C19F-4917-9D0D-B16EA129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3C17-7898-4E22-9315-16772C76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8AA3-BF27-40F0-B5E1-566FAD11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1D44-6D17-4C2F-82B5-882508A5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AE94-7E89-4F5B-A075-45D4BB16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BF01-62AC-4B08-942A-741EAAAA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B789-A308-483A-AFA4-E8B5B24B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4087-3B11-4FEB-AA26-A614483A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7882-141F-49AF-8BFF-6D03B8D0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AA06-D017-4B0A-9B09-103AEBED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1AFC-A5D0-4F02-9D7F-DB27F7D3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77DA-C441-4D85-9A1A-2AA94A1EC1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7A87-7011-451C-8D64-EC20FE2809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line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neation-noun-a chart or diagram; sketch; 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-account, depiction, picture, ren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-1560–70fro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tin wor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ēlīneātiōn-(a sketch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nte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lineation of the economic diagram was descriptive and prec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4956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00:23:13Z</dcterms:created>
  <dc:creator>greg</dc:creator>
  <dc:description/>
  <dc:language>en-US</dc:language>
  <cp:lastModifiedBy>greg</cp:lastModifiedBy>
  <dcterms:modified xsi:type="dcterms:W3CDTF">2010-01-25T00:34:29Z</dcterms:modified>
  <cp:revision>2</cp:revision>
  <dc:subject/>
  <dc:title>Delineation</dc:title>
</cp:coreProperties>
</file>