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651D-95D1-49BD-8200-FC7D47AB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D1AD-5B18-439F-91D2-2DCBDC7C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782-20B2-4360-9160-E26A4EF2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8E5-D6E1-4DB9-87AE-80DC97DD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87B3-ABDB-4FEB-B1D0-7966C7DD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7319-53F5-4804-9DD5-A7B81691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AE2C-4F3A-4974-8D5C-C869AF6B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60F2-51DF-4934-A783-E0ED986D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76D4-0597-47E4-8E77-172F1BC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ACB1-13AE-4000-9F4B-997131D3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E027-4A16-4728-B10F-F8FAB679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35B8-6329-4006-A5C3-C9CE21C4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F4A8-6EC5-4B59-B2FB-84F9E21E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546F-E94F-4408-91C3-F80AB085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DFDD-DF01-4608-85C2-B0417661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B093-D750-43EE-A275-A776A72A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5FCA-CBC5-4479-93EE-4574CC72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4B8-0C51-42F7-8C7F-C594AFAE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EB3-CC61-48E4-BD9F-CF8CCEE1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CAC-193F-496B-BA04-0F6DA4AC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966-55CE-4C5A-AECB-59130135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D85-7890-430D-BFDE-2DA9E906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1F1-F319-4851-A6D4-9EFAB28E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151-B943-47BD-BB14-2D1F18D8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AE46-2318-4C6A-A2A7-6FA5E75EF1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FB2E-E57E-49CC-8AE2-AA6FEBCACD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line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neation-noun-a chart or diagram; sketch; 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-account, depiction, picture, re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-1560–70f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tin wor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ēlīneātiōn-(a sketch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nt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lineation of the economic diagram was descriptive and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495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0:23:13Z</dcterms:created>
  <dc:creator>greg</dc:creator>
  <dc:description/>
  <dc:language>en-US</dc:language>
  <cp:lastModifiedBy>greg</cp:lastModifiedBy>
  <dcterms:modified xsi:type="dcterms:W3CDTF">2010-01-25T00:34:29Z</dcterms:modified>
  <cp:revision>2</cp:revision>
  <dc:subject/>
  <dc:title>Delineation</dc:title>
</cp:coreProperties>
</file>