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35B-0BFC-4ADC-A36E-3B9AB713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F59-183F-4BE6-AC22-157C9179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6277-417A-4381-A828-16D1EB53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44B7-5E2D-4F21-ADFB-8328D86F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A1B9-3C2D-47B7-8E32-97CFACAF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C739-1FF8-4185-A95F-9A54E148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2E1E-DB81-4B74-B372-7AF7ECCC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E67B-C4EF-474E-A7C9-8A668783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E188-1B1F-48AE-A10F-3921C5F9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6F83-C209-4018-BCB8-EB99F35D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7147-9673-4B43-B12E-DFFC710F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F82F-5AEF-41C6-AB66-568D2A9C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50B2-8B01-48DC-BDD2-C4234051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6C49-AE01-4176-8F5E-6A3FDA61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F1E9-DE6E-4957-9004-A817A64C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2E15-5BCA-4577-9B79-41DCEAD5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0D4D-DF64-41F2-90E0-70A8E36F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DCA-4ACF-496E-9607-AEBA8683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F62-1713-458E-B79E-91288E91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7AEB-DA8C-4A42-895B-409069CB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3BDE-4D1B-47EA-9D9D-9FCC4B0E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615-BA35-426A-BAC0-407B6DF0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80BA-42B0-4E52-8641-24CFF465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316C-9E0D-442B-9CBF-F76A24E5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7E12-B138-448D-9813-C37770BDE8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79B9-6350-4370-A26D-157AFC15EC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line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neation-noun-a chart or diagram; sketch; 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-account, depiction, picture, re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-1560–70fro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tin wor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ēlīneātiōn-(a sketch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nt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lineation of the economic diagram was descriptive and prec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495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0:23:13Z</dcterms:created>
  <dc:creator>greg</dc:creator>
  <dc:description/>
  <dc:language>en-US</dc:language>
  <cp:lastModifiedBy>greg</cp:lastModifiedBy>
  <dcterms:modified xsi:type="dcterms:W3CDTF">2010-01-25T00:34:29Z</dcterms:modified>
  <cp:revision>2</cp:revision>
  <dc:subject/>
  <dc:title>Delineation</dc:title>
</cp:coreProperties>
</file>