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1DA64-6D5F-4AA1-951C-8C130568D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0C980-778A-4FF9-A45F-6AC6998E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073D9-83A7-47A8-8B61-673416F15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2AF12-5567-4F8C-AB43-6266332F1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A43DC-B456-4C1E-BA7D-B3483E745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864BD-F738-44AE-89CA-DA91BE94D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4E49D-4718-4F57-A7B8-3F04BE500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9719B-56D2-4A8E-A00C-A98594122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9E5AC-ACE9-4D68-9DDD-0A3573D9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9E46-0AA8-4753-97B8-97F1445B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318AA-07F2-42B2-B23A-30212F157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4ABD4-F3C3-48DB-AC17-F2293812D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CD5F-819A-45FB-B7E2-F30492BC28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parknotes.com/poetry/keats/section4.rhtml" TargetMode="External"/><Relationship Id="rId2" Type="http://schemas.openxmlformats.org/officeDocument/2006/relationships/hyperlink" Target="http://dictionary.reference.com/browse/ur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 and Stanza 1 of “Ode on a Grecian Ur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iott (Too Tall) L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5-182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dad died at age 8 and mom died at 14 of TB and was then taken out of school to be a surgeon appren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writing poetry at age 1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7, Keats qualified to be a surgeon but quit so he could write poetry, which did not gain him instant suc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ts cont’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8, Keats began having health problems (TB), which killed his brother that sam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his brother died, he moved in with his friend and got engaged to the neighbor, Fanny Brawne, but he died in Rome before they could get marr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de on a Grecian Urn” stanza 1</a:t>
            </a:r>
            <a:endParaRPr b="0" lang="en-US" sz="4000" spc="-1" strike="noStrike">
              <a:solidFill>
                <a:srgbClr val="000000"/>
              </a:solidFill>
              <a:latin typeface="Arial"/>
            </a:endParaRPr>
          </a:p>
        </p:txBody>
      </p:sp>
      <p:sp>
        <p:nvSpPr>
          <p:cNvPr id="48" name="PlaceHolder 2"/>
          <p:cNvSpPr>
            <a:spLocks noGrp="1"/>
          </p:cNvSpPr>
          <p:nvPr>
            <p:ph/>
          </p:nvPr>
        </p:nvSpPr>
        <p:spPr>
          <a:xfrm>
            <a:off x="152280" y="1371240"/>
            <a:ext cx="868680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still unravish’d bride of quietnes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forster-child of silence and slow ti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lvian historian, who canst thus expr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owery tale more sweetly than our rhy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af-fring’d legend haunts about thy sh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eities or mortals, or of bo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empe or the dales of Arcady?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en or gods are these? What maidens loa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d pursuit? What struggle to esc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ipes and timbrels? What wild ecstas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a:t>
            </a:r>
            <a:endParaRPr b="0" lang="en-US" sz="4000" spc="-1" strike="noStrike">
              <a:solidFill>
                <a:srgbClr val="000000"/>
              </a:solidFill>
              <a:latin typeface="Arial"/>
            </a:endParaRPr>
          </a:p>
        </p:txBody>
      </p:sp>
      <p:sp>
        <p:nvSpPr>
          <p:cNvPr id="50"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 is talking to a urn, which is a vase that holds ashes of cremated dead people. He refers to this urn as the “unravish’d bride of quietness” in line one, the “foster-child of silence and slow time” in line two, and as a “Sylvan historian” in line three. Sylvan in line 3 pertains to trees or woods. He is saying that, like a historian, the vase has a story to tell in line four when he says, “A flowery tale more sweetly than our rhyme.” In lines 5-7, he asks the vase what kind of “legend” it is trying to tell depicted by its shape. In line 7, the reference to Tempe and Arcady refers to two places in Greece, Tempe being a beautiful valley and Arcady being a mountainous region. In lines 8-10, he addresses the men on the vase, asking “what men or gods are these?” He sees they are chasing women in line 8, and asks in line 9 “What mad pursuit? What struggle to escape.” He is saying why are these men chasing these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parknotes.com/poetry/keats/section4.rhtml</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dictionary.reference.com/browse/urn</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9:45:18Z</dcterms:created>
  <dc:creator>ginny</dc:creator>
  <dc:description/>
  <dc:language>en-US</dc:language>
  <cp:lastModifiedBy>ginny</cp:lastModifiedBy>
  <dcterms:modified xsi:type="dcterms:W3CDTF">2010-04-19T02:33:04Z</dcterms:modified>
  <cp:revision>11</cp:revision>
  <dc:subject/>
  <dc:title>John Keats and Stanza 1 of “Ode on a Grecian Urn”</dc:title>
</cp:coreProperties>
</file>