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314-0550-4B05-B05A-E15354B3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B1C-CD7B-4475-BC5B-46992616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F0D-1DCC-4AA9-9F02-AD67A8CD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541-51DC-4AF1-9731-489AB3C6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0F9-1D48-449E-9FD1-EEAA25EA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5C0-C6ED-4F32-B282-4ED0B838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A95-F832-402F-AB91-33B61AC2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D6A-F6EC-4AEC-83CA-5223495F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67D-F91A-4513-A8D4-C32DDA1E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1D2-DD2D-40FE-B5C4-3A524778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056-34C2-49C0-B6C7-7C519FC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B83-14A4-46DE-A44E-B9750D9B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B8C8-8239-48C4-B697-87C8FD4C5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391520" cy="415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380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gg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562720"/>
            <a:ext cx="81532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gard- adj. worn or exha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 was so haggard after a day at work he skipped lunch to take a nap on his lap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2:33:58Z</dcterms:created>
  <dc:creator>Toni</dc:creator>
  <dc:description/>
  <dc:language>en-US</dc:language>
  <cp:lastModifiedBy>Toni</cp:lastModifiedBy>
  <dcterms:modified xsi:type="dcterms:W3CDTF">2010-01-29T02:34:07Z</dcterms:modified>
  <cp:revision>1</cp:revision>
  <dc:subject/>
  <dc:title>Slide 1</dc:title>
</cp:coreProperties>
</file>