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F49-6F2E-4603-944C-9991C821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325-7CC6-437F-9935-91C7AF6F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B72-C8D6-4141-B25B-E450571D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ABE-CE94-4A53-9801-9FA234A0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061-1C97-48B8-A2BD-04F23524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FFC-332A-46C6-913A-BEE52F49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F56-6E22-42E6-BF17-67565BFD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113-9DD3-4A0E-9AFD-6839FA62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137-F869-4DC7-9B16-B81CDA1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DC6-4E4F-4B7F-A69E-A120D73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19A-F2EE-4A04-B7AC-E8F7DDC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995-C607-4500-9888-E03AD82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4058-C99F-45C3-AAE7-50C162682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91520" cy="415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380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gg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62720"/>
            <a:ext cx="81532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gard- adj. worn or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 was so haggard after a day at work he skipped lunch to take a nap on his lap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2:33:58Z</dcterms:created>
  <dc:creator>Toni</dc:creator>
  <dc:description/>
  <dc:language>en-US</dc:language>
  <cp:lastModifiedBy>Toni</cp:lastModifiedBy>
  <dcterms:modified xsi:type="dcterms:W3CDTF">2010-01-29T02:34:07Z</dcterms:modified>
  <cp:revision>1</cp:revision>
  <dc:subject/>
  <dc:title>Slide 1</dc:title>
</cp:coreProperties>
</file>