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013-ACA3-43DD-BC20-EE3196D8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99D-9B21-4B9A-96D5-A317140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3FE-FD46-40D1-AA80-A1FCA4F3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281-AD8C-4231-B12A-A1C336BB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CB8-8F78-45FD-9D48-1C3658F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1F1-D4D1-4D51-9961-8A77968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A48-FA3E-41BC-B78E-00236CEF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1A7-20B8-4643-902D-157F0F71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86E-3E32-453D-8B6D-B1640F68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D63-4C48-4C3C-8810-44CFB5BA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E5F-F797-4825-A13F-E5BD0F64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31E-EF5E-493D-8D7A-AB0FDEB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9BB7-BC63-4E51-B742-FA426B9F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91520" cy="415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380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gg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562720"/>
            <a:ext cx="81532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gard- adj. worn or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 was so haggard after a day at work he skipped lunch to take a nap on his lap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2:33:58Z</dcterms:created>
  <dc:creator>Toni</dc:creator>
  <dc:description/>
  <dc:language>en-US</dc:language>
  <cp:lastModifiedBy>Toni</cp:lastModifiedBy>
  <dcterms:modified xsi:type="dcterms:W3CDTF">2010-01-29T02:34:07Z</dcterms:modified>
  <cp:revision>1</cp:revision>
  <dc:subject/>
  <dc:title>Slide 1</dc:title>
</cp:coreProperties>
</file>