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F739-CB4D-4C5C-9E8D-BF32221E2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0F54-3FEB-415A-8AA9-9AB50A358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F9B8-51B8-407A-BB02-5104D6E31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8214-FF3E-41D1-85D0-93AE433D1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5524-696E-4562-AC6C-6F12C0808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E7C5-29D7-460E-8550-49F729BB2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C379-A8FC-4C8F-9034-494E952AF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A6D7-B65F-4503-B90A-2079D494F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37D5-B8A8-4EA0-9D13-A75A4806E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5FB3-3B7D-4D44-973B-CAB9FB78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A13B-DAAC-45F0-BA8F-C7A758C1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04A2-35D5-4122-B997-2A45D06D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ECB4B-8C06-4A59-B362-4869C57EF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7391520" cy="4156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066680" y="380880"/>
            <a:ext cx="670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0"/>
            <a:ext cx="701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aggar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5562720"/>
            <a:ext cx="8153280" cy="11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ggard- adj. worn or exhaus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n was so haggard after a day at work he skipped lunch to take a nap on his lapto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02:33:58Z</dcterms:created>
  <dc:creator>Toni</dc:creator>
  <dc:description/>
  <dc:language>en-US</dc:language>
  <cp:lastModifiedBy>Toni</cp:lastModifiedBy>
  <dcterms:modified xsi:type="dcterms:W3CDTF">2010-01-29T02:34:07Z</dcterms:modified>
  <cp:revision>1</cp:revision>
  <dc:subject/>
  <dc:title>Slide 1</dc:title>
</cp:coreProperties>
</file>