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6BF-7AF2-4262-8147-939967B3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C17-0DD0-41BF-8A78-15E6CF76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54A-0ACA-4BD1-A754-BDAE34D4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D43B-B810-45C2-96F0-A0447C14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1F8-14CD-4465-B85E-CFB380B0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E4E-A4AD-4737-B163-FD4DD996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E43-5EAF-4D7C-B3FC-CB4A6CCD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6BE-717B-4428-BFE1-BB5A9EAB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350-9F41-4FAB-AB95-BD743263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2E4-96E8-437A-9C44-902EA34D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771-E7A5-49D0-8B5B-A96BC187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3BB-5CAB-440D-9807-D9E8518E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2D7E-BA52-45B1-BFBA-6DF126F4E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b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37720" y="60948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merican Typewriter Light"/>
              </a:rPr>
              <a:t> </a:t>
            </a:r>
            <a:r>
              <a:rPr b="1" lang="en-US" sz="4100" spc="-1" strike="noStrike">
                <a:solidFill>
                  <a:srgbClr val="ffffff"/>
                </a:solidFill>
                <a:latin typeface="American Typewriter Light"/>
              </a:rPr>
              <a:t>impel</a:t>
            </a:r>
            <a:r>
              <a:rPr b="0" lang="en-US" sz="3200" spc="-1" strike="noStrike">
                <a:solidFill>
                  <a:srgbClr val="ffffff"/>
                </a:solidFill>
                <a:latin typeface="American Typewriter Ligh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merican Typewriter Light"/>
              </a:rPr>
              <a:t>(ver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ank Gothic"/>
              </a:rPr>
              <a:t>from the Latin word “impellere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ank Gothic"/>
              </a:rPr>
              <a:t>“</a:t>
            </a:r>
            <a:r>
              <a:rPr b="0" lang="en-US" sz="1300" spc="-1" strike="noStrike">
                <a:solidFill>
                  <a:srgbClr val="ffffff"/>
                </a:solidFill>
                <a:latin typeface="Bank Gothic"/>
              </a:rPr>
              <a:t>in” = against     “pellere” = to dr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merican Typewriter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merican Typewriter Light"/>
              </a:rPr>
              <a:t>to drive or urge forward; to press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merican Typewriter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merican Typewriter Light"/>
              </a:rPr>
              <a:t>to compel, motivate, or ur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495680"/>
            <a:ext cx="7543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merican Typewriter Ligh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merican Typewriter Ligh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merican Typewriter Ligh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 Light"/>
              </a:rPr>
              <a:t>His persuasive speech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impelled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 Light"/>
              </a:rPr>
              <a:t> many of his colleagues to make a do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86400" y="1066680"/>
            <a:ext cx="2743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21:04:38Z</dcterms:created>
  <dc:creator>Christine/Wilson</dc:creator>
  <dc:description/>
  <dc:language>en-US</dc:language>
  <cp:lastModifiedBy>Christine/Wilson</cp:lastModifiedBy>
  <dcterms:modified xsi:type="dcterms:W3CDTF">2010-01-24T21:36:12Z</dcterms:modified>
  <cp:revision>1</cp:revision>
  <dc:subject/>
  <dc:title>PowerPoint Presentation</dc:title>
</cp:coreProperties>
</file>