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576-EDDB-4BFE-A93B-12B1C0A0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076-E659-46D4-B2EB-A4C4065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E14-7B69-4C6D-A9B3-3901EDD3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076-56B4-4862-8B0E-A58EDD00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E7A-5ACA-4550-B104-32E19420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96A-1AB3-422F-B283-1591808D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B4A-F7D4-4A46-9EBD-1078A907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BAB-27C0-4FCC-8B7B-F6F957AE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2A6-B0EE-4603-9F5D-C7C392DA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5F7-DDDD-45DA-8A98-282F5D49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45B-98B5-46B4-9322-3577D96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190-D09C-4E05-A6A5-6AE7171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4B64-3DB3-46CC-A86E-AEE503A0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b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merican Typewriter Light"/>
              </a:rPr>
              <a:t>impel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merican Typewriter Light"/>
              </a:rPr>
              <a:t>(ver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from the Latin word “impellere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“</a:t>
            </a: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in” = against     “pellere” = to dr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merican Typewriter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merican Typewriter Light"/>
              </a:rPr>
              <a:t>to drive or urge forward; to press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merican Typewriter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merican Typewriter Light"/>
              </a:rPr>
              <a:t>to compel, motivate, or ur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495680"/>
            <a:ext cx="7543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Light"/>
              </a:rPr>
              <a:t>His persuasive speech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impelled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Light"/>
              </a:rPr>
              <a:t> many of his colleagues to make a do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1:04:38Z</dcterms:created>
  <dc:creator>Christine/Wilson</dc:creator>
  <dc:description/>
  <dc:language>en-US</dc:language>
  <cp:lastModifiedBy>Christine/Wilson</cp:lastModifiedBy>
  <dcterms:modified xsi:type="dcterms:W3CDTF">2010-01-24T21:36:12Z</dcterms:modified>
  <cp:revision>1</cp:revision>
  <dc:subject/>
  <dc:title>PowerPoint Presentation</dc:title>
</cp:coreProperties>
</file>