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C34-301F-4832-9D7D-27CDB993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5C9-8B38-4750-9127-BE24148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558-45D7-4A98-8B78-6485A5C5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061-2E07-422E-8439-125562E7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A5F-87AC-4280-ACD1-17E780F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DC6-214C-488A-8FB3-8F8BF114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920-B654-415C-B490-5171C892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A34-CB0F-4EDA-8733-F61DF97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96C-0658-4162-A28E-9EF8E0BD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8A2-A568-455A-93D9-9134BAC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B98-F528-4C2E-AE59-611A8A7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E42-7F11-4077-8872-2AB5DB44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369C-9011-471E-B1A1-CC94C938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b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merican Typewriter Light"/>
              </a:rPr>
              <a:t>impel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merican Typewriter Light"/>
              </a:rPr>
              <a:t>(ver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from the Latin word “impellere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Bank Gothic"/>
              </a:rPr>
              <a:t>in” = against     “pellere” = to dr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drive or urge forward; to press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merican Typewriter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merican Typewriter Light"/>
              </a:rPr>
              <a:t>to compel, motivate, or u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erican Typewriter Ligh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His persuasive speech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impelled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Light"/>
              </a:rPr>
              <a:t> many of his colleagues to make a do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1:04:38Z</dcterms:created>
  <dc:creator>Christine/Wilson</dc:creator>
  <dc:description/>
  <dc:language>en-US</dc:language>
  <cp:lastModifiedBy>Christine/Wilson</cp:lastModifiedBy>
  <dcterms:modified xsi:type="dcterms:W3CDTF">2010-01-24T21:36:12Z</dcterms:modified>
  <cp:revision>1</cp:revision>
  <dc:subject/>
  <dc:title>PowerPoint Presentation</dc:title>
</cp:coreProperties>
</file>