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43-FF7B-474E-B052-7DA8364A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F9-5CE4-47D8-B491-83345595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201-F2C9-40EE-9D3F-C1B2BACE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A12-CD5C-4F41-A37A-20C8A92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D7D-5E63-4906-B6C8-7A6338F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537-4411-450C-B275-45539CF6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BAE-DA95-4144-837B-AB3CFF8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66D-F777-4FF9-B036-7AFD85F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D37-27A8-40A1-B95D-41751E0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C92-9E7D-44D3-A5C4-C1535B6C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8C0-AA34-4D27-B762-73F12BF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B88-9DB3-469D-9064-718415D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DD10-02D0-4AAE-88EC-694C9134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b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impel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merican Typewriter Light"/>
              </a:rPr>
              <a:t>(ver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from the Latin word “impellere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in” = against     “pellere” = to dr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drive or urge forward; to press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compel, motivate, or u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His persuasive speech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impelled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 many of his colleagues to make a do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1:04:38Z</dcterms:created>
  <dc:creator>Christine/Wilson</dc:creator>
  <dc:description/>
  <dc:language>en-US</dc:language>
  <cp:lastModifiedBy>Christine/Wilson</cp:lastModifiedBy>
  <dcterms:modified xsi:type="dcterms:W3CDTF">2010-01-24T21:36:12Z</dcterms:modified>
  <cp:revision>1</cp:revision>
  <dc:subject/>
  <dc:title>PowerPoint Presentation</dc:title>
</cp:coreProperties>
</file>