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2D6-8544-4788-B201-981E70AA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9B1-EAA4-45B6-BC28-019B60E9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688-C872-4B30-9CE7-EAEED7D9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6626-3B4D-4904-B7BC-2B00A67D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DC8-49E6-4A1D-B969-8987ADFF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C18-6C66-4308-A95C-FDA413BE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E43D-54C1-46E5-B7DE-4628431E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ADB6-B63B-4060-AE93-C41539A4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684-24F3-491D-BCD5-AA68B73A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2FC-AB07-4352-A7E8-910BB3C2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19E7-B5C1-4C6B-BC74-C1F34323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0A0-FEF2-4E49-8BFD-8A825F55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182F-8CC4-403F-9087-570E967C6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24760" cy="4809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546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ngruous-adj.-out of place; inappropriate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roots: in- not, congruere– to come together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weird looking dinosaur was so incongruous, the other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nosaurs tried to eat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-15228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congru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06:08Z</dcterms:created>
  <dc:creator>Harrison Allen Payne</dc:creator>
  <dc:description/>
  <dc:language>en-US</dc:language>
  <cp:lastModifiedBy>Toni</cp:lastModifiedBy>
  <dcterms:modified xsi:type="dcterms:W3CDTF">2010-01-29T02:33:37Z</dcterms:modified>
  <cp:revision>4</cp:revision>
  <dc:subject/>
  <dc:title>Slide 1</dc:title>
</cp:coreProperties>
</file>