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B03-57B4-4AD1-B792-2260449F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0B8-9D09-4B9F-9D7C-BCAB10C5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32D-3B0D-435B-86D2-5064C85C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54B-4450-4245-95AC-192246F0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444-0594-4312-9ADA-4E0ED61A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F2F-E510-42B5-8687-C41AB7A3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DD2-30D1-4464-BEE7-5B5465E6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55B-9571-4C38-8397-FB72565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042-71D4-48F5-B392-6D0BC97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BC5-2E19-4637-9542-49413AD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320-DBAA-419C-B771-E79E799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DE5-F110-486E-BD98-F62CBD2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230-7192-498E-91D5-278746B2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2476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46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ngruous-adj.-out of place; inappropriate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roots: in- not, congruere– to come together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weird looking dinosaur was so incongruous, the other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osaurs tried to ea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-15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ongru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06:08Z</dcterms:created>
  <dc:creator>Harrison Allen Payne</dc:creator>
  <dc:description/>
  <dc:language>en-US</dc:language>
  <cp:lastModifiedBy>Toni</cp:lastModifiedBy>
  <dcterms:modified xsi:type="dcterms:W3CDTF">2010-01-29T02:33:37Z</dcterms:modified>
  <cp:revision>4</cp:revision>
  <dc:subject/>
  <dc:title>Slide 1</dc:title>
</cp:coreProperties>
</file>