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BDC-6C4F-4D79-A3CF-EDF1A4DC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2EE-416C-4452-97B2-21AB56B8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D91-1003-4095-BD9B-3B255A8A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E1A-CBC7-4F82-9AD2-2C99ABEB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8B2-5D2B-4E21-8B62-2A6DADF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B30-80D6-44BE-BF28-788FB643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DB4-FB90-4482-BEC8-5A337CC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B02-0A47-4125-A71D-27DD920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DB6-27E9-47DB-9809-F9BB658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3F2-5E2C-49C8-8F2B-BF50351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C21-01F9-4CB0-853C-8A5B0D9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D70-E187-4C22-B3BD-4E7D89D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EAE-E141-4015-9AB5-EFE9ECC8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46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gruous-adj.-out of place; inappropriate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roots: in- not, congruere– to come together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weird looking dinosaur was so incongruous, the other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osaurs tried to 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-15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ongr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06:08Z</dcterms:created>
  <dc:creator>Harrison Allen Payne</dc:creator>
  <dc:description/>
  <dc:language>en-US</dc:language>
  <cp:lastModifiedBy>Toni</cp:lastModifiedBy>
  <dcterms:modified xsi:type="dcterms:W3CDTF">2010-01-29T02:33:37Z</dcterms:modified>
  <cp:revision>4</cp:revision>
  <dc:subject/>
  <dc:title>Slide 1</dc:title>
</cp:coreProperties>
</file>