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9B4-9578-4644-8DA6-3ADD1819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034-4B97-4CB1-A2E0-4842536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DC2-A32B-46E5-823B-E365F028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030-ADD9-426B-B67D-AF771585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2E1-21EC-464C-A580-C48E95F2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018-358D-4512-9960-BAC42D8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928-0D86-4C2E-8F75-C57D3F29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36E-DA99-4648-A2AE-709CA9E4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222-EE3B-4676-9354-3108E2F6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7DE-746A-427E-978F-727F9EF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BCB-2DF1-4965-8F82-2EFC0D8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B14-D502-44D3-AE3C-4C7B2DC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72F-E7AE-4495-937A-CD43B374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2476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46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ngruous-adj.-out of place; inappropriate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roots: in- not, congruere– to come together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weird looking dinosaur was so incongruous, the other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osaurs tried to ea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-15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ongru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06:08Z</dcterms:created>
  <dc:creator>Harrison Allen Payne</dc:creator>
  <dc:description/>
  <dc:language>en-US</dc:language>
  <cp:lastModifiedBy>Toni</cp:lastModifiedBy>
  <dcterms:modified xsi:type="dcterms:W3CDTF">2010-01-29T02:33:37Z</dcterms:modified>
  <cp:revision>4</cp:revision>
  <dc:subject/>
  <dc:title>Slide 1</dc:title>
</cp:coreProperties>
</file>