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A0F-893E-4B8A-894D-A4B49ABF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9DC-3C4C-4D8D-B78F-E4A7939B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AF6-F8F4-452A-A8E5-D3CA382D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4EB-9283-415E-B423-5913B9E2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074-72A0-456E-900F-748DCB25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A46-E681-4125-8719-5902678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AEE-4022-411F-BCDC-1C9B4EEA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FCF-078B-4888-8929-F0DA1AC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86B-0B10-42CA-A47B-2B77E5E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14F-B57A-4656-9199-D501B6A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95F-10F1-491F-8E43-BCFD1D2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4E1-8A70-4519-A8C5-22B05EE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C5D1-5823-4CB3-AD61-5E5A3B43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fjfu.com/images/medieval~bridalfeas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rklair.dk/Medieval/Images/tablefeast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immy Stahlke and Benn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9144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Medieval Ti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213372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Food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sts and Banquets were held during important times of the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the Wealthy held these cele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ngth of the celebrations varied upon the importance of the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533520"/>
            <a:ext cx="76197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anquet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62840" y="5105520"/>
            <a:ext cx="319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fjfu.com/images/medieval~bridalfeas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895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533520"/>
            <a:ext cx="7619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uring The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was usually a three coarse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special seating arrangement at the t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many table manners that were supposed to be known before you went to the fe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080" y="5334120"/>
            <a:ext cx="309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rklair.dk/Medieval/Images/tablefeast.j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49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ts were started with the signal from loud trumpets and fanf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l began with light food. (Appetiz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was m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ended with sweets and w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during a feast gifts were given and entertainment were hel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57200"/>
            <a:ext cx="7772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 Typical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4191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b/b8/Medieval_wine_conservatio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1960" y="6477120"/>
            <a:ext cx="282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istoryforkids.org/learn/food/pictures/baking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23353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29240" y="3962520"/>
            <a:ext cx="27147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46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575. (Robert Dudley’s feast for Queen Elizabe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common for people to try to impress others by having these large fea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5335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ll Known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0480" y="6172200"/>
            <a:ext cx="412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udorplace.com.ar/images/Dudley,Robert(ELeicester)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989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762120"/>
            <a:ext cx="82296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0:36:30Z</dcterms:created>
  <dc:creator>Sandra Stahlke</dc:creator>
  <dc:description/>
  <dc:language>en-US</dc:language>
  <cp:lastModifiedBy>Donna Love</cp:lastModifiedBy>
  <dcterms:modified xsi:type="dcterms:W3CDTF">2008-11-06T19:54:43Z</dcterms:modified>
  <cp:revision>11</cp:revision>
  <dc:subject/>
  <dc:title>PowerPoint Presentation</dc:title>
</cp:coreProperties>
</file>