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306-A987-4924-9F10-EA310B93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D49-64B9-4613-9B7E-FDCD2D9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25B-683F-412F-886B-7473DA4A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135-B716-4DED-A177-2B4AAFF2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8D9-C008-489A-8728-72CC098B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956-EBD0-435D-B10B-5C6EB60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D33-4B8F-4225-8B41-AEC2C522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1F5-DAF2-4B92-9FA4-61BB254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59D-624D-481E-B11B-5B51DBCE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4B3-8AC5-4E9C-8620-5A6AB03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D5D-37B5-4882-A060-4DB71F0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5E-3F0D-4EF5-9AE7-F87F56A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B7C-1F08-492A-89C6-8D99132A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fjfu.com/images/medieval~bridalfea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klair.dk/Medieval/Images/tablefeast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immy Stahlke and Benn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9144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Medieval Ti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213372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Food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sts and Banquets were held during important times of the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Wealthy held these cele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of the celebrations varied upon the importance of the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533520"/>
            <a:ext cx="76197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anquet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62840" y="5105520"/>
            <a:ext cx="319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fjfu.com/images/medieval~bridalfeas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533520"/>
            <a:ext cx="7619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ring The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was usually a three coar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special seating arrangement at the t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table manners that were supposed to be known before you went to the fe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080" y="5334120"/>
            <a:ext cx="309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klair.dk/Medieval/Images/tablefeast.j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49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ts were started with the signal from loud trumpets and fanf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l began with light food. (Appetiz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was m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nded with sweets and w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during a feast gifts were given and entertainment were he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57200"/>
            <a:ext cx="7772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 Typical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4191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8/Medieval_wine_conservati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1960" y="6477120"/>
            <a:ext cx="282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forkids.org/learn/food/pictures/bakin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2335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9240" y="3962520"/>
            <a:ext cx="27147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4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575. (Robert Dudley’s feast for Queen Elizabe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common for people to try to impress others by having these large fea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5335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ll Known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0480" y="6172200"/>
            <a:ext cx="412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udorplace.com.ar/images/Dudley,Robert(ELeicester)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9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762120"/>
            <a:ext cx="82296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36:30Z</dcterms:created>
  <dc:creator>Sandra Stahlke</dc:creator>
  <dc:description/>
  <dc:language>en-US</dc:language>
  <cp:lastModifiedBy>Donna Love</cp:lastModifiedBy>
  <dcterms:modified xsi:type="dcterms:W3CDTF">2008-11-06T19:54:43Z</dcterms:modified>
  <cp:revision>11</cp:revision>
  <dc:subject/>
  <dc:title>PowerPoint Presentation</dc:title>
</cp:coreProperties>
</file>