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F36-9F89-4712-A6FD-7E179503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E42-6615-4E6B-AFCF-3EAE14FC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C76-AD51-43D8-A20D-6824DB89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BC7-72CA-4440-BEDB-AF7087E4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307-9944-4118-AA20-39365598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AD4-461D-4C53-84CE-5CD0851E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7FF-353C-4F6B-B17E-9D08BA46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7BD-781F-4950-958B-E7DD0BD8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951-079F-48A2-9FF6-79D9AB2D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0D8-07F7-47A7-9AD5-3B4185E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020-94AE-419F-B65A-F6C4348F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9F2-9A82-4A68-B8A7-A65C099A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D47F-7E4F-43B0-A274-8B132589E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fjfu.com/images/medieval~bridalfeas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arklair.dk/Medieval/Images/tablefeast.j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immy Stahlke and Benn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9144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Medieval Tim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0" y="213372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Foods and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sts and Banquets were held during important times of the y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the Wealthy held these celeb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ngth of the celebrations varied upon the importance of the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533520"/>
            <a:ext cx="76197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Banquets and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62840" y="5105520"/>
            <a:ext cx="319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rfjfu.com/images/medieval~bridalfeas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8954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533520"/>
            <a:ext cx="7619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uring The Fe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was usually a three coarse 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special seating arrangement at the t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many table manners that were supposed to be known before you went to the fe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080" y="5334120"/>
            <a:ext cx="309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arklair.dk/Medieval/Images/tablefeast.j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495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3505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sts were started with the signal from loud trumpets and fanf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l began with light food. (Appetiz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was m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ended with sweets and w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during a feast gifts were given and entertainment were hel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457200"/>
            <a:ext cx="7772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 Typical Fe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41911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b/b8/Medieval_wine_conservation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1960" y="6477120"/>
            <a:ext cx="282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historyforkids.org/learn/food/pictures/baking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23353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29240" y="3962520"/>
            <a:ext cx="27147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3581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in 146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in 1575. (Robert Dudley’s feast for Queen Elizabe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common for people to try to impress others by having these large feas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5335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Well Known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0480" y="6172200"/>
            <a:ext cx="412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tudorplace.com.ar/images/Dudley,Robert(ELeicester)0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29890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762120"/>
            <a:ext cx="82296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0:36:30Z</dcterms:created>
  <dc:creator>Sandra Stahlke</dc:creator>
  <dc:description/>
  <dc:language>en-US</dc:language>
  <cp:lastModifiedBy>Donna Love</cp:lastModifiedBy>
  <dcterms:modified xsi:type="dcterms:W3CDTF">2008-11-06T19:54:43Z</dcterms:modified>
  <cp:revision>11</cp:revision>
  <dc:subject/>
  <dc:title>PowerPoint Presentation</dc:title>
</cp:coreProperties>
</file>