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C95-C96B-4A2B-8FBE-36D43599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947-1338-47A5-A24A-B2CBCA82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A16-7ECA-4AED-BA03-686E077C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3E9-6F52-46DB-ACF2-4334685A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C0D-92AA-40BB-AD93-EE992AC6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4A8-97A7-49CA-9266-B0EC6138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9CB-EB71-408C-90C5-53D239AF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BCD-82FA-42C4-911E-9790C01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C53-95CE-443D-8DC4-A110E80A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296-E36F-45E4-B90C-DDF6618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E1D-4030-46A9-B3E4-EF272214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E25-22DA-4A90-9918-2790DE50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EF41-DD69-4316-BD5D-A0B9E43C6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fjfu.com/images/medieval~bridalfeas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arklair.dk/Medieval/Images/tablefeast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immy Stahlke and Benn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9144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Medieval Tim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213372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Foods and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sts and Banquets were held during important times of the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the Wealthy held these celeb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ngth of the celebrations varied upon the importance of the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533520"/>
            <a:ext cx="76197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anquets and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62840" y="5105520"/>
            <a:ext cx="319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fjfu.com/images/medieval~bridalfeas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8954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533520"/>
            <a:ext cx="7619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uring The Fe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was usually a three coarse 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special seating arrangement at the t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many table manners that were supposed to be known before you went to the fe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080" y="5334120"/>
            <a:ext cx="309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rklair.dk/Medieval/Images/tablefeast.j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495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50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sts were started with the signal from loud trumpets and fanf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l began with light food. (Appetiz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was m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ended with sweets and w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during a feast gifts were given and entertainment were hel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457200"/>
            <a:ext cx="7772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 Typical Fea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4191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b/b8/Medieval_wine_conservation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1960" y="6477120"/>
            <a:ext cx="282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historyforkids.org/learn/food/pictures/baking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23353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29240" y="3962520"/>
            <a:ext cx="27147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3581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in 146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ast in 1575. (Robert Dudley’s feast for Queen Elizabe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common for people to try to impress others by having these large feas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5335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Well Known Fe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0480" y="6172200"/>
            <a:ext cx="412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tudorplace.com.ar/images/Dudley,Robert(ELeicester)0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29890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762120"/>
            <a:ext cx="82296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0:36:30Z</dcterms:created>
  <dc:creator>Sandra Stahlke</dc:creator>
  <dc:description/>
  <dc:language>en-US</dc:language>
  <cp:lastModifiedBy>Donna Love</cp:lastModifiedBy>
  <dcterms:modified xsi:type="dcterms:W3CDTF">2008-11-06T19:54:43Z</dcterms:modified>
  <cp:revision>11</cp:revision>
  <dc:subject/>
  <dc:title>PowerPoint Presentation</dc:title>
</cp:coreProperties>
</file>