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E459-DC6E-4EAA-BFCA-E96F3B96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B9A-2436-472C-A63D-06A6F853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7B0-3C22-4801-B414-2A102AF4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890-2550-4A9A-B82E-7E400930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B37-C5A6-4CFA-BDD9-72CD94CA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FDC-6C7A-4D55-950B-E2F0D3E9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A40-3055-46CA-8904-93351AAA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EC1-3E6A-4284-A1AC-D0380870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6C5-49CC-4F3E-96FA-3CA9BCCC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B03-2DB7-4EE4-A31E-9F97EE5C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116-2EB8-4179-861F-A7BBB754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428-BA05-4919-BF36-8B50BB27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5DE8-7BC6-403B-AB67-CDB1937D1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istoryshop.piratemerch.com/images/medieval_cloak_C1062_LRG.jpg&amp;imgrefurl=http://historyshop.piratemerch.com/catalog_products_with_images.php%3Flisting%3Dname-desc&amp;usg=__czYMMyF1AJQayrUHGvV-c0Ed5ds=&amp;h=500&amp;w=500&amp;sz=69&amp;hl=en&amp;start=3&amp;tbnid=GZlIpDd4QGEnJM:&amp;tbnh=130&amp;tbnw=130&amp;prev=/images%3Fq%3Dmedieval%2Bengland%2Btunic%26gbv%3D2%26hl%3De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magistermundisum.files.wordpress.com/2009/03/cinculum3.jpg&amp;imgrefurl=http://magistermundisum.wordpress.com/2009/03/20/the-cinculum/&amp;usg=__E4clK_CaMY7WODIknXjxE2x2E5s=&amp;h=354&amp;w=237&amp;sz=118&amp;hl=en&amp;start=10&amp;tbnid=aCj1-TaEjOQmsM:&amp;tbnh=121&amp;tbnw=81&amp;prev=/images%3Fq%3Droman%2Bcloak%26gbv%3D2%26hl%3Den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news.bbc.co.uk/media/images/41050000/jpg/_41050438_shoes_416.jpg&amp;imgrefurl=http://news.bbc.co.uk/cbbcnews/hi/newsid_4460000/newsid_4464200/4464226.stm&amp;usg=__QmzmhhMcYCLWnGLSueAGg5p69ms=&amp;h=300&amp;w=416&amp;sz=34&amp;hl=en&amp;start=1&amp;tbnid=_GpC4FWk1Jo-tM:&amp;tbnh=90&amp;tbnw=125&amp;prev=/images%3Fq%3Dmedieval%2Btimes%2Bshoes%26gbv%3D2%26hl%3Den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images.buycostumes.com/mgen/merchandiser/27204.jpg&amp;imgrefurl=http://www.halloween.it/costumes/men-renaissance.htm&amp;usg=__rUc4QFDSnez90Su_Uo4_Rk-ML6Q=&amp;h=1600&amp;w=1600&amp;sz=97&amp;hl=en&amp;start=2&amp;tbnid=v-Rq_-q39LTKGM:&amp;tbnh=150&amp;tbnw=150&amp;prev=/images%3Fq%3Dmens%2Bmedieval%2Btunic%2Broyal%26gbv%3D2%26hl%3Den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www.themagicchest.co.uk/images/props_medieval_hat.jpg&amp;imgrefurl=http://forums.puzzlepirates.com/community/mvnforum/viewthread%3Bjsessionid%3Ds133uwa4fe%3Fthread%3D10256%26offset%3D900&amp;usg=__229dv0g76dKU2z7-TZtzSZySsDo=&amp;h=400&amp;w=300&amp;sz=22&amp;hl=en&amp;start=1&amp;tbnid=i5J94KblJC91uM:&amp;tbnh=124&amp;tbnw=93&amp;prev=/images%3Fq%3Dmens%2Bmedieval%2Bhat%26gbv%3D2%26hl%3Den%26sa%3DX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www.skornictwo.pl/english/jpg/shoes/Delicate_leather_medieval_shoes.jpg&amp;imgrefurl=http://www.skornictwo.pl/english/jpg/shoes/shoes_2.htm&amp;usg=__OhLcOnO_CLdkY3rgabQAsBrwAmg=&amp;h=599&amp;w=800&amp;sz=191&amp;hl=en&amp;start=14&amp;tbnid=7CYfUZhBLX9HSM:&amp;tbnh=107&amp;tbnw=143&amp;prev=/images%3Fq%3Dmedieval%2Bshoes%26gbv%3D2%26hl%3Den" TargetMode="External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dkimages.com/discover/home/History/Europe/Medieval-History/Clothing/Clothing-02.html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images.google.com/imgres?imgurl=http://www.ancientcircles.com/clothing/Capes/graphics/cloak-woodsman.jpg&amp;imgrefurl=http://www.ancientcircles.com/clothing/Capes/index.html&amp;usg=__-ax5k0Uo_8nkixr-7TU966mHH14=&amp;h=300&amp;w=212&amp;sz=13&amp;hl=en&amp;start=14&amp;um=1&amp;tbnid=dNGSvwJ7OXbcYM:&amp;tbnh=116&amp;tbnw=82&amp;prev=/images%3Fq%3Dpeasant%2Bcloak%26hl%3Den%26um%3D1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ages.google.com/imgres?imgurl=http://www.by-the-sword.com/acatalog/Peasant_Outfitst1.jpg&amp;imgrefurl=http://www.by-the-sword.com/acatalog/Clothing.html&amp;usg=__Ge6N1YTzQhAnnOGMImdGu02xWTE=&amp;h=150&amp;w=150&amp;sz=8&amp;hl=en&amp;start=18&amp;um=1&amp;tbnid=r1msnucLvGtZpM:&amp;tbnh=96&amp;tbnw=96&amp;prev=/images%3Fq%3Dpeasant%2Bclothes%26hl%3Den%26um%3D1" TargetMode="External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Clo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aylor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924200" cy="1924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2133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tu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133720" y="228600"/>
            <a:ext cx="1866960" cy="190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7400" y="2133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ccae (trous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324480" y="1295280"/>
            <a:ext cx="1909800" cy="3886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V="1">
            <a:off x="5943600" y="32000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867280" y="4267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cc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19051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2590920"/>
            <a:ext cx="1384560" cy="2066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4648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695720" y="48006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43800" y="5715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981080" y="2666880"/>
            <a:ext cx="1800360" cy="129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81080" y="3962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828800" y="4343400"/>
            <a:ext cx="1895400" cy="1895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05120" y="6400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120" y="3733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’s 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1206360" cy="1809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072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ical 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838080"/>
            <a:ext cx="2342880" cy="2343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352680" y="3352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’s tu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2680" y="4267080"/>
            <a:ext cx="1171800" cy="1562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35268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5410080" y="1219320"/>
            <a:ext cx="1762200" cy="1704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410080" y="2895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wel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334120" y="4419720"/>
            <a:ext cx="1590480" cy="1190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3412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43000" y="2666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Clothing"/>
          <p:cNvPicPr/>
          <p:nvPr/>
        </p:nvPicPr>
        <p:blipFill>
          <a:blip r:embed="rId2"/>
          <a:stretch/>
        </p:blipFill>
        <p:spPr>
          <a:xfrm>
            <a:off x="3352680" y="609480"/>
            <a:ext cx="2714760" cy="2303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657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hant’s 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553080" y="838080"/>
            <a:ext cx="2171880" cy="1658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553080" y="2514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hant’s foot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838080" y="320040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9320" y="6019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coat (clo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5638680" y="3048120"/>
            <a:ext cx="3114720" cy="3114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867280" y="63244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h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523960" cy="2467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2895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sant 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Cloth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7621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03848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sant 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10280" y="914400"/>
            <a:ext cx="1105200" cy="1562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01028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15000" y="350532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715000" y="51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2514600" y="3733920"/>
            <a:ext cx="1924200" cy="142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14600" y="5410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sant c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5:32:14Z</dcterms:created>
  <dc:creator>Mom's Computer</dc:creator>
  <dc:description/>
  <dc:language>en-US</dc:language>
  <cp:lastModifiedBy>Mom's Computer</cp:lastModifiedBy>
  <dcterms:modified xsi:type="dcterms:W3CDTF">2009-09-27T23:31:58Z</dcterms:modified>
  <cp:revision>6</cp:revision>
  <dc:subject/>
  <dc:title>Medieval Clothing</dc:title>
</cp:coreProperties>
</file>