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662-4EB3-4C9E-AABB-061B9BD8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813-BF2F-4BF8-A77C-7C4CB2D6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F6E-0C0C-4CCC-BAE2-5EA86D92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F61-A77F-4EED-8C22-8C156351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5CB-1181-4838-8FBB-C6D6FA41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1A7-924F-4B85-81E7-EDDA435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052-DD04-4FA8-A768-E6B99793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2B8-28A1-4B00-9265-7C6AE12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DB7-CE22-4A19-B69C-B8A26D1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EBC-C538-4102-A6E8-71887C7D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72D-4905-4077-9BDA-D1BE0A2D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A07-8018-4732-B4AF-9672287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8758-33FC-4AFF-98E0-F0E9BD21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toryshop.piratemerch.com/images/medieval_cloak_C1062_LRG.jpg&amp;imgrefurl=http://historyshop.piratemerch.com/catalog_products_with_images.php%3Flisting%3Dname-desc&amp;usg=__czYMMyF1AJQayrUHGvV-c0Ed5ds=&amp;h=500&amp;w=500&amp;sz=69&amp;hl=en&amp;start=3&amp;tbnid=GZlIpDd4QGEnJM:&amp;tbnh=130&amp;tbnw=130&amp;prev=/images%3Fq%3Dmedieval%2Bengland%2Btunic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magistermundisum.files.wordpress.com/2009/03/cinculum3.jpg&amp;imgrefurl=http://magistermundisum.wordpress.com/2009/03/20/the-cinculum/&amp;usg=__E4clK_CaMY7WODIknXjxE2x2E5s=&amp;h=354&amp;w=237&amp;sz=118&amp;hl=en&amp;start=10&amp;tbnid=aCj1-TaEjOQmsM:&amp;tbnh=121&amp;tbnw=81&amp;prev=/images%3Fq%3Droman%2Bcloak%26gbv%3D2%26hl%3D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news.bbc.co.uk/media/images/41050000/jpg/_41050438_shoes_416.jpg&amp;imgrefurl=http://news.bbc.co.uk/cbbcnews/hi/newsid_4460000/newsid_4464200/4464226.stm&amp;usg=__QmzmhhMcYCLWnGLSueAGg5p69ms=&amp;h=300&amp;w=416&amp;sz=34&amp;hl=en&amp;start=1&amp;tbnid=_GpC4FWk1Jo-tM:&amp;tbnh=90&amp;tbnw=125&amp;prev=/images%3Fq%3Dmedieval%2Btimes%2Bshoes%26gbv%3D2%26hl%3Den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mages.buycostumes.com/mgen/merchandiser/27204.jpg&amp;imgrefurl=http://www.halloween.it/costumes/men-renaissance.htm&amp;usg=__rUc4QFDSnez90Su_Uo4_Rk-ML6Q=&amp;h=1600&amp;w=1600&amp;sz=97&amp;hl=en&amp;start=2&amp;tbnid=v-Rq_-q39LTKGM:&amp;tbnh=150&amp;tbnw=150&amp;prev=/images%3Fq%3Dmens%2Bmedieval%2Btunic%2Broyal%26gbv%3D2%26hl%3D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themagicchest.co.uk/images/props_medieval_hat.jpg&amp;imgrefurl=http://forums.puzzlepirates.com/community/mvnforum/viewthread%3Bjsessionid%3Ds133uwa4fe%3Fthread%3D10256%26offset%3D900&amp;usg=__229dv0g76dKU2z7-TZtzSZySsDo=&amp;h=400&amp;w=300&amp;sz=22&amp;hl=en&amp;start=1&amp;tbnid=i5J94KblJC91uM:&amp;tbnh=124&amp;tbnw=93&amp;prev=/images%3Fq%3Dmens%2Bmedieval%2Bhat%26gbv%3D2%26hl%3Den%26sa%3DX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skornictwo.pl/english/jpg/shoes/Delicate_leather_medieval_shoes.jpg&amp;imgrefurl=http://www.skornictwo.pl/english/jpg/shoes/shoes_2.htm&amp;usg=__OhLcOnO_CLdkY3rgabQAsBrwAmg=&amp;h=599&amp;w=800&amp;sz=191&amp;hl=en&amp;start=14&amp;tbnid=7CYfUZhBLX9HSM:&amp;tbnh=107&amp;tbnw=143&amp;prev=/images%3Fq%3Dmedieval%2Bshoes%26gbv%3D2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dkimages.com/discover/home/History/Europe/Medieval-History/Clothing/Clothing-02.html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ancientcircles.com/clothing/Capes/graphics/cloak-woodsman.jpg&amp;imgrefurl=http://www.ancientcircles.com/clothing/Capes/index.html&amp;usg=__-ax5k0Uo_8nkixr-7TU966mHH14=&amp;h=300&amp;w=212&amp;sz=13&amp;hl=en&amp;start=14&amp;um=1&amp;tbnid=dNGSvwJ7OXbcYM:&amp;tbnh=116&amp;tbnw=82&amp;prev=/images%3Fq%3Dpeasant%2Bcloak%26hl%3Den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www.by-the-sword.com/acatalog/Peasant_Outfitst1.jpg&amp;imgrefurl=http://www.by-the-sword.com/acatalog/Clothing.html&amp;usg=__Ge6N1YTzQhAnnOGMImdGu02xWTE=&amp;h=150&amp;w=150&amp;sz=8&amp;hl=en&amp;start=18&amp;um=1&amp;tbnid=r1msnucLvGtZpM:&amp;tbnh=96&amp;tbnw=96&amp;prev=/images%3Fq%3Dpeasant%2Bclothes%26hl%3Den%26um%3D1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aylor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92420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133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22860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2133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 (trous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24480" y="1295280"/>
            <a:ext cx="19098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94360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867280" y="4267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590920"/>
            <a:ext cx="1384560" cy="2066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95720" y="4800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26668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828800" y="43434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12063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ical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83808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268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267080"/>
            <a:ext cx="1171800" cy="156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268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10080" y="1219320"/>
            <a:ext cx="17622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2895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4120" y="4419720"/>
            <a:ext cx="1590480" cy="119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2666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lothing"/>
          <p:cNvPicPr/>
          <p:nvPr/>
        </p:nvPicPr>
        <p:blipFill>
          <a:blip r:embed="rId2"/>
          <a:stretch/>
        </p:blipFill>
        <p:spPr>
          <a:xfrm>
            <a:off x="3352680" y="609480"/>
            <a:ext cx="2714760" cy="230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57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171880" cy="165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coat (cl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38680" y="30481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2396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762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914400"/>
            <a:ext cx="110520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35053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514600" y="3733920"/>
            <a:ext cx="1924200" cy="142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c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32:14Z</dcterms:created>
  <dc:creator>Mom's Computer</dc:creator>
  <dc:description/>
  <dc:language>en-US</dc:language>
  <cp:lastModifiedBy>Mom's Computer</cp:lastModifiedBy>
  <dcterms:modified xsi:type="dcterms:W3CDTF">2009-09-27T23:31:58Z</dcterms:modified>
  <cp:revision>6</cp:revision>
  <dc:subject/>
  <dc:title>Medieval Clothing</dc:title>
</cp:coreProperties>
</file>