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93A10-8DF3-4A80-8EC7-02826D725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5BE52-2F2F-4425-95B1-ABB16263D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938AF-DB53-4DAA-BBB1-7A5BFCA42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86CCC-F038-4411-B265-1CEF18919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4DB98-B76B-4C9B-8AFC-FB5C5F675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1EDBE-DEE1-478E-BE92-CF902DF8D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87746-F98B-4E1E-9243-2147D7739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9100C-A663-4355-BC00-7A068DAFB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0B564-D406-4659-A7E4-743A869B1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AE505-806C-4053-963C-445AC1A36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AB0F4-006E-456C-A693-8A78242EF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ED872-8A3A-4ABD-B9F5-1456BB91F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135B-6E69-4F0F-9D0C-89CFCC50F1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anniescostumes.com/tb90875.jpg&amp;imgrefurl=http://www.anniescostumes.com/royalty.htm&amp;usg=__cwmmkAVmxltQYLGO8FqDDUJTs1Y=&amp;h=300&amp;w=243&amp;sz=18&amp;hl=en&amp;start=9&amp;sig2=_szpfjcNt3WVd_cIoHMaaQ&amp;um=1&amp;tbnid=8srWgrxxOfegzM:&amp;tbnh=116&amp;tbnw=94&amp;prev=/images%3Fq%3Dmedieval%2Bclothing%2Broyalty%26hl%3Den%26rls%3Dcom.microsoft:en-us:IE-SearchBox%26rlz%3D1I7GGLR_en%26sa%3DN%26um%3D1&amp;ei=Rmq9SrPcAoTS8Aaj7Nhc"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edieval-castle-siege-weapons.com/medieval-clothing.html" TargetMode="External"/><Relationship Id="rId2" Type="http://schemas.openxmlformats.org/officeDocument/2006/relationships/hyperlink" Target="http://www.crusades4you.com/Medieval_Clothing.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dieval Cloth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Bryan Bri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yalt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yals clothes were made of fine silk imported from China and India.</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lothing was very brightly colored and often containing the color purple, because it is a royalty only colo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yal family wore crowns on their heads to signify they were part of the royal family.</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yalty wore long cloaks and tunics that went to the ground. Elderly nobles were aloud to as well, but peasants were no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bl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obles’ wardrobe consisted of elaborate imported fabric. Most fabric was imported from China and India.</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bles wore well-fitted clothing, and were much more colorful than the peasants clothing, showing they were distinguished and wealthy.</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thing is more tightly and finely woven than the peasants.</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blemen wore leggings, or tights, to keep warm and formfitting coats that were slashed to show off the fabric of the undershirt.</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pular colors for a nobleman to wear were dark blues, maroons, deep gold, and orange.</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derly nobles would wear longer tunics, as opposed to the knee length tunics the younger people would wear.</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 and women both wore shoes.</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asan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lower class, or peasants, clothing was made of homespun wool and was very plain and had little colo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asants wore ill-fitted handed down clothes.</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though peasants were not aloud to wear certain colors, most of them did not because the dye was to expensive and had limited supplies to make different colors.</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thing to peasants was very important because they made all of their own clothing and it was difficult to mak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easants clothes were very hot and itchy, but the undergarments were softer and made of linen to keep the wool from rubbing the skin raw.</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elderly peasants were not allowed to wear longer tunics because it was a privilege given to elderly nobles and royalty only.</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asants did not normally have shoes because they were very difficult to make and cost to much mone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 Fact* The peasants did not was their outer garments, they only washed the undergarments. They did not smell because of the time spent by open fires, so the smoke acted like natures deodor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ptuary Law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cept of clothing in the medieval times was sumptuary laws, which were laws which dictated the clothing you could wear according to you social clas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lothing you wore would effect the overall treatment you would receive by others and was an indicator of your social rank.</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certain colors and fabrics that only people of a certain social classes could wea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ould be fined or even imprisoned for breaking sumptuary la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ctures of clothing</a:t>
            </a:r>
            <a:endParaRPr b="0" lang="en-US" sz="4400" spc="-1" strike="noStrike">
              <a:solidFill>
                <a:srgbClr val="000000"/>
              </a:solidFill>
              <a:latin typeface="Arial"/>
            </a:endParaRPr>
          </a:p>
        </p:txBody>
      </p:sp>
      <p:pic>
        <p:nvPicPr>
          <p:cNvPr id="52" name="" descr=""/>
          <p:cNvPicPr/>
          <p:nvPr/>
        </p:nvPicPr>
        <p:blipFill>
          <a:blip r:embed="rId1"/>
          <a:stretch/>
        </p:blipFill>
        <p:spPr>
          <a:xfrm>
            <a:off x="685800" y="1371600"/>
            <a:ext cx="2523960" cy="2467080"/>
          </a:xfrm>
          <a:prstGeom prst="rect">
            <a:avLst/>
          </a:prstGeom>
          <a:ln w="0">
            <a:noFill/>
          </a:ln>
        </p:spPr>
      </p:pic>
      <p:sp>
        <p:nvSpPr>
          <p:cNvPr id="53" name=""/>
          <p:cNvSpPr/>
          <p:nvPr/>
        </p:nvSpPr>
        <p:spPr>
          <a:xfrm>
            <a:off x="879480" y="1143000"/>
            <a:ext cx="1271520" cy="171360"/>
          </a:xfrm>
          <a:custGeom>
            <a:avLst/>
            <a:gdLst/>
            <a:ahLst/>
            <a:rect l="l" t="t" r="r" b="b"/>
            <a:pathLst>
              <a:path w="3533" h="477">
                <a:moveTo>
                  <a:pt x="2719" y="3235"/>
                </a:moveTo>
                <a:cubicBezTo>
                  <a:pt x="2702" y="3222"/>
                  <a:pt x="2663" y="3203"/>
                  <a:pt x="2659" y="3195"/>
                </a:cubicBezTo>
                <a:cubicBezTo>
                  <a:pt x="2645" y="3167"/>
                  <a:pt x="2639" y="3175"/>
                  <a:pt x="2600" y="3175"/>
                </a:cubicBezTo>
                <a:cubicBezTo>
                  <a:pt x="2590" y="3175"/>
                  <a:pt x="2549" y="3197"/>
                  <a:pt x="2540" y="3215"/>
                </a:cubicBezTo>
                <a:cubicBezTo>
                  <a:pt x="2535" y="3225"/>
                  <a:pt x="2510" y="3286"/>
                  <a:pt x="2500" y="3294"/>
                </a:cubicBezTo>
                <a:cubicBezTo>
                  <a:pt x="2487" y="3305"/>
                  <a:pt x="2446" y="3345"/>
                  <a:pt x="2441" y="3354"/>
                </a:cubicBezTo>
                <a:cubicBezTo>
                  <a:pt x="2418" y="3398"/>
                  <a:pt x="2451" y="3498"/>
                  <a:pt x="2461" y="3532"/>
                </a:cubicBezTo>
                <a:cubicBezTo>
                  <a:pt x="2468" y="3555"/>
                  <a:pt x="2488" y="3568"/>
                  <a:pt x="2520" y="3572"/>
                </a:cubicBezTo>
                <a:cubicBezTo>
                  <a:pt x="2604" y="3581"/>
                  <a:pt x="2694" y="3572"/>
                  <a:pt x="2778" y="3572"/>
                </a:cubicBezTo>
              </a:path>
              <a:path w="3533" h="477">
                <a:moveTo>
                  <a:pt x="3195" y="3373"/>
                </a:moveTo>
                <a:cubicBezTo>
                  <a:pt x="3150" y="3373"/>
                  <a:pt x="3135" y="3382"/>
                  <a:pt x="3115" y="3393"/>
                </a:cubicBezTo>
                <a:cubicBezTo>
                  <a:pt x="3080" y="3411"/>
                  <a:pt x="3076" y="3408"/>
                  <a:pt x="3076" y="3453"/>
                </a:cubicBezTo>
                <a:cubicBezTo>
                  <a:pt x="3076" y="3493"/>
                  <a:pt x="3085" y="3499"/>
                  <a:pt x="3096" y="3532"/>
                </a:cubicBezTo>
                <a:cubicBezTo>
                  <a:pt x="3105" y="3558"/>
                  <a:pt x="3097" y="3594"/>
                  <a:pt x="3115" y="3612"/>
                </a:cubicBezTo>
                <a:cubicBezTo>
                  <a:pt x="3130" y="3627"/>
                  <a:pt x="3145" y="3631"/>
                  <a:pt x="3175" y="3631"/>
                </a:cubicBezTo>
                <a:cubicBezTo>
                  <a:pt x="3210" y="3631"/>
                  <a:pt x="3230" y="3596"/>
                  <a:pt x="3254" y="3572"/>
                </a:cubicBezTo>
                <a:cubicBezTo>
                  <a:pt x="3284" y="3541"/>
                  <a:pt x="3294" y="3535"/>
                  <a:pt x="3294" y="3492"/>
                </a:cubicBezTo>
                <a:cubicBezTo>
                  <a:pt x="3294" y="3456"/>
                  <a:pt x="3305" y="3400"/>
                  <a:pt x="3274" y="3373"/>
                </a:cubicBezTo>
                <a:cubicBezTo>
                  <a:pt x="3267" y="3373"/>
                  <a:pt x="3261" y="3373"/>
                  <a:pt x="3254" y="3373"/>
                </a:cubicBezTo>
              </a:path>
              <a:path w="3533" h="477">
                <a:moveTo>
                  <a:pt x="3552" y="3393"/>
                </a:moveTo>
                <a:cubicBezTo>
                  <a:pt x="3552" y="3443"/>
                  <a:pt x="3552" y="3608"/>
                  <a:pt x="3552" y="3592"/>
                </a:cubicBezTo>
                <a:cubicBezTo>
                  <a:pt x="3552" y="3533"/>
                  <a:pt x="3556" y="3484"/>
                  <a:pt x="3572" y="3453"/>
                </a:cubicBezTo>
                <a:cubicBezTo>
                  <a:pt x="3579" y="3439"/>
                  <a:pt x="3588" y="3405"/>
                  <a:pt x="3612" y="3393"/>
                </a:cubicBezTo>
                <a:cubicBezTo>
                  <a:pt x="3645" y="3376"/>
                  <a:pt x="3703" y="3395"/>
                  <a:pt x="3711" y="3413"/>
                </a:cubicBezTo>
                <a:cubicBezTo>
                  <a:pt x="3720" y="3433"/>
                  <a:pt x="3754" y="3518"/>
                  <a:pt x="3770" y="3532"/>
                </a:cubicBezTo>
                <a:cubicBezTo>
                  <a:pt x="3792" y="3551"/>
                  <a:pt x="3790" y="3549"/>
                  <a:pt x="3790" y="3592"/>
                </a:cubicBezTo>
                <a:cubicBezTo>
                  <a:pt x="3790" y="3635"/>
                  <a:pt x="3790" y="3635"/>
                  <a:pt x="3790" y="3592"/>
                </a:cubicBezTo>
                <a:cubicBezTo>
                  <a:pt x="3790" y="3548"/>
                  <a:pt x="3767" y="3394"/>
                  <a:pt x="3810" y="3373"/>
                </a:cubicBezTo>
                <a:cubicBezTo>
                  <a:pt x="3836" y="3360"/>
                  <a:pt x="3845" y="3354"/>
                  <a:pt x="3889" y="3354"/>
                </a:cubicBezTo>
                <a:cubicBezTo>
                  <a:pt x="3935" y="3354"/>
                  <a:pt x="3941" y="3370"/>
                  <a:pt x="3969" y="3373"/>
                </a:cubicBezTo>
                <a:cubicBezTo>
                  <a:pt x="4010" y="3378"/>
                  <a:pt x="4008" y="3396"/>
                  <a:pt x="4008" y="3433"/>
                </a:cubicBezTo>
                <a:cubicBezTo>
                  <a:pt x="4008" y="3471"/>
                  <a:pt x="4022" y="3499"/>
                  <a:pt x="4028" y="3512"/>
                </a:cubicBezTo>
                <a:cubicBezTo>
                  <a:pt x="4036" y="3530"/>
                  <a:pt x="4028" y="3572"/>
                  <a:pt x="4028" y="3592"/>
                </a:cubicBezTo>
              </a:path>
              <a:path w="3533" h="477">
                <a:moveTo>
                  <a:pt x="4266" y="3334"/>
                </a:moveTo>
                <a:cubicBezTo>
                  <a:pt x="4266" y="3433"/>
                  <a:pt x="4266" y="3532"/>
                  <a:pt x="4266" y="3631"/>
                </a:cubicBezTo>
                <a:cubicBezTo>
                  <a:pt x="4284" y="3589"/>
                  <a:pt x="4286" y="3575"/>
                  <a:pt x="4286" y="3532"/>
                </a:cubicBezTo>
                <a:cubicBezTo>
                  <a:pt x="4286" y="3473"/>
                  <a:pt x="4286" y="3413"/>
                  <a:pt x="4286" y="3354"/>
                </a:cubicBezTo>
                <a:cubicBezTo>
                  <a:pt x="4341" y="3354"/>
                  <a:pt x="4379" y="3358"/>
                  <a:pt x="4425" y="3373"/>
                </a:cubicBezTo>
                <a:cubicBezTo>
                  <a:pt x="4436" y="3377"/>
                  <a:pt x="4479" y="3410"/>
                  <a:pt x="4485" y="3433"/>
                </a:cubicBezTo>
                <a:cubicBezTo>
                  <a:pt x="4498" y="3479"/>
                  <a:pt x="4501" y="3492"/>
                  <a:pt x="4505" y="3532"/>
                </a:cubicBezTo>
                <a:cubicBezTo>
                  <a:pt x="4508" y="3564"/>
                  <a:pt x="4505" y="3598"/>
                  <a:pt x="4505" y="3631"/>
                </a:cubicBezTo>
                <a:cubicBezTo>
                  <a:pt x="4505" y="3587"/>
                  <a:pt x="4476" y="3358"/>
                  <a:pt x="4524" y="3334"/>
                </a:cubicBezTo>
                <a:cubicBezTo>
                  <a:pt x="4550" y="3321"/>
                  <a:pt x="4544" y="3314"/>
                  <a:pt x="4584" y="3314"/>
                </a:cubicBezTo>
                <a:cubicBezTo>
                  <a:pt x="4631" y="3314"/>
                  <a:pt x="4647" y="3322"/>
                  <a:pt x="4683" y="3334"/>
                </a:cubicBezTo>
                <a:cubicBezTo>
                  <a:pt x="4721" y="3347"/>
                  <a:pt x="4753" y="3368"/>
                  <a:pt x="4762" y="3413"/>
                </a:cubicBezTo>
                <a:cubicBezTo>
                  <a:pt x="4768" y="3443"/>
                  <a:pt x="4762" y="3481"/>
                  <a:pt x="4762" y="3512"/>
                </a:cubicBezTo>
              </a:path>
              <a:path w="3533" h="477">
                <a:moveTo>
                  <a:pt x="5199" y="3254"/>
                </a:moveTo>
                <a:cubicBezTo>
                  <a:pt x="5189" y="3257"/>
                  <a:pt x="5105" y="3270"/>
                  <a:pt x="5100" y="3274"/>
                </a:cubicBezTo>
                <a:cubicBezTo>
                  <a:pt x="5076" y="3291"/>
                  <a:pt x="5053" y="3351"/>
                  <a:pt x="5040" y="3373"/>
                </a:cubicBezTo>
                <a:cubicBezTo>
                  <a:pt x="5021" y="3406"/>
                  <a:pt x="5020" y="3412"/>
                  <a:pt x="5020" y="3453"/>
                </a:cubicBezTo>
                <a:cubicBezTo>
                  <a:pt x="5020" y="3509"/>
                  <a:pt x="5024" y="3545"/>
                  <a:pt x="5040" y="3592"/>
                </a:cubicBezTo>
                <a:cubicBezTo>
                  <a:pt x="5048" y="3615"/>
                  <a:pt x="5085" y="3640"/>
                  <a:pt x="5120" y="3651"/>
                </a:cubicBezTo>
                <a:cubicBezTo>
                  <a:pt x="5143" y="3658"/>
                  <a:pt x="5227" y="3640"/>
                  <a:pt x="5239" y="3631"/>
                </a:cubicBezTo>
                <a:cubicBezTo>
                  <a:pt x="5255" y="3619"/>
                  <a:pt x="5294" y="3612"/>
                  <a:pt x="5298" y="3572"/>
                </a:cubicBezTo>
                <a:cubicBezTo>
                  <a:pt x="5305" y="3512"/>
                  <a:pt x="5294" y="3462"/>
                  <a:pt x="5278" y="3413"/>
                </a:cubicBezTo>
                <a:cubicBezTo>
                  <a:pt x="5264" y="3370"/>
                  <a:pt x="5217" y="3354"/>
                  <a:pt x="5199" y="3314"/>
                </a:cubicBezTo>
                <a:cubicBezTo>
                  <a:pt x="5186" y="3285"/>
                  <a:pt x="5176" y="3299"/>
                  <a:pt x="5159" y="3274"/>
                </a:cubicBezTo>
              </a:path>
              <a:path w="3533" h="477">
                <a:moveTo>
                  <a:pt x="5596" y="3354"/>
                </a:moveTo>
                <a:cubicBezTo>
                  <a:pt x="5596" y="3390"/>
                  <a:pt x="5578" y="3401"/>
                  <a:pt x="5576" y="3433"/>
                </a:cubicBezTo>
                <a:cubicBezTo>
                  <a:pt x="5572" y="3484"/>
                  <a:pt x="5570" y="3491"/>
                  <a:pt x="5556" y="3532"/>
                </a:cubicBezTo>
                <a:cubicBezTo>
                  <a:pt x="5540" y="3581"/>
                  <a:pt x="5542" y="3557"/>
                  <a:pt x="5556" y="3532"/>
                </a:cubicBezTo>
                <a:cubicBezTo>
                  <a:pt x="5576" y="3497"/>
                  <a:pt x="5576" y="3475"/>
                  <a:pt x="5576" y="3433"/>
                </a:cubicBezTo>
                <a:cubicBezTo>
                  <a:pt x="5576" y="3429"/>
                  <a:pt x="5595" y="3355"/>
                  <a:pt x="5596" y="3354"/>
                </a:cubicBezTo>
                <a:cubicBezTo>
                  <a:pt x="5615" y="3339"/>
                  <a:pt x="5621" y="3334"/>
                  <a:pt x="5655" y="3334"/>
                </a:cubicBezTo>
                <a:cubicBezTo>
                  <a:pt x="5704" y="3334"/>
                  <a:pt x="5758" y="3322"/>
                  <a:pt x="5794" y="3354"/>
                </a:cubicBezTo>
                <a:cubicBezTo>
                  <a:pt x="5810" y="3368"/>
                  <a:pt x="5889" y="3422"/>
                  <a:pt x="5894" y="3433"/>
                </a:cubicBezTo>
                <a:cubicBezTo>
                  <a:pt x="5921" y="3486"/>
                  <a:pt x="5899" y="3483"/>
                  <a:pt x="5953" y="3532"/>
                </a:cubicBezTo>
                <a:cubicBezTo>
                  <a:pt x="5978" y="3555"/>
                  <a:pt x="5973" y="3561"/>
                  <a:pt x="5973" y="359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457360" y="1135080"/>
            <a:ext cx="1008000" cy="250920"/>
          </a:xfrm>
          <a:custGeom>
            <a:avLst/>
            <a:gdLst/>
            <a:ahLst/>
            <a:rect l="l" t="t" r="r" b="b"/>
            <a:pathLst>
              <a:path w="2799" h="696">
                <a:moveTo>
                  <a:pt x="6866" y="3314"/>
                </a:moveTo>
                <a:cubicBezTo>
                  <a:pt x="6866" y="3355"/>
                  <a:pt x="6856" y="3380"/>
                  <a:pt x="6846" y="3413"/>
                </a:cubicBezTo>
                <a:cubicBezTo>
                  <a:pt x="6824" y="3487"/>
                  <a:pt x="6889" y="3769"/>
                  <a:pt x="6826" y="3790"/>
                </a:cubicBezTo>
              </a:path>
              <a:path w="2799" h="696">
                <a:moveTo>
                  <a:pt x="6886" y="3314"/>
                </a:moveTo>
                <a:cubicBezTo>
                  <a:pt x="6908" y="3343"/>
                  <a:pt x="6917" y="3365"/>
                  <a:pt x="6945" y="3393"/>
                </a:cubicBezTo>
                <a:cubicBezTo>
                  <a:pt x="6972" y="3420"/>
                  <a:pt x="6988" y="3448"/>
                  <a:pt x="7005" y="3473"/>
                </a:cubicBezTo>
                <a:cubicBezTo>
                  <a:pt x="7028" y="3506"/>
                  <a:pt x="7069" y="3534"/>
                  <a:pt x="7084" y="3572"/>
                </a:cubicBezTo>
                <a:cubicBezTo>
                  <a:pt x="7094" y="3596"/>
                  <a:pt x="7110" y="3630"/>
                  <a:pt x="7124" y="3651"/>
                </a:cubicBezTo>
                <a:cubicBezTo>
                  <a:pt x="7142" y="3669"/>
                  <a:pt x="7149" y="3673"/>
                  <a:pt x="7144" y="3691"/>
                </a:cubicBezTo>
              </a:path>
              <a:path w="2799" h="696">
                <a:moveTo>
                  <a:pt x="6866" y="3512"/>
                </a:moveTo>
                <a:cubicBezTo>
                  <a:pt x="6926" y="3512"/>
                  <a:pt x="6985" y="3512"/>
                  <a:pt x="7045" y="3512"/>
                </a:cubicBezTo>
              </a:path>
              <a:path w="2799" h="696">
                <a:moveTo>
                  <a:pt x="7362" y="3453"/>
                </a:moveTo>
                <a:cubicBezTo>
                  <a:pt x="7362" y="3519"/>
                  <a:pt x="7365" y="3574"/>
                  <a:pt x="7382" y="3631"/>
                </a:cubicBezTo>
                <a:cubicBezTo>
                  <a:pt x="7392" y="3663"/>
                  <a:pt x="7400" y="3692"/>
                  <a:pt x="7402" y="3711"/>
                </a:cubicBezTo>
                <a:cubicBezTo>
                  <a:pt x="7404" y="3743"/>
                  <a:pt x="7402" y="3778"/>
                  <a:pt x="7402" y="3810"/>
                </a:cubicBezTo>
                <a:cubicBezTo>
                  <a:pt x="7402" y="3871"/>
                  <a:pt x="7402" y="3761"/>
                  <a:pt x="7402" y="3750"/>
                </a:cubicBezTo>
                <a:cubicBezTo>
                  <a:pt x="7402" y="3644"/>
                  <a:pt x="7402" y="3539"/>
                  <a:pt x="7402" y="3433"/>
                </a:cubicBezTo>
                <a:cubicBezTo>
                  <a:pt x="7452" y="3433"/>
                  <a:pt x="7503" y="3421"/>
                  <a:pt x="7541" y="3453"/>
                </a:cubicBezTo>
                <a:cubicBezTo>
                  <a:pt x="7565" y="3473"/>
                  <a:pt x="7627" y="3458"/>
                  <a:pt x="7640" y="3473"/>
                </a:cubicBezTo>
                <a:cubicBezTo>
                  <a:pt x="7640" y="3479"/>
                  <a:pt x="7640" y="3486"/>
                  <a:pt x="7640" y="3492"/>
                </a:cubicBezTo>
                <a:cubicBezTo>
                  <a:pt x="7635" y="3507"/>
                  <a:pt x="7605" y="3541"/>
                  <a:pt x="7580" y="3552"/>
                </a:cubicBezTo>
                <a:cubicBezTo>
                  <a:pt x="7561" y="3561"/>
                  <a:pt x="7520" y="3570"/>
                  <a:pt x="7501" y="3572"/>
                </a:cubicBezTo>
                <a:cubicBezTo>
                  <a:pt x="7468" y="3576"/>
                  <a:pt x="7486" y="3592"/>
                  <a:pt x="7441" y="3592"/>
                </a:cubicBezTo>
              </a:path>
              <a:path w="2799" h="696">
                <a:moveTo>
                  <a:pt x="7858" y="3473"/>
                </a:moveTo>
                <a:cubicBezTo>
                  <a:pt x="7858" y="3605"/>
                  <a:pt x="7858" y="3962"/>
                  <a:pt x="7858" y="3830"/>
                </a:cubicBezTo>
                <a:cubicBezTo>
                  <a:pt x="7858" y="3790"/>
                  <a:pt x="7841" y="3760"/>
                  <a:pt x="7838" y="3750"/>
                </a:cubicBezTo>
                <a:cubicBezTo>
                  <a:pt x="7820" y="3686"/>
                  <a:pt x="7818" y="3479"/>
                  <a:pt x="7858" y="3433"/>
                </a:cubicBezTo>
                <a:cubicBezTo>
                  <a:pt x="7885" y="3403"/>
                  <a:pt x="7918" y="3413"/>
                  <a:pt x="7957" y="3413"/>
                </a:cubicBezTo>
                <a:cubicBezTo>
                  <a:pt x="7997" y="3413"/>
                  <a:pt x="8036" y="3413"/>
                  <a:pt x="8076" y="3413"/>
                </a:cubicBezTo>
                <a:cubicBezTo>
                  <a:pt x="8076" y="3469"/>
                  <a:pt x="8070" y="3504"/>
                  <a:pt x="8057" y="3532"/>
                </a:cubicBezTo>
                <a:cubicBezTo>
                  <a:pt x="8039" y="3570"/>
                  <a:pt x="8047" y="3532"/>
                  <a:pt x="8037" y="3592"/>
                </a:cubicBezTo>
                <a:cubicBezTo>
                  <a:pt x="7992" y="3592"/>
                  <a:pt x="8010" y="3608"/>
                  <a:pt x="7977" y="3612"/>
                </a:cubicBezTo>
                <a:cubicBezTo>
                  <a:pt x="7941" y="3616"/>
                  <a:pt x="7929" y="3621"/>
                  <a:pt x="7898" y="3631"/>
                </a:cubicBezTo>
                <a:cubicBezTo>
                  <a:pt x="7877" y="3638"/>
                  <a:pt x="7841" y="3631"/>
                  <a:pt x="7818" y="3631"/>
                </a:cubicBezTo>
              </a:path>
              <a:path w="2799" h="696">
                <a:moveTo>
                  <a:pt x="8394" y="3413"/>
                </a:moveTo>
                <a:cubicBezTo>
                  <a:pt x="8341" y="3413"/>
                  <a:pt x="8233" y="3395"/>
                  <a:pt x="8215" y="3433"/>
                </a:cubicBezTo>
                <a:cubicBezTo>
                  <a:pt x="8195" y="3477"/>
                  <a:pt x="8176" y="3486"/>
                  <a:pt x="8176" y="3532"/>
                </a:cubicBezTo>
                <a:cubicBezTo>
                  <a:pt x="8176" y="3564"/>
                  <a:pt x="8156" y="3576"/>
                  <a:pt x="8156" y="3612"/>
                </a:cubicBezTo>
                <a:cubicBezTo>
                  <a:pt x="8156" y="3632"/>
                  <a:pt x="8177" y="3649"/>
                  <a:pt x="8195" y="3651"/>
                </a:cubicBezTo>
                <a:cubicBezTo>
                  <a:pt x="8244" y="3657"/>
                  <a:pt x="8274" y="3642"/>
                  <a:pt x="8295" y="3631"/>
                </a:cubicBezTo>
                <a:cubicBezTo>
                  <a:pt x="8322" y="3618"/>
                  <a:pt x="8339" y="3582"/>
                  <a:pt x="8354" y="3572"/>
                </a:cubicBezTo>
                <a:cubicBezTo>
                  <a:pt x="8372" y="3560"/>
                  <a:pt x="8391" y="3535"/>
                  <a:pt x="8394" y="3512"/>
                </a:cubicBezTo>
                <a:cubicBezTo>
                  <a:pt x="8398" y="3479"/>
                  <a:pt x="8411" y="3463"/>
                  <a:pt x="8414" y="3433"/>
                </a:cubicBezTo>
                <a:cubicBezTo>
                  <a:pt x="8422" y="3364"/>
                  <a:pt x="8400" y="3419"/>
                  <a:pt x="8414" y="3453"/>
                </a:cubicBezTo>
                <a:cubicBezTo>
                  <a:pt x="8431" y="3495"/>
                  <a:pt x="8453" y="3519"/>
                  <a:pt x="8473" y="3552"/>
                </a:cubicBezTo>
                <a:cubicBezTo>
                  <a:pt x="8487" y="3576"/>
                  <a:pt x="8498" y="3654"/>
                  <a:pt x="8513" y="3671"/>
                </a:cubicBezTo>
                <a:cubicBezTo>
                  <a:pt x="8520" y="3671"/>
                  <a:pt x="8526" y="3671"/>
                  <a:pt x="8533" y="3671"/>
                </a:cubicBezTo>
              </a:path>
              <a:path w="2799" h="696">
                <a:moveTo>
                  <a:pt x="8632" y="3413"/>
                </a:moveTo>
                <a:cubicBezTo>
                  <a:pt x="8639" y="3448"/>
                  <a:pt x="8652" y="3475"/>
                  <a:pt x="8652" y="3512"/>
                </a:cubicBezTo>
                <a:cubicBezTo>
                  <a:pt x="8652" y="3531"/>
                  <a:pt x="8662" y="3595"/>
                  <a:pt x="8672" y="3612"/>
                </a:cubicBezTo>
                <a:cubicBezTo>
                  <a:pt x="8691" y="3645"/>
                  <a:pt x="8692" y="3650"/>
                  <a:pt x="8692" y="3691"/>
                </a:cubicBezTo>
                <a:cubicBezTo>
                  <a:pt x="8692" y="3698"/>
                  <a:pt x="8692" y="3704"/>
                  <a:pt x="8692" y="3711"/>
                </a:cubicBezTo>
                <a:cubicBezTo>
                  <a:pt x="8692" y="3655"/>
                  <a:pt x="8686" y="3619"/>
                  <a:pt x="8672" y="3572"/>
                </a:cubicBezTo>
                <a:cubicBezTo>
                  <a:pt x="8661" y="3536"/>
                  <a:pt x="8658" y="3371"/>
                  <a:pt x="8692" y="3354"/>
                </a:cubicBezTo>
                <a:cubicBezTo>
                  <a:pt x="8726" y="3337"/>
                  <a:pt x="8766" y="3365"/>
                  <a:pt x="8791" y="3373"/>
                </a:cubicBezTo>
                <a:cubicBezTo>
                  <a:pt x="8819" y="3382"/>
                  <a:pt x="8811" y="3379"/>
                  <a:pt x="8811" y="3413"/>
                </a:cubicBezTo>
              </a:path>
              <a:path w="2799" h="696">
                <a:moveTo>
                  <a:pt x="8950" y="3651"/>
                </a:moveTo>
                <a:cubicBezTo>
                  <a:pt x="8996" y="3651"/>
                  <a:pt x="9145" y="3676"/>
                  <a:pt x="9168" y="3631"/>
                </a:cubicBezTo>
                <a:cubicBezTo>
                  <a:pt x="9181" y="3606"/>
                  <a:pt x="9215" y="3579"/>
                  <a:pt x="9227" y="3552"/>
                </a:cubicBezTo>
                <a:cubicBezTo>
                  <a:pt x="9240" y="3522"/>
                  <a:pt x="9213" y="3500"/>
                  <a:pt x="9188" y="3492"/>
                </a:cubicBezTo>
                <a:cubicBezTo>
                  <a:pt x="9156" y="3481"/>
                  <a:pt x="9121" y="3476"/>
                  <a:pt x="9088" y="3473"/>
                </a:cubicBezTo>
                <a:cubicBezTo>
                  <a:pt x="9057" y="3471"/>
                  <a:pt x="9012" y="3478"/>
                  <a:pt x="8989" y="3492"/>
                </a:cubicBezTo>
                <a:cubicBezTo>
                  <a:pt x="8966" y="3506"/>
                  <a:pt x="8937" y="3550"/>
                  <a:pt x="8930" y="3572"/>
                </a:cubicBezTo>
                <a:cubicBezTo>
                  <a:pt x="8922" y="3597"/>
                  <a:pt x="8921" y="3702"/>
                  <a:pt x="8950" y="3711"/>
                </a:cubicBezTo>
                <a:cubicBezTo>
                  <a:pt x="8991" y="3724"/>
                  <a:pt x="8986" y="3731"/>
                  <a:pt x="9029" y="3731"/>
                </a:cubicBezTo>
                <a:cubicBezTo>
                  <a:pt x="9079" y="3731"/>
                  <a:pt x="9101" y="3715"/>
                  <a:pt x="9148" y="3711"/>
                </a:cubicBezTo>
                <a:cubicBezTo>
                  <a:pt x="9180" y="3708"/>
                  <a:pt x="9191" y="3691"/>
                  <a:pt x="9227" y="3691"/>
                </a:cubicBezTo>
                <a:cubicBezTo>
                  <a:pt x="9260" y="3691"/>
                  <a:pt x="9294" y="3691"/>
                  <a:pt x="9327" y="3691"/>
                </a:cubicBezTo>
              </a:path>
              <a:path w="2799" h="696">
                <a:moveTo>
                  <a:pt x="9525" y="3155"/>
                </a:moveTo>
                <a:cubicBezTo>
                  <a:pt x="9525" y="3205"/>
                  <a:pt x="9533" y="3227"/>
                  <a:pt x="9545" y="3274"/>
                </a:cubicBezTo>
                <a:cubicBezTo>
                  <a:pt x="9557" y="3321"/>
                  <a:pt x="9568" y="3350"/>
                  <a:pt x="9585" y="3393"/>
                </a:cubicBezTo>
                <a:cubicBezTo>
                  <a:pt x="9597" y="3423"/>
                  <a:pt x="9599" y="3438"/>
                  <a:pt x="9604" y="3473"/>
                </a:cubicBezTo>
                <a:cubicBezTo>
                  <a:pt x="9634" y="3483"/>
                  <a:pt x="9624" y="3496"/>
                  <a:pt x="9624" y="3532"/>
                </a:cubicBezTo>
                <a:cubicBezTo>
                  <a:pt x="9624" y="3595"/>
                  <a:pt x="9622" y="3638"/>
                  <a:pt x="9604" y="3691"/>
                </a:cubicBezTo>
                <a:cubicBezTo>
                  <a:pt x="9604" y="3711"/>
                  <a:pt x="9604" y="3718"/>
                  <a:pt x="9604" y="373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a:hlinkClick r:id="rId2"/>
          </p:cNvPr>
          <p:cNvPicPr/>
          <p:nvPr/>
        </p:nvPicPr>
        <p:blipFill>
          <a:blip r:embed="rId3"/>
          <a:stretch/>
        </p:blipFill>
        <p:spPr>
          <a:xfrm>
            <a:off x="6400800" y="3886200"/>
            <a:ext cx="2160720" cy="2666880"/>
          </a:xfrm>
          <a:prstGeom prst="rect">
            <a:avLst/>
          </a:prstGeom>
          <a:ln w="0">
            <a:noFill/>
          </a:ln>
        </p:spPr>
      </p:pic>
      <p:sp>
        <p:nvSpPr>
          <p:cNvPr id="56" name=""/>
          <p:cNvSpPr/>
          <p:nvPr/>
        </p:nvSpPr>
        <p:spPr>
          <a:xfrm>
            <a:off x="6400800" y="3457440"/>
            <a:ext cx="600120" cy="236520"/>
          </a:xfrm>
          <a:custGeom>
            <a:avLst/>
            <a:gdLst/>
            <a:ahLst/>
            <a:rect l="l" t="t" r="r" b="b"/>
            <a:pathLst>
              <a:path w="1668" h="656">
                <a:moveTo>
                  <a:pt x="17959" y="9644"/>
                </a:moveTo>
                <a:cubicBezTo>
                  <a:pt x="17952" y="9685"/>
                  <a:pt x="17939" y="9721"/>
                  <a:pt x="17939" y="9763"/>
                </a:cubicBezTo>
                <a:cubicBezTo>
                  <a:pt x="17939" y="9928"/>
                  <a:pt x="17939" y="10094"/>
                  <a:pt x="17939" y="10259"/>
                </a:cubicBezTo>
              </a:path>
              <a:path w="1668" h="656">
                <a:moveTo>
                  <a:pt x="17780" y="9684"/>
                </a:moveTo>
                <a:cubicBezTo>
                  <a:pt x="17824" y="9684"/>
                  <a:pt x="17837" y="9675"/>
                  <a:pt x="17879" y="9664"/>
                </a:cubicBezTo>
                <a:cubicBezTo>
                  <a:pt x="17912" y="9656"/>
                  <a:pt x="17945" y="9652"/>
                  <a:pt x="17978" y="9644"/>
                </a:cubicBezTo>
                <a:cubicBezTo>
                  <a:pt x="18045" y="9627"/>
                  <a:pt x="18134" y="9638"/>
                  <a:pt x="18197" y="9624"/>
                </a:cubicBezTo>
                <a:cubicBezTo>
                  <a:pt x="18249" y="9613"/>
                  <a:pt x="18236" y="9634"/>
                  <a:pt x="18276" y="9604"/>
                </a:cubicBezTo>
              </a:path>
              <a:path w="1668" h="656">
                <a:moveTo>
                  <a:pt x="18435" y="9664"/>
                </a:moveTo>
                <a:cubicBezTo>
                  <a:pt x="18409" y="9699"/>
                  <a:pt x="18428" y="9706"/>
                  <a:pt x="18415" y="9743"/>
                </a:cubicBezTo>
                <a:cubicBezTo>
                  <a:pt x="18400" y="9784"/>
                  <a:pt x="18386" y="9826"/>
                  <a:pt x="18375" y="9862"/>
                </a:cubicBezTo>
                <a:cubicBezTo>
                  <a:pt x="18365" y="9895"/>
                  <a:pt x="18364" y="9933"/>
                  <a:pt x="18355" y="9962"/>
                </a:cubicBezTo>
                <a:cubicBezTo>
                  <a:pt x="18330" y="10044"/>
                  <a:pt x="18305" y="10250"/>
                  <a:pt x="18355" y="10180"/>
                </a:cubicBezTo>
                <a:cubicBezTo>
                  <a:pt x="18377" y="10149"/>
                  <a:pt x="18375" y="10111"/>
                  <a:pt x="18395" y="10081"/>
                </a:cubicBezTo>
                <a:cubicBezTo>
                  <a:pt x="18421" y="10042"/>
                  <a:pt x="18442" y="10028"/>
                  <a:pt x="18475" y="10001"/>
                </a:cubicBezTo>
                <a:cubicBezTo>
                  <a:pt x="18532" y="9954"/>
                  <a:pt x="18514" y="10010"/>
                  <a:pt x="18554" y="10041"/>
                </a:cubicBezTo>
                <a:cubicBezTo>
                  <a:pt x="18570" y="10053"/>
                  <a:pt x="18590" y="10066"/>
                  <a:pt x="18613" y="10081"/>
                </a:cubicBezTo>
                <a:cubicBezTo>
                  <a:pt x="18651" y="10106"/>
                  <a:pt x="18649" y="10119"/>
                  <a:pt x="18673" y="10140"/>
                </a:cubicBezTo>
                <a:cubicBezTo>
                  <a:pt x="18696" y="10160"/>
                  <a:pt x="18706" y="10193"/>
                  <a:pt x="18713" y="10220"/>
                </a:cubicBezTo>
              </a:path>
              <a:path w="1668" h="656">
                <a:moveTo>
                  <a:pt x="18990" y="10061"/>
                </a:moveTo>
                <a:cubicBezTo>
                  <a:pt x="19059" y="10061"/>
                  <a:pt x="19217" y="10083"/>
                  <a:pt x="19248" y="10041"/>
                </a:cubicBezTo>
                <a:cubicBezTo>
                  <a:pt x="19270" y="10011"/>
                  <a:pt x="19279" y="10007"/>
                  <a:pt x="19288" y="9981"/>
                </a:cubicBezTo>
                <a:cubicBezTo>
                  <a:pt x="19280" y="9965"/>
                  <a:pt x="19237" y="9926"/>
                  <a:pt x="19229" y="9922"/>
                </a:cubicBezTo>
                <a:cubicBezTo>
                  <a:pt x="19192" y="9903"/>
                  <a:pt x="19081" y="9922"/>
                  <a:pt x="19050" y="9942"/>
                </a:cubicBezTo>
                <a:cubicBezTo>
                  <a:pt x="19016" y="9965"/>
                  <a:pt x="19010" y="9984"/>
                  <a:pt x="19010" y="10021"/>
                </a:cubicBezTo>
                <a:cubicBezTo>
                  <a:pt x="19010" y="10073"/>
                  <a:pt x="19018" y="10092"/>
                  <a:pt x="19030" y="10140"/>
                </a:cubicBezTo>
                <a:cubicBezTo>
                  <a:pt x="19040" y="10180"/>
                  <a:pt x="19049" y="10180"/>
                  <a:pt x="19090" y="10180"/>
                </a:cubicBezTo>
                <a:cubicBezTo>
                  <a:pt x="19185" y="10180"/>
                  <a:pt x="19372" y="10144"/>
                  <a:pt x="19447" y="1020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186680" y="3414600"/>
            <a:ext cx="757080" cy="300240"/>
          </a:xfrm>
          <a:custGeom>
            <a:avLst/>
            <a:gdLst/>
            <a:ahLst/>
            <a:rect l="l" t="t" r="r" b="b"/>
            <a:pathLst>
              <a:path w="2104" h="835">
                <a:moveTo>
                  <a:pt x="20002" y="9604"/>
                </a:moveTo>
                <a:cubicBezTo>
                  <a:pt x="19996" y="9633"/>
                  <a:pt x="19993" y="9676"/>
                  <a:pt x="19983" y="9704"/>
                </a:cubicBezTo>
                <a:cubicBezTo>
                  <a:pt x="19967" y="9747"/>
                  <a:pt x="19963" y="9759"/>
                  <a:pt x="19963" y="9803"/>
                </a:cubicBezTo>
                <a:cubicBezTo>
                  <a:pt x="19963" y="9906"/>
                  <a:pt x="19965" y="10009"/>
                  <a:pt x="19983" y="10100"/>
                </a:cubicBezTo>
                <a:cubicBezTo>
                  <a:pt x="19986" y="10113"/>
                  <a:pt x="19983" y="10264"/>
                  <a:pt x="19983" y="10160"/>
                </a:cubicBezTo>
                <a:cubicBezTo>
                  <a:pt x="19983" y="9989"/>
                  <a:pt x="20016" y="9760"/>
                  <a:pt x="19963" y="9604"/>
                </a:cubicBezTo>
                <a:cubicBezTo>
                  <a:pt x="19963" y="9598"/>
                  <a:pt x="19963" y="9591"/>
                  <a:pt x="19963" y="9585"/>
                </a:cubicBezTo>
                <a:cubicBezTo>
                  <a:pt x="19994" y="9577"/>
                  <a:pt x="20052" y="9545"/>
                  <a:pt x="20082" y="9525"/>
                </a:cubicBezTo>
                <a:cubicBezTo>
                  <a:pt x="20112" y="9505"/>
                  <a:pt x="20134" y="9520"/>
                  <a:pt x="20161" y="9505"/>
                </a:cubicBezTo>
                <a:cubicBezTo>
                  <a:pt x="20196" y="9485"/>
                  <a:pt x="20218" y="9485"/>
                  <a:pt x="20260" y="9485"/>
                </a:cubicBezTo>
                <a:cubicBezTo>
                  <a:pt x="20293" y="9485"/>
                  <a:pt x="20327" y="9485"/>
                  <a:pt x="20360" y="9485"/>
                </a:cubicBezTo>
                <a:cubicBezTo>
                  <a:pt x="20360" y="9535"/>
                  <a:pt x="20389" y="9738"/>
                  <a:pt x="20340" y="9763"/>
                </a:cubicBezTo>
                <a:cubicBezTo>
                  <a:pt x="20330" y="9768"/>
                  <a:pt x="20289" y="9793"/>
                  <a:pt x="20280" y="9803"/>
                </a:cubicBezTo>
                <a:cubicBezTo>
                  <a:pt x="20258" y="9829"/>
                  <a:pt x="20216" y="9843"/>
                  <a:pt x="20201" y="9862"/>
                </a:cubicBezTo>
                <a:cubicBezTo>
                  <a:pt x="20174" y="9895"/>
                  <a:pt x="20169" y="9917"/>
                  <a:pt x="20122" y="9922"/>
                </a:cubicBezTo>
                <a:cubicBezTo>
                  <a:pt x="20102" y="9922"/>
                  <a:pt x="20095" y="9922"/>
                  <a:pt x="20082" y="9922"/>
                </a:cubicBezTo>
                <a:cubicBezTo>
                  <a:pt x="20028" y="9922"/>
                  <a:pt x="20113" y="9922"/>
                  <a:pt x="20122" y="9922"/>
                </a:cubicBezTo>
                <a:cubicBezTo>
                  <a:pt x="20159" y="9922"/>
                  <a:pt x="20173" y="9917"/>
                  <a:pt x="20201" y="9942"/>
                </a:cubicBezTo>
                <a:cubicBezTo>
                  <a:pt x="20240" y="9977"/>
                  <a:pt x="20273" y="10017"/>
                  <a:pt x="20300" y="10061"/>
                </a:cubicBezTo>
                <a:cubicBezTo>
                  <a:pt x="20328" y="10108"/>
                  <a:pt x="20331" y="10099"/>
                  <a:pt x="20360" y="10120"/>
                </a:cubicBezTo>
                <a:cubicBezTo>
                  <a:pt x="20394" y="10145"/>
                  <a:pt x="20423" y="10138"/>
                  <a:pt x="20459" y="10160"/>
                </a:cubicBezTo>
              </a:path>
              <a:path w="2104" h="835">
                <a:moveTo>
                  <a:pt x="20757" y="9842"/>
                </a:moveTo>
                <a:cubicBezTo>
                  <a:pt x="20736" y="9842"/>
                  <a:pt x="20686" y="9848"/>
                  <a:pt x="20677" y="9862"/>
                </a:cubicBezTo>
                <a:cubicBezTo>
                  <a:pt x="20658" y="9891"/>
                  <a:pt x="20657" y="9924"/>
                  <a:pt x="20657" y="9962"/>
                </a:cubicBezTo>
                <a:cubicBezTo>
                  <a:pt x="20657" y="10030"/>
                  <a:pt x="20658" y="10083"/>
                  <a:pt x="20677" y="10140"/>
                </a:cubicBezTo>
                <a:cubicBezTo>
                  <a:pt x="20690" y="10179"/>
                  <a:pt x="20694" y="10180"/>
                  <a:pt x="20737" y="10180"/>
                </a:cubicBezTo>
                <a:cubicBezTo>
                  <a:pt x="20789" y="10180"/>
                  <a:pt x="20797" y="10159"/>
                  <a:pt x="20836" y="10120"/>
                </a:cubicBezTo>
                <a:cubicBezTo>
                  <a:pt x="20859" y="10097"/>
                  <a:pt x="20886" y="10071"/>
                  <a:pt x="20895" y="10041"/>
                </a:cubicBezTo>
                <a:cubicBezTo>
                  <a:pt x="20914" y="9981"/>
                  <a:pt x="20895" y="9887"/>
                  <a:pt x="20895" y="9823"/>
                </a:cubicBezTo>
                <a:cubicBezTo>
                  <a:pt x="20846" y="9816"/>
                  <a:pt x="20839" y="9794"/>
                  <a:pt x="20816" y="9783"/>
                </a:cubicBezTo>
                <a:cubicBezTo>
                  <a:pt x="20804" y="9777"/>
                  <a:pt x="20770" y="9783"/>
                  <a:pt x="20757" y="9783"/>
                </a:cubicBezTo>
              </a:path>
              <a:path w="2104" h="835">
                <a:moveTo>
                  <a:pt x="21114" y="9803"/>
                </a:moveTo>
                <a:cubicBezTo>
                  <a:pt x="21114" y="9823"/>
                  <a:pt x="21114" y="9842"/>
                  <a:pt x="21114" y="9862"/>
                </a:cubicBezTo>
                <a:cubicBezTo>
                  <a:pt x="21142" y="9871"/>
                  <a:pt x="21139" y="9900"/>
                  <a:pt x="21173" y="9922"/>
                </a:cubicBezTo>
                <a:cubicBezTo>
                  <a:pt x="21201" y="9940"/>
                  <a:pt x="21225" y="9955"/>
                  <a:pt x="21253" y="9962"/>
                </a:cubicBezTo>
                <a:cubicBezTo>
                  <a:pt x="21263" y="9991"/>
                  <a:pt x="21272" y="9979"/>
                  <a:pt x="21272" y="10021"/>
                </a:cubicBezTo>
              </a:path>
              <a:path w="2104" h="835">
                <a:moveTo>
                  <a:pt x="21530" y="9842"/>
                </a:moveTo>
                <a:cubicBezTo>
                  <a:pt x="21485" y="9862"/>
                  <a:pt x="21466" y="9867"/>
                  <a:pt x="21431" y="9902"/>
                </a:cubicBezTo>
                <a:cubicBezTo>
                  <a:pt x="21403" y="9930"/>
                  <a:pt x="21376" y="9963"/>
                  <a:pt x="21352" y="9981"/>
                </a:cubicBezTo>
                <a:cubicBezTo>
                  <a:pt x="21314" y="10010"/>
                  <a:pt x="21307" y="10057"/>
                  <a:pt x="21272" y="10081"/>
                </a:cubicBezTo>
                <a:cubicBezTo>
                  <a:pt x="21266" y="10081"/>
                  <a:pt x="21259" y="10081"/>
                  <a:pt x="21253" y="10081"/>
                </a:cubicBezTo>
                <a:cubicBezTo>
                  <a:pt x="21245" y="10113"/>
                  <a:pt x="21221" y="10128"/>
                  <a:pt x="21213" y="10160"/>
                </a:cubicBezTo>
                <a:cubicBezTo>
                  <a:pt x="21183" y="10170"/>
                  <a:pt x="21193" y="10184"/>
                  <a:pt x="21193" y="10220"/>
                </a:cubicBezTo>
                <a:cubicBezTo>
                  <a:pt x="21162" y="10230"/>
                  <a:pt x="21179" y="10249"/>
                  <a:pt x="21153" y="10279"/>
                </a:cubicBezTo>
                <a:cubicBezTo>
                  <a:pt x="21134" y="10299"/>
                  <a:pt x="21127" y="10306"/>
                  <a:pt x="21114" y="10319"/>
                </a:cubicBezTo>
              </a:path>
              <a:path w="2104" h="835">
                <a:moveTo>
                  <a:pt x="21749" y="9882"/>
                </a:moveTo>
                <a:cubicBezTo>
                  <a:pt x="21708" y="9882"/>
                  <a:pt x="21680" y="9875"/>
                  <a:pt x="21650" y="9902"/>
                </a:cubicBezTo>
                <a:cubicBezTo>
                  <a:pt x="21630" y="9920"/>
                  <a:pt x="21618" y="9975"/>
                  <a:pt x="21610" y="9981"/>
                </a:cubicBezTo>
                <a:cubicBezTo>
                  <a:pt x="21592" y="9995"/>
                  <a:pt x="21574" y="10004"/>
                  <a:pt x="21570" y="10041"/>
                </a:cubicBezTo>
                <a:cubicBezTo>
                  <a:pt x="21565" y="10086"/>
                  <a:pt x="21578" y="10104"/>
                  <a:pt x="21590" y="10140"/>
                </a:cubicBezTo>
                <a:cubicBezTo>
                  <a:pt x="21595" y="10155"/>
                  <a:pt x="21640" y="10194"/>
                  <a:pt x="21650" y="10200"/>
                </a:cubicBezTo>
                <a:cubicBezTo>
                  <a:pt x="21694" y="10226"/>
                  <a:pt x="21709" y="10175"/>
                  <a:pt x="21729" y="10160"/>
                </a:cubicBezTo>
                <a:cubicBezTo>
                  <a:pt x="21775" y="10124"/>
                  <a:pt x="21788" y="10077"/>
                  <a:pt x="21828" y="10041"/>
                </a:cubicBezTo>
                <a:cubicBezTo>
                  <a:pt x="21854" y="10018"/>
                  <a:pt x="21834" y="9965"/>
                  <a:pt x="21868" y="9962"/>
                </a:cubicBezTo>
                <a:cubicBezTo>
                  <a:pt x="21950" y="9954"/>
                  <a:pt x="21815" y="10163"/>
                  <a:pt x="21888" y="10200"/>
                </a:cubicBezTo>
                <a:cubicBezTo>
                  <a:pt x="21899" y="10206"/>
                  <a:pt x="21934" y="10200"/>
                  <a:pt x="21947" y="10200"/>
                </a:cubicBezTo>
              </a:path>
              <a:path w="2104" h="835">
                <a:moveTo>
                  <a:pt x="22066" y="9565"/>
                </a:moveTo>
                <a:cubicBezTo>
                  <a:pt x="22066" y="9770"/>
                  <a:pt x="22066" y="9975"/>
                  <a:pt x="22066" y="1018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109000" y="3436920"/>
            <a:ext cx="863640" cy="306360"/>
          </a:xfrm>
          <a:custGeom>
            <a:avLst/>
            <a:gdLst/>
            <a:ahLst/>
            <a:rect l="l" t="t" r="r" b="b"/>
            <a:pathLst>
              <a:path w="2402" h="854">
                <a:moveTo>
                  <a:pt x="22523" y="10220"/>
                </a:moveTo>
                <a:cubicBezTo>
                  <a:pt x="22541" y="10170"/>
                  <a:pt x="22558" y="10131"/>
                  <a:pt x="22562" y="10081"/>
                </a:cubicBezTo>
                <a:cubicBezTo>
                  <a:pt x="22566" y="10039"/>
                  <a:pt x="22599" y="10012"/>
                  <a:pt x="22602" y="9962"/>
                </a:cubicBezTo>
                <a:cubicBezTo>
                  <a:pt x="22607" y="9867"/>
                  <a:pt x="22604" y="9773"/>
                  <a:pt x="22582" y="9684"/>
                </a:cubicBezTo>
                <a:cubicBezTo>
                  <a:pt x="22575" y="9656"/>
                  <a:pt x="22565" y="9631"/>
                  <a:pt x="22562" y="9604"/>
                </a:cubicBezTo>
                <a:cubicBezTo>
                  <a:pt x="22562" y="9598"/>
                  <a:pt x="22562" y="9591"/>
                  <a:pt x="22562" y="9585"/>
                </a:cubicBezTo>
                <a:cubicBezTo>
                  <a:pt x="22645" y="9585"/>
                  <a:pt x="22722" y="9595"/>
                  <a:pt x="22800" y="9604"/>
                </a:cubicBezTo>
                <a:cubicBezTo>
                  <a:pt x="22863" y="9612"/>
                  <a:pt x="22935" y="9604"/>
                  <a:pt x="22999" y="9604"/>
                </a:cubicBezTo>
              </a:path>
              <a:path w="2402" h="854">
                <a:moveTo>
                  <a:pt x="22701" y="9981"/>
                </a:moveTo>
                <a:cubicBezTo>
                  <a:pt x="22719" y="9964"/>
                  <a:pt x="22723" y="9957"/>
                  <a:pt x="22741" y="9962"/>
                </a:cubicBezTo>
                <a:cubicBezTo>
                  <a:pt x="22752" y="9918"/>
                  <a:pt x="22753" y="9929"/>
                  <a:pt x="22800" y="9922"/>
                </a:cubicBezTo>
                <a:cubicBezTo>
                  <a:pt x="22800" y="9865"/>
                  <a:pt x="22812" y="9894"/>
                  <a:pt x="22860" y="9862"/>
                </a:cubicBezTo>
                <a:cubicBezTo>
                  <a:pt x="22892" y="9841"/>
                  <a:pt x="22900" y="9842"/>
                  <a:pt x="22939" y="9842"/>
                </a:cubicBezTo>
              </a:path>
              <a:path w="2402" h="854">
                <a:moveTo>
                  <a:pt x="23257" y="9981"/>
                </a:moveTo>
                <a:cubicBezTo>
                  <a:pt x="23190" y="9989"/>
                  <a:pt x="23196" y="9999"/>
                  <a:pt x="23158" y="10041"/>
                </a:cubicBezTo>
                <a:cubicBezTo>
                  <a:pt x="23139" y="10062"/>
                  <a:pt x="23106" y="10090"/>
                  <a:pt x="23098" y="10100"/>
                </a:cubicBezTo>
                <a:cubicBezTo>
                  <a:pt x="23082" y="10122"/>
                  <a:pt x="23061" y="10175"/>
                  <a:pt x="23058" y="10200"/>
                </a:cubicBezTo>
                <a:cubicBezTo>
                  <a:pt x="23054" y="10240"/>
                  <a:pt x="23067" y="10263"/>
                  <a:pt x="23078" y="10279"/>
                </a:cubicBezTo>
                <a:cubicBezTo>
                  <a:pt x="23118" y="10340"/>
                  <a:pt x="23133" y="10330"/>
                  <a:pt x="23178" y="10279"/>
                </a:cubicBezTo>
                <a:cubicBezTo>
                  <a:pt x="23205" y="10249"/>
                  <a:pt x="23260" y="10239"/>
                  <a:pt x="23277" y="10200"/>
                </a:cubicBezTo>
                <a:cubicBezTo>
                  <a:pt x="23291" y="10169"/>
                  <a:pt x="23280" y="10163"/>
                  <a:pt x="23297" y="10140"/>
                </a:cubicBezTo>
                <a:cubicBezTo>
                  <a:pt x="23303" y="10133"/>
                  <a:pt x="23310" y="10127"/>
                  <a:pt x="23316" y="10120"/>
                </a:cubicBezTo>
              </a:path>
              <a:path w="2402" h="854">
                <a:moveTo>
                  <a:pt x="23336" y="10081"/>
                </a:moveTo>
                <a:cubicBezTo>
                  <a:pt x="23336" y="10155"/>
                  <a:pt x="23339" y="10210"/>
                  <a:pt x="23356" y="10279"/>
                </a:cubicBezTo>
                <a:cubicBezTo>
                  <a:pt x="23356" y="10286"/>
                  <a:pt x="23356" y="10292"/>
                  <a:pt x="23356" y="10299"/>
                </a:cubicBezTo>
              </a:path>
              <a:path w="2402" h="854">
                <a:moveTo>
                  <a:pt x="23495" y="10041"/>
                </a:moveTo>
                <a:cubicBezTo>
                  <a:pt x="23495" y="10140"/>
                  <a:pt x="23495" y="10240"/>
                  <a:pt x="23495" y="10339"/>
                </a:cubicBezTo>
                <a:cubicBezTo>
                  <a:pt x="23495" y="10246"/>
                  <a:pt x="23495" y="10154"/>
                  <a:pt x="23495" y="10061"/>
                </a:cubicBezTo>
                <a:cubicBezTo>
                  <a:pt x="23549" y="10061"/>
                  <a:pt x="23607" y="10051"/>
                  <a:pt x="23654" y="10081"/>
                </a:cubicBezTo>
                <a:cubicBezTo>
                  <a:pt x="23698" y="10110"/>
                  <a:pt x="23727" y="10083"/>
                  <a:pt x="23753" y="10140"/>
                </a:cubicBezTo>
                <a:cubicBezTo>
                  <a:pt x="23776" y="10190"/>
                  <a:pt x="23753" y="10301"/>
                  <a:pt x="23753" y="10358"/>
                </a:cubicBezTo>
                <a:cubicBezTo>
                  <a:pt x="23753" y="10419"/>
                  <a:pt x="23753" y="10310"/>
                  <a:pt x="23753" y="10299"/>
                </a:cubicBezTo>
                <a:cubicBezTo>
                  <a:pt x="23753" y="10226"/>
                  <a:pt x="23756" y="10143"/>
                  <a:pt x="23733" y="10100"/>
                </a:cubicBezTo>
                <a:cubicBezTo>
                  <a:pt x="23715" y="10066"/>
                  <a:pt x="23749" y="10048"/>
                  <a:pt x="23753" y="10041"/>
                </a:cubicBezTo>
                <a:cubicBezTo>
                  <a:pt x="23767" y="10013"/>
                  <a:pt x="23773" y="10021"/>
                  <a:pt x="23812" y="10021"/>
                </a:cubicBezTo>
                <a:cubicBezTo>
                  <a:pt x="23840" y="10021"/>
                  <a:pt x="23886" y="10070"/>
                  <a:pt x="23892" y="10081"/>
                </a:cubicBezTo>
                <a:cubicBezTo>
                  <a:pt x="23906" y="10104"/>
                  <a:pt x="23912" y="10102"/>
                  <a:pt x="23912" y="10140"/>
                </a:cubicBezTo>
                <a:cubicBezTo>
                  <a:pt x="23912" y="10186"/>
                  <a:pt x="23912" y="10233"/>
                  <a:pt x="23912" y="10279"/>
                </a:cubicBezTo>
              </a:path>
              <a:path w="2402" h="854">
                <a:moveTo>
                  <a:pt x="24170" y="10021"/>
                </a:moveTo>
                <a:cubicBezTo>
                  <a:pt x="24170" y="10107"/>
                  <a:pt x="24170" y="10193"/>
                  <a:pt x="24170" y="10279"/>
                </a:cubicBezTo>
              </a:path>
              <a:path w="2402" h="854">
                <a:moveTo>
                  <a:pt x="24170" y="9743"/>
                </a:moveTo>
                <a:lnTo>
                  <a:pt x="24170" y="9743"/>
                </a:lnTo>
              </a:path>
              <a:path w="2402" h="854">
                <a:moveTo>
                  <a:pt x="24368" y="9545"/>
                </a:moveTo>
                <a:cubicBezTo>
                  <a:pt x="24368" y="9790"/>
                  <a:pt x="24368" y="10034"/>
                  <a:pt x="24368" y="10279"/>
                </a:cubicBezTo>
              </a:path>
              <a:path w="2402" h="854">
                <a:moveTo>
                  <a:pt x="24606" y="9922"/>
                </a:moveTo>
                <a:cubicBezTo>
                  <a:pt x="24618" y="9983"/>
                  <a:pt x="24623" y="9986"/>
                  <a:pt x="24666" y="10021"/>
                </a:cubicBezTo>
                <a:cubicBezTo>
                  <a:pt x="24686" y="10041"/>
                  <a:pt x="24692" y="10047"/>
                  <a:pt x="24705" y="10061"/>
                </a:cubicBezTo>
              </a:path>
              <a:path w="2402" h="854">
                <a:moveTo>
                  <a:pt x="24924" y="9942"/>
                </a:moveTo>
                <a:cubicBezTo>
                  <a:pt x="24876" y="9942"/>
                  <a:pt x="24845" y="9950"/>
                  <a:pt x="24805" y="9962"/>
                </a:cubicBezTo>
                <a:cubicBezTo>
                  <a:pt x="24749" y="9979"/>
                  <a:pt x="24737" y="10016"/>
                  <a:pt x="24705" y="10061"/>
                </a:cubicBezTo>
                <a:cubicBezTo>
                  <a:pt x="24686" y="10087"/>
                  <a:pt x="24669" y="10130"/>
                  <a:pt x="24666" y="10160"/>
                </a:cubicBezTo>
                <a:cubicBezTo>
                  <a:pt x="24663" y="10186"/>
                  <a:pt x="24652" y="10195"/>
                  <a:pt x="24646" y="10220"/>
                </a:cubicBezTo>
                <a:cubicBezTo>
                  <a:pt x="24610" y="10238"/>
                  <a:pt x="24602" y="10281"/>
                  <a:pt x="24567" y="10299"/>
                </a:cubicBezTo>
                <a:cubicBezTo>
                  <a:pt x="24559" y="10332"/>
                  <a:pt x="24560" y="10331"/>
                  <a:pt x="24527" y="10339"/>
                </a:cubicBezTo>
                <a:cubicBezTo>
                  <a:pt x="24519" y="10371"/>
                  <a:pt x="24512" y="10390"/>
                  <a:pt x="24487" y="1039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607000" y="3851280"/>
            <a:ext cx="1316160" cy="306360"/>
          </a:xfrm>
          <a:custGeom>
            <a:avLst/>
            <a:gdLst/>
            <a:ahLst/>
            <a:rect l="l" t="t" r="r" b="b"/>
            <a:pathLst>
              <a:path w="3653" h="854">
                <a:moveTo>
                  <a:pt x="16034" y="10835"/>
                </a:moveTo>
                <a:cubicBezTo>
                  <a:pt x="15916" y="10835"/>
                  <a:pt x="15781" y="10820"/>
                  <a:pt x="15677" y="10855"/>
                </a:cubicBezTo>
                <a:cubicBezTo>
                  <a:pt x="15641" y="10867"/>
                  <a:pt x="15636" y="10901"/>
                  <a:pt x="15617" y="10914"/>
                </a:cubicBezTo>
                <a:cubicBezTo>
                  <a:pt x="15604" y="10923"/>
                  <a:pt x="15583" y="10948"/>
                  <a:pt x="15577" y="10974"/>
                </a:cubicBezTo>
                <a:cubicBezTo>
                  <a:pt x="15567" y="11018"/>
                  <a:pt x="15567" y="11099"/>
                  <a:pt x="15597" y="11132"/>
                </a:cubicBezTo>
                <a:cubicBezTo>
                  <a:pt x="15628" y="11166"/>
                  <a:pt x="15645" y="11207"/>
                  <a:pt x="15677" y="11232"/>
                </a:cubicBezTo>
                <a:cubicBezTo>
                  <a:pt x="15726" y="11270"/>
                  <a:pt x="15753" y="11240"/>
                  <a:pt x="15796" y="11232"/>
                </a:cubicBezTo>
                <a:cubicBezTo>
                  <a:pt x="15837" y="11224"/>
                  <a:pt x="15877" y="11218"/>
                  <a:pt x="15915" y="11192"/>
                </a:cubicBezTo>
                <a:cubicBezTo>
                  <a:pt x="15949" y="11169"/>
                  <a:pt x="15972" y="11172"/>
                  <a:pt x="16014" y="11172"/>
                </a:cubicBezTo>
                <a:cubicBezTo>
                  <a:pt x="16037" y="11172"/>
                  <a:pt x="16045" y="11174"/>
                  <a:pt x="16054" y="11192"/>
                </a:cubicBezTo>
              </a:path>
              <a:path w="3653" h="854">
                <a:moveTo>
                  <a:pt x="16292" y="10934"/>
                </a:moveTo>
                <a:cubicBezTo>
                  <a:pt x="16292" y="11040"/>
                  <a:pt x="16292" y="11145"/>
                  <a:pt x="16292" y="11251"/>
                </a:cubicBezTo>
                <a:cubicBezTo>
                  <a:pt x="16318" y="11218"/>
                  <a:pt x="16312" y="11197"/>
                  <a:pt x="16312" y="11152"/>
                </a:cubicBezTo>
                <a:cubicBezTo>
                  <a:pt x="16312" y="11078"/>
                  <a:pt x="16311" y="11016"/>
                  <a:pt x="16331" y="10954"/>
                </a:cubicBezTo>
                <a:cubicBezTo>
                  <a:pt x="16345" y="10912"/>
                  <a:pt x="16343" y="10920"/>
                  <a:pt x="16351" y="10874"/>
                </a:cubicBezTo>
                <a:cubicBezTo>
                  <a:pt x="16419" y="10874"/>
                  <a:pt x="16467" y="10878"/>
                  <a:pt x="16530" y="10894"/>
                </a:cubicBezTo>
                <a:cubicBezTo>
                  <a:pt x="16568" y="10904"/>
                  <a:pt x="16600" y="10894"/>
                  <a:pt x="16629" y="10934"/>
                </a:cubicBezTo>
                <a:cubicBezTo>
                  <a:pt x="16662" y="10981"/>
                  <a:pt x="16686" y="10971"/>
                  <a:pt x="16728" y="11013"/>
                </a:cubicBezTo>
              </a:path>
              <a:path w="3653" h="854">
                <a:moveTo>
                  <a:pt x="16927" y="11013"/>
                </a:moveTo>
                <a:cubicBezTo>
                  <a:pt x="16914" y="11013"/>
                  <a:pt x="16900" y="11013"/>
                  <a:pt x="16887" y="11013"/>
                </a:cubicBezTo>
                <a:cubicBezTo>
                  <a:pt x="16887" y="11050"/>
                  <a:pt x="16869" y="11061"/>
                  <a:pt x="16867" y="11093"/>
                </a:cubicBezTo>
                <a:cubicBezTo>
                  <a:pt x="16863" y="11150"/>
                  <a:pt x="16871" y="11186"/>
                  <a:pt x="16887" y="11232"/>
                </a:cubicBezTo>
                <a:cubicBezTo>
                  <a:pt x="16896" y="11258"/>
                  <a:pt x="16892" y="11288"/>
                  <a:pt x="16907" y="11311"/>
                </a:cubicBezTo>
                <a:cubicBezTo>
                  <a:pt x="16915" y="11323"/>
                  <a:pt x="16966" y="11376"/>
                  <a:pt x="16986" y="11351"/>
                </a:cubicBezTo>
                <a:cubicBezTo>
                  <a:pt x="17007" y="11324"/>
                  <a:pt x="17011" y="11278"/>
                  <a:pt x="17026" y="11251"/>
                </a:cubicBezTo>
                <a:cubicBezTo>
                  <a:pt x="17049" y="11210"/>
                  <a:pt x="17046" y="11185"/>
                  <a:pt x="17046" y="11132"/>
                </a:cubicBezTo>
                <a:cubicBezTo>
                  <a:pt x="17046" y="11092"/>
                  <a:pt x="17046" y="11053"/>
                  <a:pt x="17046" y="11013"/>
                </a:cubicBezTo>
              </a:path>
              <a:path w="3653" h="854">
                <a:moveTo>
                  <a:pt x="17224" y="11112"/>
                </a:moveTo>
                <a:cubicBezTo>
                  <a:pt x="17224" y="11155"/>
                  <a:pt x="17230" y="11194"/>
                  <a:pt x="17244" y="11232"/>
                </a:cubicBezTo>
                <a:cubicBezTo>
                  <a:pt x="17258" y="11272"/>
                  <a:pt x="17281" y="11308"/>
                  <a:pt x="17284" y="11351"/>
                </a:cubicBezTo>
                <a:cubicBezTo>
                  <a:pt x="17284" y="11364"/>
                  <a:pt x="17284" y="11377"/>
                  <a:pt x="17284" y="11390"/>
                </a:cubicBezTo>
                <a:cubicBezTo>
                  <a:pt x="17332" y="11390"/>
                  <a:pt x="17336" y="11366"/>
                  <a:pt x="17383" y="11351"/>
                </a:cubicBezTo>
                <a:cubicBezTo>
                  <a:pt x="17421" y="11339"/>
                  <a:pt x="17442" y="11318"/>
                  <a:pt x="17462" y="11291"/>
                </a:cubicBezTo>
                <a:cubicBezTo>
                  <a:pt x="17483" y="11264"/>
                  <a:pt x="17498" y="11187"/>
                  <a:pt x="17522" y="11212"/>
                </a:cubicBezTo>
                <a:cubicBezTo>
                  <a:pt x="17529" y="11220"/>
                  <a:pt x="17540" y="11398"/>
                  <a:pt x="17542" y="11410"/>
                </a:cubicBezTo>
                <a:cubicBezTo>
                  <a:pt x="17551" y="11465"/>
                  <a:pt x="17551" y="11467"/>
                  <a:pt x="17562" y="11509"/>
                </a:cubicBezTo>
                <a:cubicBezTo>
                  <a:pt x="17600" y="11500"/>
                  <a:pt x="17626" y="11471"/>
                  <a:pt x="17641" y="11450"/>
                </a:cubicBezTo>
                <a:cubicBezTo>
                  <a:pt x="17660" y="11424"/>
                  <a:pt x="17690" y="11420"/>
                  <a:pt x="17701" y="11390"/>
                </a:cubicBezTo>
                <a:cubicBezTo>
                  <a:pt x="17714" y="11356"/>
                  <a:pt x="17709" y="11304"/>
                  <a:pt x="17720" y="11271"/>
                </a:cubicBezTo>
                <a:cubicBezTo>
                  <a:pt x="17725" y="11256"/>
                  <a:pt x="17720" y="11228"/>
                  <a:pt x="17720" y="11212"/>
                </a:cubicBezTo>
              </a:path>
              <a:path w="3653" h="854">
                <a:moveTo>
                  <a:pt x="17859" y="11549"/>
                </a:moveTo>
                <a:cubicBezTo>
                  <a:pt x="17868" y="11493"/>
                  <a:pt x="17872" y="11518"/>
                  <a:pt x="17899" y="11470"/>
                </a:cubicBezTo>
                <a:cubicBezTo>
                  <a:pt x="17918" y="11437"/>
                  <a:pt x="17947" y="11387"/>
                  <a:pt x="17959" y="11351"/>
                </a:cubicBezTo>
                <a:cubicBezTo>
                  <a:pt x="17975" y="11304"/>
                  <a:pt x="17959" y="11221"/>
                  <a:pt x="17959" y="11172"/>
                </a:cubicBezTo>
                <a:cubicBezTo>
                  <a:pt x="17959" y="11216"/>
                  <a:pt x="17976" y="11225"/>
                  <a:pt x="17978" y="11251"/>
                </a:cubicBezTo>
                <a:cubicBezTo>
                  <a:pt x="17981" y="11293"/>
                  <a:pt x="17994" y="11310"/>
                  <a:pt x="18018" y="11331"/>
                </a:cubicBezTo>
                <a:cubicBezTo>
                  <a:pt x="18044" y="11353"/>
                  <a:pt x="18051" y="11383"/>
                  <a:pt x="18078" y="11410"/>
                </a:cubicBezTo>
                <a:cubicBezTo>
                  <a:pt x="18099" y="11431"/>
                  <a:pt x="18115" y="11450"/>
                  <a:pt x="18117" y="11470"/>
                </a:cubicBezTo>
                <a:cubicBezTo>
                  <a:pt x="18120" y="11495"/>
                  <a:pt x="18135" y="11502"/>
                  <a:pt x="18157" y="11509"/>
                </a:cubicBezTo>
                <a:cubicBezTo>
                  <a:pt x="18168" y="11447"/>
                  <a:pt x="18192" y="11487"/>
                  <a:pt x="18217" y="11430"/>
                </a:cubicBezTo>
                <a:cubicBezTo>
                  <a:pt x="18231" y="11399"/>
                  <a:pt x="18264" y="11388"/>
                  <a:pt x="18276" y="11370"/>
                </a:cubicBezTo>
                <a:cubicBezTo>
                  <a:pt x="18294" y="11344"/>
                  <a:pt x="18295" y="11302"/>
                  <a:pt x="18316" y="11271"/>
                </a:cubicBezTo>
                <a:cubicBezTo>
                  <a:pt x="18335" y="11242"/>
                  <a:pt x="18360" y="11204"/>
                  <a:pt x="18375" y="11172"/>
                </a:cubicBezTo>
                <a:cubicBezTo>
                  <a:pt x="18381" y="11160"/>
                  <a:pt x="18375" y="11126"/>
                  <a:pt x="18375" y="11112"/>
                </a:cubicBezTo>
              </a:path>
              <a:path w="3653" h="854">
                <a:moveTo>
                  <a:pt x="18038" y="10855"/>
                </a:moveTo>
                <a:cubicBezTo>
                  <a:pt x="18190" y="10855"/>
                  <a:pt x="18376" y="10830"/>
                  <a:pt x="18514" y="10874"/>
                </a:cubicBezTo>
                <a:cubicBezTo>
                  <a:pt x="18594" y="10900"/>
                  <a:pt x="18695" y="10868"/>
                  <a:pt x="18772" y="10894"/>
                </a:cubicBezTo>
                <a:cubicBezTo>
                  <a:pt x="18799" y="10894"/>
                  <a:pt x="18812" y="10894"/>
                  <a:pt x="18832" y="10894"/>
                </a:cubicBezTo>
                <a:cubicBezTo>
                  <a:pt x="18843" y="10927"/>
                  <a:pt x="18870" y="10914"/>
                  <a:pt x="18911" y="10914"/>
                </a:cubicBezTo>
                <a:cubicBezTo>
                  <a:pt x="18947" y="10914"/>
                  <a:pt x="18958" y="10930"/>
                  <a:pt x="18990" y="10934"/>
                </a:cubicBezTo>
                <a:cubicBezTo>
                  <a:pt x="19052" y="10941"/>
                  <a:pt x="19119" y="10917"/>
                  <a:pt x="19169" y="10954"/>
                </a:cubicBezTo>
              </a:path>
              <a:path w="3653" h="854">
                <a:moveTo>
                  <a:pt x="19090" y="10696"/>
                </a:moveTo>
                <a:cubicBezTo>
                  <a:pt x="19111" y="10724"/>
                  <a:pt x="19116" y="10745"/>
                  <a:pt x="19129" y="10775"/>
                </a:cubicBezTo>
                <a:cubicBezTo>
                  <a:pt x="19145" y="10808"/>
                  <a:pt x="19152" y="10813"/>
                  <a:pt x="19149" y="10835"/>
                </a:cubicBezTo>
                <a:cubicBezTo>
                  <a:pt x="19177" y="10844"/>
                  <a:pt x="19169" y="10840"/>
                  <a:pt x="19169" y="10874"/>
                </a:cubicBezTo>
                <a:cubicBezTo>
                  <a:pt x="19192" y="10882"/>
                  <a:pt x="19205" y="10901"/>
                  <a:pt x="19209" y="10934"/>
                </a:cubicBezTo>
                <a:cubicBezTo>
                  <a:pt x="19214" y="10978"/>
                  <a:pt x="19202" y="10997"/>
                  <a:pt x="19229" y="11033"/>
                </a:cubicBezTo>
                <a:cubicBezTo>
                  <a:pt x="19167" y="11033"/>
                  <a:pt x="18884" y="11000"/>
                  <a:pt x="18852" y="11053"/>
                </a:cubicBezTo>
                <a:cubicBezTo>
                  <a:pt x="18852" y="11060"/>
                  <a:pt x="18852" y="11066"/>
                  <a:pt x="18852" y="11073"/>
                </a:cubicBezTo>
                <a:cubicBezTo>
                  <a:pt x="18820" y="11084"/>
                  <a:pt x="18844" y="11082"/>
                  <a:pt x="18812" y="11093"/>
                </a:cubicBezTo>
                <a:cubicBezTo>
                  <a:pt x="18812" y="11115"/>
                  <a:pt x="18810" y="11124"/>
                  <a:pt x="18792" y="111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323120" y="3957480"/>
            <a:ext cx="1542960" cy="608040"/>
          </a:xfrm>
          <a:custGeom>
            <a:avLst/>
            <a:gdLst/>
            <a:ahLst/>
            <a:rect l="l" t="t" r="r" b="b"/>
            <a:pathLst>
              <a:path w="4287" h="1688">
                <a:moveTo>
                  <a:pt x="23078" y="11708"/>
                </a:moveTo>
                <a:cubicBezTo>
                  <a:pt x="23059" y="11702"/>
                  <a:pt x="23041" y="11700"/>
                  <a:pt x="23019" y="11688"/>
                </a:cubicBezTo>
                <a:cubicBezTo>
                  <a:pt x="22989" y="11671"/>
                  <a:pt x="22951" y="11659"/>
                  <a:pt x="22920" y="11648"/>
                </a:cubicBezTo>
                <a:cubicBezTo>
                  <a:pt x="22861" y="11628"/>
                  <a:pt x="22874" y="11679"/>
                  <a:pt x="22860" y="11708"/>
                </a:cubicBezTo>
                <a:cubicBezTo>
                  <a:pt x="22843" y="11742"/>
                  <a:pt x="22832" y="11742"/>
                  <a:pt x="22820" y="11767"/>
                </a:cubicBezTo>
                <a:cubicBezTo>
                  <a:pt x="22800" y="11809"/>
                  <a:pt x="22800" y="11830"/>
                  <a:pt x="22781" y="11867"/>
                </a:cubicBezTo>
                <a:cubicBezTo>
                  <a:pt x="22765" y="11899"/>
                  <a:pt x="22744" y="11921"/>
                  <a:pt x="22741" y="11946"/>
                </a:cubicBezTo>
                <a:cubicBezTo>
                  <a:pt x="22736" y="11988"/>
                  <a:pt x="22736" y="12034"/>
                  <a:pt x="22761" y="12065"/>
                </a:cubicBezTo>
                <a:cubicBezTo>
                  <a:pt x="22783" y="12092"/>
                  <a:pt x="22801" y="12091"/>
                  <a:pt x="22820" y="12105"/>
                </a:cubicBezTo>
                <a:cubicBezTo>
                  <a:pt x="22851" y="12128"/>
                  <a:pt x="22861" y="12125"/>
                  <a:pt x="22900" y="12125"/>
                </a:cubicBezTo>
                <a:cubicBezTo>
                  <a:pt x="22959" y="12125"/>
                  <a:pt x="23019" y="12125"/>
                  <a:pt x="23078" y="12125"/>
                </a:cubicBezTo>
              </a:path>
              <a:path w="4287" h="1688">
                <a:moveTo>
                  <a:pt x="23396" y="11728"/>
                </a:moveTo>
                <a:cubicBezTo>
                  <a:pt x="23396" y="11761"/>
                  <a:pt x="23396" y="11794"/>
                  <a:pt x="23396" y="11827"/>
                </a:cubicBezTo>
                <a:cubicBezTo>
                  <a:pt x="23379" y="11838"/>
                  <a:pt x="23365" y="11891"/>
                  <a:pt x="23356" y="11926"/>
                </a:cubicBezTo>
                <a:cubicBezTo>
                  <a:pt x="23348" y="11959"/>
                  <a:pt x="23344" y="11992"/>
                  <a:pt x="23336" y="12025"/>
                </a:cubicBezTo>
                <a:cubicBezTo>
                  <a:pt x="23330" y="12048"/>
                  <a:pt x="23336" y="12081"/>
                  <a:pt x="23336" y="12105"/>
                </a:cubicBezTo>
              </a:path>
              <a:path w="4287" h="1688">
                <a:moveTo>
                  <a:pt x="23753" y="11986"/>
                </a:moveTo>
                <a:cubicBezTo>
                  <a:pt x="23714" y="11980"/>
                  <a:pt x="23707" y="11975"/>
                  <a:pt x="23674" y="11966"/>
                </a:cubicBezTo>
                <a:cubicBezTo>
                  <a:pt x="23655" y="11991"/>
                  <a:pt x="23637" y="12014"/>
                  <a:pt x="23634" y="12045"/>
                </a:cubicBezTo>
                <a:cubicBezTo>
                  <a:pt x="23629" y="12088"/>
                  <a:pt x="23625" y="12150"/>
                  <a:pt x="23654" y="12164"/>
                </a:cubicBezTo>
                <a:cubicBezTo>
                  <a:pt x="23690" y="12181"/>
                  <a:pt x="23737" y="12201"/>
                  <a:pt x="23773" y="12204"/>
                </a:cubicBezTo>
                <a:cubicBezTo>
                  <a:pt x="23817" y="12207"/>
                  <a:pt x="23847" y="12187"/>
                  <a:pt x="23852" y="12144"/>
                </a:cubicBezTo>
                <a:cubicBezTo>
                  <a:pt x="23859" y="12086"/>
                  <a:pt x="23852" y="12024"/>
                  <a:pt x="23852" y="11966"/>
                </a:cubicBezTo>
              </a:path>
              <a:path w="4287" h="1688">
                <a:moveTo>
                  <a:pt x="24090" y="11767"/>
                </a:moveTo>
                <a:cubicBezTo>
                  <a:pt x="24090" y="11939"/>
                  <a:pt x="24090" y="12111"/>
                  <a:pt x="24090" y="12283"/>
                </a:cubicBezTo>
              </a:path>
              <a:path w="4287" h="1688">
                <a:moveTo>
                  <a:pt x="23932" y="12005"/>
                </a:moveTo>
                <a:cubicBezTo>
                  <a:pt x="24005" y="12005"/>
                  <a:pt x="24077" y="12005"/>
                  <a:pt x="24150" y="12005"/>
                </a:cubicBezTo>
              </a:path>
              <a:path w="4287" h="1688">
                <a:moveTo>
                  <a:pt x="24388" y="11767"/>
                </a:moveTo>
                <a:cubicBezTo>
                  <a:pt x="24380" y="11798"/>
                  <a:pt x="24368" y="11811"/>
                  <a:pt x="24368" y="11847"/>
                </a:cubicBezTo>
                <a:cubicBezTo>
                  <a:pt x="24368" y="12006"/>
                  <a:pt x="24368" y="12164"/>
                  <a:pt x="24368" y="12323"/>
                </a:cubicBezTo>
                <a:cubicBezTo>
                  <a:pt x="24368" y="12375"/>
                  <a:pt x="24387" y="12275"/>
                  <a:pt x="24388" y="12263"/>
                </a:cubicBezTo>
                <a:cubicBezTo>
                  <a:pt x="24393" y="12216"/>
                  <a:pt x="24394" y="12184"/>
                  <a:pt x="24408" y="12144"/>
                </a:cubicBezTo>
                <a:cubicBezTo>
                  <a:pt x="24421" y="12105"/>
                  <a:pt x="24410" y="12090"/>
                  <a:pt x="24428" y="12065"/>
                </a:cubicBezTo>
                <a:cubicBezTo>
                  <a:pt x="24463" y="12019"/>
                  <a:pt x="24474" y="12062"/>
                  <a:pt x="24487" y="12065"/>
                </a:cubicBezTo>
                <a:cubicBezTo>
                  <a:pt x="24510" y="12071"/>
                  <a:pt x="24572" y="12084"/>
                  <a:pt x="24586" y="12105"/>
                </a:cubicBezTo>
                <a:cubicBezTo>
                  <a:pt x="24598" y="12124"/>
                  <a:pt x="24622" y="12131"/>
                  <a:pt x="24626" y="12164"/>
                </a:cubicBezTo>
                <a:cubicBezTo>
                  <a:pt x="24632" y="12215"/>
                  <a:pt x="24626" y="12272"/>
                  <a:pt x="24626" y="12323"/>
                </a:cubicBezTo>
              </a:path>
              <a:path w="4287" h="1688">
                <a:moveTo>
                  <a:pt x="22344" y="11351"/>
                </a:moveTo>
                <a:cubicBezTo>
                  <a:pt x="22311" y="11335"/>
                  <a:pt x="22298" y="11336"/>
                  <a:pt x="22304" y="11311"/>
                </a:cubicBezTo>
                <a:cubicBezTo>
                  <a:pt x="22283" y="11304"/>
                  <a:pt x="22266" y="11298"/>
                  <a:pt x="22245" y="11291"/>
                </a:cubicBezTo>
                <a:cubicBezTo>
                  <a:pt x="22227" y="11275"/>
                  <a:pt x="22210" y="11233"/>
                  <a:pt x="22185" y="11212"/>
                </a:cubicBezTo>
                <a:cubicBezTo>
                  <a:pt x="22163" y="11193"/>
                  <a:pt x="22112" y="11187"/>
                  <a:pt x="22086" y="11172"/>
                </a:cubicBezTo>
                <a:cubicBezTo>
                  <a:pt x="22078" y="11164"/>
                  <a:pt x="22057" y="11121"/>
                  <a:pt x="22046" y="11112"/>
                </a:cubicBezTo>
                <a:cubicBezTo>
                  <a:pt x="22007" y="11080"/>
                  <a:pt x="21966" y="11075"/>
                  <a:pt x="21927" y="11053"/>
                </a:cubicBezTo>
                <a:cubicBezTo>
                  <a:pt x="21892" y="11033"/>
                  <a:pt x="21865" y="11003"/>
                  <a:pt x="21828" y="10993"/>
                </a:cubicBezTo>
                <a:cubicBezTo>
                  <a:pt x="21772" y="10977"/>
                  <a:pt x="21719" y="11007"/>
                  <a:pt x="21669" y="11013"/>
                </a:cubicBezTo>
                <a:cubicBezTo>
                  <a:pt x="21592" y="11022"/>
                  <a:pt x="21509" y="11013"/>
                  <a:pt x="21431" y="11013"/>
                </a:cubicBezTo>
                <a:cubicBezTo>
                  <a:pt x="21429" y="11014"/>
                  <a:pt x="21405" y="11026"/>
                  <a:pt x="21392" y="11033"/>
                </a:cubicBezTo>
                <a:cubicBezTo>
                  <a:pt x="21379" y="11046"/>
                  <a:pt x="21356" y="11070"/>
                  <a:pt x="21332" y="11093"/>
                </a:cubicBezTo>
                <a:cubicBezTo>
                  <a:pt x="21303" y="11121"/>
                  <a:pt x="21293" y="11142"/>
                  <a:pt x="21272" y="11172"/>
                </a:cubicBezTo>
                <a:cubicBezTo>
                  <a:pt x="21248" y="11207"/>
                  <a:pt x="21235" y="11239"/>
                  <a:pt x="21213" y="11271"/>
                </a:cubicBezTo>
                <a:cubicBezTo>
                  <a:pt x="21197" y="11295"/>
                  <a:pt x="21164" y="11324"/>
                  <a:pt x="21153" y="11351"/>
                </a:cubicBezTo>
                <a:cubicBezTo>
                  <a:pt x="21153" y="11370"/>
                  <a:pt x="21153" y="11377"/>
                  <a:pt x="21153" y="11390"/>
                </a:cubicBezTo>
                <a:cubicBezTo>
                  <a:pt x="21149" y="11398"/>
                  <a:pt x="21123" y="11427"/>
                  <a:pt x="21114" y="11450"/>
                </a:cubicBezTo>
                <a:cubicBezTo>
                  <a:pt x="21096" y="11498"/>
                  <a:pt x="21099" y="11509"/>
                  <a:pt x="21094" y="11569"/>
                </a:cubicBezTo>
                <a:cubicBezTo>
                  <a:pt x="21088" y="11580"/>
                  <a:pt x="21065" y="11617"/>
                  <a:pt x="21054" y="11648"/>
                </a:cubicBezTo>
                <a:cubicBezTo>
                  <a:pt x="21045" y="11672"/>
                  <a:pt x="21037" y="11705"/>
                  <a:pt x="21034" y="11728"/>
                </a:cubicBezTo>
                <a:cubicBezTo>
                  <a:pt x="21030" y="11757"/>
                  <a:pt x="21034" y="11798"/>
                  <a:pt x="21034" y="11827"/>
                </a:cubicBezTo>
                <a:cubicBezTo>
                  <a:pt x="21030" y="11837"/>
                  <a:pt x="21022" y="11857"/>
                  <a:pt x="21015" y="11886"/>
                </a:cubicBezTo>
                <a:cubicBezTo>
                  <a:pt x="21009" y="11910"/>
                  <a:pt x="21001" y="11922"/>
                  <a:pt x="20995" y="11946"/>
                </a:cubicBezTo>
                <a:cubicBezTo>
                  <a:pt x="20974" y="11973"/>
                  <a:pt x="20920" y="12013"/>
                  <a:pt x="20895" y="12045"/>
                </a:cubicBezTo>
                <a:cubicBezTo>
                  <a:pt x="20868" y="12080"/>
                  <a:pt x="20840" y="12134"/>
                  <a:pt x="20816" y="12164"/>
                </a:cubicBezTo>
                <a:cubicBezTo>
                  <a:pt x="20799" y="12185"/>
                  <a:pt x="20776" y="12213"/>
                  <a:pt x="20757" y="12244"/>
                </a:cubicBezTo>
                <a:cubicBezTo>
                  <a:pt x="20744" y="12266"/>
                  <a:pt x="20729" y="12300"/>
                  <a:pt x="20717" y="12323"/>
                </a:cubicBezTo>
                <a:cubicBezTo>
                  <a:pt x="20713" y="12330"/>
                  <a:pt x="20691" y="12383"/>
                  <a:pt x="20677" y="12402"/>
                </a:cubicBezTo>
                <a:cubicBezTo>
                  <a:pt x="20652" y="12437"/>
                  <a:pt x="20636" y="12454"/>
                  <a:pt x="20598" y="12482"/>
                </a:cubicBezTo>
                <a:cubicBezTo>
                  <a:pt x="20580" y="12496"/>
                  <a:pt x="20538" y="12509"/>
                  <a:pt x="20518" y="12521"/>
                </a:cubicBezTo>
                <a:cubicBezTo>
                  <a:pt x="20509" y="12524"/>
                  <a:pt x="20473" y="12539"/>
                  <a:pt x="20439" y="12541"/>
                </a:cubicBezTo>
                <a:cubicBezTo>
                  <a:pt x="20419" y="12541"/>
                  <a:pt x="20412" y="12541"/>
                  <a:pt x="20399" y="12541"/>
                </a:cubicBezTo>
              </a:path>
              <a:path w="4287" h="1688">
                <a:moveTo>
                  <a:pt x="20439" y="12303"/>
                </a:moveTo>
                <a:cubicBezTo>
                  <a:pt x="20419" y="12303"/>
                  <a:pt x="20412" y="12303"/>
                  <a:pt x="20399" y="12303"/>
                </a:cubicBezTo>
                <a:cubicBezTo>
                  <a:pt x="20390" y="12343"/>
                  <a:pt x="20352" y="12365"/>
                  <a:pt x="20340" y="12402"/>
                </a:cubicBezTo>
                <a:cubicBezTo>
                  <a:pt x="20323" y="12453"/>
                  <a:pt x="20346" y="12520"/>
                  <a:pt x="20360" y="12561"/>
                </a:cubicBezTo>
                <a:cubicBezTo>
                  <a:pt x="20375" y="12605"/>
                  <a:pt x="20364" y="12594"/>
                  <a:pt x="20399" y="12621"/>
                </a:cubicBezTo>
                <a:cubicBezTo>
                  <a:pt x="20441" y="12653"/>
                  <a:pt x="20463" y="12674"/>
                  <a:pt x="20518" y="12680"/>
                </a:cubicBezTo>
                <a:cubicBezTo>
                  <a:pt x="20553" y="12684"/>
                  <a:pt x="20572" y="12683"/>
                  <a:pt x="20598" y="12660"/>
                </a:cubicBezTo>
                <a:cubicBezTo>
                  <a:pt x="20616" y="12642"/>
                  <a:pt x="20620" y="12635"/>
                  <a:pt x="20638" y="126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8143920" y="3951360"/>
            <a:ext cx="485640" cy="156960"/>
          </a:xfrm>
          <a:custGeom>
            <a:avLst/>
            <a:gdLst/>
            <a:ahLst/>
            <a:rect l="l" t="t" r="r" b="b"/>
            <a:pathLst>
              <a:path w="1350" h="437">
                <a:moveTo>
                  <a:pt x="22622" y="10993"/>
                </a:moveTo>
                <a:cubicBezTo>
                  <a:pt x="22622" y="11119"/>
                  <a:pt x="22622" y="11244"/>
                  <a:pt x="22622" y="11370"/>
                </a:cubicBezTo>
              </a:path>
              <a:path w="1350" h="437">
                <a:moveTo>
                  <a:pt x="22622" y="10993"/>
                </a:moveTo>
                <a:cubicBezTo>
                  <a:pt x="22688" y="10993"/>
                  <a:pt x="22754" y="10993"/>
                  <a:pt x="22820" y="10993"/>
                </a:cubicBezTo>
              </a:path>
              <a:path w="1350" h="437">
                <a:moveTo>
                  <a:pt x="22642" y="11172"/>
                </a:moveTo>
                <a:cubicBezTo>
                  <a:pt x="22700" y="11172"/>
                  <a:pt x="22747" y="11168"/>
                  <a:pt x="22800" y="11192"/>
                </a:cubicBezTo>
                <a:cubicBezTo>
                  <a:pt x="22848" y="11213"/>
                  <a:pt x="22849" y="11212"/>
                  <a:pt x="22900" y="11212"/>
                </a:cubicBezTo>
              </a:path>
              <a:path w="1350" h="437">
                <a:moveTo>
                  <a:pt x="23178" y="11192"/>
                </a:moveTo>
                <a:cubicBezTo>
                  <a:pt x="23160" y="11210"/>
                  <a:pt x="23156" y="11217"/>
                  <a:pt x="23138" y="11212"/>
                </a:cubicBezTo>
                <a:cubicBezTo>
                  <a:pt x="23138" y="11256"/>
                  <a:pt x="23150" y="11260"/>
                  <a:pt x="23118" y="11271"/>
                </a:cubicBezTo>
                <a:cubicBezTo>
                  <a:pt x="23118" y="11298"/>
                  <a:pt x="23118" y="11324"/>
                  <a:pt x="23118" y="11351"/>
                </a:cubicBezTo>
              </a:path>
              <a:path w="1350" h="437">
                <a:moveTo>
                  <a:pt x="23138" y="10974"/>
                </a:moveTo>
                <a:lnTo>
                  <a:pt x="23138" y="10974"/>
                </a:lnTo>
              </a:path>
              <a:path w="1350" h="437">
                <a:moveTo>
                  <a:pt x="23316" y="11192"/>
                </a:moveTo>
                <a:cubicBezTo>
                  <a:pt x="23316" y="11243"/>
                  <a:pt x="23326" y="11291"/>
                  <a:pt x="23297" y="11331"/>
                </a:cubicBezTo>
                <a:cubicBezTo>
                  <a:pt x="23297" y="11270"/>
                  <a:pt x="23301" y="11208"/>
                  <a:pt x="23316" y="11172"/>
                </a:cubicBezTo>
                <a:cubicBezTo>
                  <a:pt x="23331" y="11134"/>
                  <a:pt x="23302" y="11132"/>
                  <a:pt x="23356" y="11132"/>
                </a:cubicBezTo>
                <a:cubicBezTo>
                  <a:pt x="23382" y="11132"/>
                  <a:pt x="23412" y="11139"/>
                  <a:pt x="23435" y="11152"/>
                </a:cubicBezTo>
                <a:cubicBezTo>
                  <a:pt x="23470" y="11172"/>
                  <a:pt x="23491" y="11214"/>
                  <a:pt x="23495" y="11251"/>
                </a:cubicBezTo>
                <a:cubicBezTo>
                  <a:pt x="23498" y="11280"/>
                  <a:pt x="23515" y="11309"/>
                  <a:pt x="23535" y="11331"/>
                </a:cubicBezTo>
                <a:cubicBezTo>
                  <a:pt x="23560" y="11359"/>
                  <a:pt x="23555" y="11373"/>
                  <a:pt x="23555" y="11410"/>
                </a:cubicBezTo>
              </a:path>
              <a:path w="1350" h="437">
                <a:moveTo>
                  <a:pt x="23773" y="11291"/>
                </a:moveTo>
                <a:cubicBezTo>
                  <a:pt x="23821" y="11291"/>
                  <a:pt x="23840" y="11299"/>
                  <a:pt x="23852" y="11251"/>
                </a:cubicBezTo>
                <a:cubicBezTo>
                  <a:pt x="23872" y="11251"/>
                  <a:pt x="23878" y="11251"/>
                  <a:pt x="23872" y="11232"/>
                </a:cubicBezTo>
              </a:path>
              <a:path w="1350" h="437">
                <a:moveTo>
                  <a:pt x="23892" y="11192"/>
                </a:moveTo>
                <a:cubicBezTo>
                  <a:pt x="23881" y="11150"/>
                  <a:pt x="23862" y="11159"/>
                  <a:pt x="23832" y="11132"/>
                </a:cubicBezTo>
                <a:cubicBezTo>
                  <a:pt x="23807" y="11110"/>
                  <a:pt x="23782" y="11083"/>
                  <a:pt x="23753" y="11073"/>
                </a:cubicBezTo>
                <a:cubicBezTo>
                  <a:pt x="23722" y="11063"/>
                  <a:pt x="23701" y="11102"/>
                  <a:pt x="23693" y="11112"/>
                </a:cubicBezTo>
                <a:cubicBezTo>
                  <a:pt x="23671" y="11142"/>
                  <a:pt x="23674" y="11154"/>
                  <a:pt x="23674" y="11192"/>
                </a:cubicBezTo>
                <a:cubicBezTo>
                  <a:pt x="23674" y="11264"/>
                  <a:pt x="23654" y="11225"/>
                  <a:pt x="23693" y="11291"/>
                </a:cubicBezTo>
                <a:cubicBezTo>
                  <a:pt x="23708" y="11317"/>
                  <a:pt x="23705" y="11318"/>
                  <a:pt x="23733" y="11331"/>
                </a:cubicBezTo>
                <a:cubicBezTo>
                  <a:pt x="23762" y="11345"/>
                  <a:pt x="23808" y="11338"/>
                  <a:pt x="23832" y="11351"/>
                </a:cubicBezTo>
                <a:cubicBezTo>
                  <a:pt x="23865" y="11368"/>
                  <a:pt x="23872" y="11370"/>
                  <a:pt x="23912" y="11370"/>
                </a:cubicBezTo>
                <a:cubicBezTo>
                  <a:pt x="23932" y="11370"/>
                  <a:pt x="23951" y="11370"/>
                  <a:pt x="23971" y="113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008920" y="4478400"/>
            <a:ext cx="514440" cy="379440"/>
          </a:xfrm>
          <a:custGeom>
            <a:avLst/>
            <a:gdLst/>
            <a:ahLst/>
            <a:rect l="l" t="t" r="r" b="b"/>
            <a:pathLst>
              <a:path w="1430" h="1053">
                <a:moveTo>
                  <a:pt x="23674" y="12442"/>
                </a:moveTo>
                <a:cubicBezTo>
                  <a:pt x="23674" y="12497"/>
                  <a:pt x="23668" y="12530"/>
                  <a:pt x="23654" y="12581"/>
                </a:cubicBezTo>
                <a:cubicBezTo>
                  <a:pt x="23640" y="12629"/>
                  <a:pt x="23609" y="12660"/>
                  <a:pt x="23594" y="12700"/>
                </a:cubicBezTo>
                <a:cubicBezTo>
                  <a:pt x="23574" y="12754"/>
                  <a:pt x="23561" y="12802"/>
                  <a:pt x="23535" y="12859"/>
                </a:cubicBezTo>
                <a:cubicBezTo>
                  <a:pt x="23520" y="12891"/>
                  <a:pt x="23495" y="12925"/>
                  <a:pt x="23475" y="12958"/>
                </a:cubicBezTo>
                <a:cubicBezTo>
                  <a:pt x="23458" y="12987"/>
                  <a:pt x="23433" y="13035"/>
                  <a:pt x="23416" y="13057"/>
                </a:cubicBezTo>
                <a:cubicBezTo>
                  <a:pt x="23392" y="13087"/>
                  <a:pt x="23374" y="13106"/>
                  <a:pt x="23356" y="13137"/>
                </a:cubicBezTo>
                <a:cubicBezTo>
                  <a:pt x="23344" y="13158"/>
                  <a:pt x="23329" y="13199"/>
                  <a:pt x="23316" y="13216"/>
                </a:cubicBezTo>
                <a:cubicBezTo>
                  <a:pt x="23289" y="13251"/>
                  <a:pt x="23258" y="13282"/>
                  <a:pt x="23237" y="13315"/>
                </a:cubicBezTo>
                <a:cubicBezTo>
                  <a:pt x="23185" y="13330"/>
                  <a:pt x="23190" y="13340"/>
                  <a:pt x="23138" y="13355"/>
                </a:cubicBezTo>
                <a:cubicBezTo>
                  <a:pt x="23119" y="13367"/>
                  <a:pt x="23120" y="13372"/>
                  <a:pt x="23078" y="13375"/>
                </a:cubicBezTo>
                <a:cubicBezTo>
                  <a:pt x="23019" y="13379"/>
                  <a:pt x="22959" y="13375"/>
                  <a:pt x="22900" y="13375"/>
                </a:cubicBezTo>
                <a:cubicBezTo>
                  <a:pt x="22887" y="13368"/>
                  <a:pt x="22833" y="13348"/>
                  <a:pt x="22800" y="13335"/>
                </a:cubicBezTo>
                <a:cubicBezTo>
                  <a:pt x="22773" y="13324"/>
                  <a:pt x="22726" y="13300"/>
                  <a:pt x="22701" y="13295"/>
                </a:cubicBezTo>
                <a:cubicBezTo>
                  <a:pt x="22681" y="13295"/>
                  <a:pt x="22675" y="13295"/>
                  <a:pt x="22662" y="13295"/>
                </a:cubicBezTo>
                <a:cubicBezTo>
                  <a:pt x="22645" y="13285"/>
                  <a:pt x="22635" y="13286"/>
                  <a:pt x="22602" y="13275"/>
                </a:cubicBezTo>
                <a:cubicBezTo>
                  <a:pt x="22573" y="13265"/>
                  <a:pt x="22556" y="13258"/>
                  <a:pt x="22523" y="13256"/>
                </a:cubicBezTo>
                <a:cubicBezTo>
                  <a:pt x="22464" y="13253"/>
                  <a:pt x="22403" y="13256"/>
                  <a:pt x="22344" y="13256"/>
                </a:cubicBezTo>
              </a:path>
              <a:path w="1430" h="1053">
                <a:moveTo>
                  <a:pt x="22562" y="13037"/>
                </a:moveTo>
                <a:cubicBezTo>
                  <a:pt x="22524" y="13047"/>
                  <a:pt x="22516" y="13076"/>
                  <a:pt x="22483" y="13097"/>
                </a:cubicBezTo>
                <a:cubicBezTo>
                  <a:pt x="22438" y="13126"/>
                  <a:pt x="22386" y="13151"/>
                  <a:pt x="22344" y="13176"/>
                </a:cubicBezTo>
                <a:cubicBezTo>
                  <a:pt x="22310" y="13196"/>
                  <a:pt x="22314" y="13241"/>
                  <a:pt x="22285" y="13256"/>
                </a:cubicBezTo>
                <a:cubicBezTo>
                  <a:pt x="22263" y="13267"/>
                  <a:pt x="22253" y="13292"/>
                  <a:pt x="22245" y="13315"/>
                </a:cubicBezTo>
                <a:cubicBezTo>
                  <a:pt x="22274" y="13344"/>
                  <a:pt x="22315" y="13394"/>
                  <a:pt x="22344" y="13414"/>
                </a:cubicBezTo>
                <a:cubicBezTo>
                  <a:pt x="22362" y="13427"/>
                  <a:pt x="22416" y="13468"/>
                  <a:pt x="22443" y="13474"/>
                </a:cubicBezTo>
                <a:cubicBezTo>
                  <a:pt x="22496" y="13485"/>
                  <a:pt x="22482" y="13464"/>
                  <a:pt x="22523" y="134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529240" y="4772160"/>
            <a:ext cx="1008000" cy="299880"/>
          </a:xfrm>
          <a:custGeom>
            <a:avLst/>
            <a:gdLst/>
            <a:ahLst/>
            <a:rect l="l" t="t" r="r" b="b"/>
            <a:pathLst>
              <a:path w="2799" h="834">
                <a:moveTo>
                  <a:pt x="15577" y="13514"/>
                </a:moveTo>
                <a:cubicBezTo>
                  <a:pt x="15531" y="13514"/>
                  <a:pt x="15473" y="13502"/>
                  <a:pt x="15438" y="13533"/>
                </a:cubicBezTo>
                <a:cubicBezTo>
                  <a:pt x="15415" y="13554"/>
                  <a:pt x="15388" y="13586"/>
                  <a:pt x="15379" y="13613"/>
                </a:cubicBezTo>
                <a:cubicBezTo>
                  <a:pt x="15365" y="13655"/>
                  <a:pt x="15359" y="13686"/>
                  <a:pt x="15359" y="13732"/>
                </a:cubicBezTo>
                <a:cubicBezTo>
                  <a:pt x="15359" y="13769"/>
                  <a:pt x="15354" y="13783"/>
                  <a:pt x="15379" y="13811"/>
                </a:cubicBezTo>
                <a:cubicBezTo>
                  <a:pt x="15401" y="13835"/>
                  <a:pt x="15449" y="13865"/>
                  <a:pt x="15478" y="13871"/>
                </a:cubicBezTo>
                <a:cubicBezTo>
                  <a:pt x="15564" y="13888"/>
                  <a:pt x="15668" y="13871"/>
                  <a:pt x="15756" y="13871"/>
                </a:cubicBezTo>
              </a:path>
              <a:path w="2799" h="834">
                <a:moveTo>
                  <a:pt x="15915" y="13256"/>
                </a:moveTo>
                <a:cubicBezTo>
                  <a:pt x="15915" y="13448"/>
                  <a:pt x="15915" y="13639"/>
                  <a:pt x="15915" y="13831"/>
                </a:cubicBezTo>
              </a:path>
              <a:path w="2799" h="834">
                <a:moveTo>
                  <a:pt x="16331" y="13633"/>
                </a:moveTo>
                <a:cubicBezTo>
                  <a:pt x="16331" y="13620"/>
                  <a:pt x="16331" y="13606"/>
                  <a:pt x="16331" y="13593"/>
                </a:cubicBezTo>
                <a:cubicBezTo>
                  <a:pt x="16301" y="13593"/>
                  <a:pt x="16248" y="13580"/>
                  <a:pt x="16232" y="13613"/>
                </a:cubicBezTo>
                <a:cubicBezTo>
                  <a:pt x="16222" y="13633"/>
                  <a:pt x="16195" y="13666"/>
                  <a:pt x="16192" y="13672"/>
                </a:cubicBezTo>
                <a:cubicBezTo>
                  <a:pt x="16171" y="13713"/>
                  <a:pt x="16201" y="13779"/>
                  <a:pt x="16212" y="13811"/>
                </a:cubicBezTo>
                <a:cubicBezTo>
                  <a:pt x="16223" y="13845"/>
                  <a:pt x="16255" y="13831"/>
                  <a:pt x="16292" y="13831"/>
                </a:cubicBezTo>
                <a:cubicBezTo>
                  <a:pt x="16331" y="13831"/>
                  <a:pt x="16339" y="13800"/>
                  <a:pt x="16351" y="13772"/>
                </a:cubicBezTo>
                <a:cubicBezTo>
                  <a:pt x="16365" y="13739"/>
                  <a:pt x="16387" y="13704"/>
                  <a:pt x="16391" y="13672"/>
                </a:cubicBezTo>
                <a:cubicBezTo>
                  <a:pt x="16393" y="13653"/>
                  <a:pt x="16391" y="13632"/>
                  <a:pt x="16391" y="13613"/>
                </a:cubicBezTo>
              </a:path>
              <a:path w="2799" h="834">
                <a:moveTo>
                  <a:pt x="17125" y="13335"/>
                </a:moveTo>
                <a:cubicBezTo>
                  <a:pt x="17150" y="13377"/>
                  <a:pt x="17149" y="13409"/>
                  <a:pt x="17165" y="13454"/>
                </a:cubicBezTo>
                <a:cubicBezTo>
                  <a:pt x="17171" y="13472"/>
                  <a:pt x="17176" y="13537"/>
                  <a:pt x="17185" y="13553"/>
                </a:cubicBezTo>
                <a:cubicBezTo>
                  <a:pt x="17204" y="13586"/>
                  <a:pt x="17205" y="13592"/>
                  <a:pt x="17205" y="13633"/>
                </a:cubicBezTo>
                <a:cubicBezTo>
                  <a:pt x="17205" y="13785"/>
                  <a:pt x="17205" y="13937"/>
                  <a:pt x="17205" y="14089"/>
                </a:cubicBezTo>
              </a:path>
              <a:path w="2799" h="834">
                <a:moveTo>
                  <a:pt x="17205" y="13593"/>
                </a:moveTo>
                <a:cubicBezTo>
                  <a:pt x="17220" y="13577"/>
                  <a:pt x="17280" y="13523"/>
                  <a:pt x="17284" y="13514"/>
                </a:cubicBezTo>
                <a:cubicBezTo>
                  <a:pt x="17306" y="13463"/>
                  <a:pt x="17319" y="13443"/>
                  <a:pt x="17363" y="13395"/>
                </a:cubicBezTo>
                <a:cubicBezTo>
                  <a:pt x="17386" y="13370"/>
                  <a:pt x="17395" y="13365"/>
                  <a:pt x="17403" y="13335"/>
                </a:cubicBezTo>
              </a:path>
              <a:path w="2799" h="834">
                <a:moveTo>
                  <a:pt x="17244" y="13732"/>
                </a:moveTo>
                <a:cubicBezTo>
                  <a:pt x="17256" y="13780"/>
                  <a:pt x="17301" y="13787"/>
                  <a:pt x="17343" y="13811"/>
                </a:cubicBezTo>
                <a:cubicBezTo>
                  <a:pt x="17388" y="13837"/>
                  <a:pt x="17439" y="13861"/>
                  <a:pt x="17482" y="13891"/>
                </a:cubicBezTo>
                <a:cubicBezTo>
                  <a:pt x="17537" y="13928"/>
                  <a:pt x="17462" y="13917"/>
                  <a:pt x="17542" y="13930"/>
                </a:cubicBezTo>
              </a:path>
              <a:path w="2799" h="834">
                <a:moveTo>
                  <a:pt x="16927" y="13633"/>
                </a:moveTo>
                <a:cubicBezTo>
                  <a:pt x="16874" y="13633"/>
                  <a:pt x="16814" y="13645"/>
                  <a:pt x="16788" y="13652"/>
                </a:cubicBezTo>
                <a:cubicBezTo>
                  <a:pt x="16732" y="13667"/>
                  <a:pt x="16754" y="13657"/>
                  <a:pt x="16728" y="13692"/>
                </a:cubicBezTo>
                <a:cubicBezTo>
                  <a:pt x="16701" y="13728"/>
                  <a:pt x="16681" y="13744"/>
                  <a:pt x="16669" y="13791"/>
                </a:cubicBezTo>
                <a:cubicBezTo>
                  <a:pt x="16659" y="13831"/>
                  <a:pt x="16670" y="13857"/>
                  <a:pt x="16689" y="13871"/>
                </a:cubicBezTo>
                <a:cubicBezTo>
                  <a:pt x="16719" y="13894"/>
                  <a:pt x="16729" y="13891"/>
                  <a:pt x="16768" y="13891"/>
                </a:cubicBezTo>
                <a:cubicBezTo>
                  <a:pt x="16809" y="13891"/>
                  <a:pt x="16835" y="13897"/>
                  <a:pt x="16867" y="13871"/>
                </a:cubicBezTo>
                <a:cubicBezTo>
                  <a:pt x="16900" y="13845"/>
                  <a:pt x="16906" y="13843"/>
                  <a:pt x="16927" y="13811"/>
                </a:cubicBezTo>
                <a:cubicBezTo>
                  <a:pt x="16950" y="13777"/>
                  <a:pt x="16947" y="13754"/>
                  <a:pt x="16947" y="13712"/>
                </a:cubicBezTo>
                <a:cubicBezTo>
                  <a:pt x="16977" y="13743"/>
                  <a:pt x="16995" y="13768"/>
                  <a:pt x="17006" y="13811"/>
                </a:cubicBezTo>
                <a:cubicBezTo>
                  <a:pt x="17021" y="13869"/>
                  <a:pt x="16989" y="13921"/>
                  <a:pt x="17026" y="13970"/>
                </a:cubicBezTo>
              </a:path>
              <a:path w="2799" h="834">
                <a:moveTo>
                  <a:pt x="17542" y="13652"/>
                </a:moveTo>
                <a:cubicBezTo>
                  <a:pt x="17542" y="13646"/>
                  <a:pt x="17542" y="13639"/>
                  <a:pt x="17542" y="13633"/>
                </a:cubicBezTo>
                <a:cubicBezTo>
                  <a:pt x="17581" y="13633"/>
                  <a:pt x="17629" y="13629"/>
                  <a:pt x="17661" y="13613"/>
                </a:cubicBezTo>
                <a:cubicBezTo>
                  <a:pt x="17684" y="13601"/>
                  <a:pt x="17720" y="13604"/>
                  <a:pt x="17740" y="13593"/>
                </a:cubicBezTo>
                <a:cubicBezTo>
                  <a:pt x="17780" y="13571"/>
                  <a:pt x="17766" y="13573"/>
                  <a:pt x="17820" y="13573"/>
                </a:cubicBezTo>
                <a:cubicBezTo>
                  <a:pt x="17830" y="13542"/>
                  <a:pt x="17851" y="13551"/>
                  <a:pt x="17879" y="13533"/>
                </a:cubicBezTo>
                <a:cubicBezTo>
                  <a:pt x="17911" y="13513"/>
                  <a:pt x="17949" y="13514"/>
                  <a:pt x="17978" y="13494"/>
                </a:cubicBezTo>
                <a:cubicBezTo>
                  <a:pt x="17996" y="13476"/>
                  <a:pt x="18000" y="13469"/>
                  <a:pt x="18018" y="13474"/>
                </a:cubicBezTo>
              </a:path>
              <a:path w="2799" h="834">
                <a:moveTo>
                  <a:pt x="17840" y="13315"/>
                </a:moveTo>
                <a:cubicBezTo>
                  <a:pt x="17913" y="13315"/>
                  <a:pt x="17976" y="13314"/>
                  <a:pt x="18038" y="13335"/>
                </a:cubicBezTo>
                <a:cubicBezTo>
                  <a:pt x="18066" y="13344"/>
                  <a:pt x="18091" y="13344"/>
                  <a:pt x="18117" y="13355"/>
                </a:cubicBezTo>
                <a:cubicBezTo>
                  <a:pt x="18128" y="13360"/>
                  <a:pt x="18191" y="13407"/>
                  <a:pt x="18157" y="13434"/>
                </a:cubicBezTo>
                <a:cubicBezTo>
                  <a:pt x="18128" y="13457"/>
                  <a:pt x="18101" y="13469"/>
                  <a:pt x="18078" y="13514"/>
                </a:cubicBezTo>
                <a:cubicBezTo>
                  <a:pt x="18063" y="13545"/>
                  <a:pt x="18043" y="13582"/>
                  <a:pt x="18018" y="13613"/>
                </a:cubicBezTo>
                <a:cubicBezTo>
                  <a:pt x="17996" y="13640"/>
                  <a:pt x="17990" y="13662"/>
                  <a:pt x="17978" y="13692"/>
                </a:cubicBezTo>
                <a:cubicBezTo>
                  <a:pt x="17963" y="13729"/>
                  <a:pt x="17966" y="13763"/>
                  <a:pt x="17939" y="1377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57320" y="2100240"/>
            <a:ext cx="714240" cy="328680"/>
          </a:xfrm>
          <a:custGeom>
            <a:avLst/>
            <a:gdLst/>
            <a:ahLst/>
            <a:rect l="l" t="t" r="r" b="b"/>
            <a:pathLst>
              <a:path w="1985" h="914">
                <a:moveTo>
                  <a:pt x="635" y="6152"/>
                </a:moveTo>
                <a:cubicBezTo>
                  <a:pt x="629" y="6193"/>
                  <a:pt x="615" y="6210"/>
                  <a:pt x="615" y="6251"/>
                </a:cubicBezTo>
                <a:cubicBezTo>
                  <a:pt x="615" y="6273"/>
                  <a:pt x="606" y="6330"/>
                  <a:pt x="595" y="6350"/>
                </a:cubicBezTo>
                <a:cubicBezTo>
                  <a:pt x="577" y="6383"/>
                  <a:pt x="575" y="6389"/>
                  <a:pt x="575" y="6429"/>
                </a:cubicBezTo>
                <a:cubicBezTo>
                  <a:pt x="575" y="6522"/>
                  <a:pt x="575" y="6614"/>
                  <a:pt x="575" y="6707"/>
                </a:cubicBezTo>
              </a:path>
              <a:path w="1985" h="914">
                <a:moveTo>
                  <a:pt x="437" y="6132"/>
                </a:moveTo>
                <a:cubicBezTo>
                  <a:pt x="565" y="6132"/>
                  <a:pt x="732" y="6105"/>
                  <a:pt x="853" y="6152"/>
                </a:cubicBezTo>
                <a:cubicBezTo>
                  <a:pt x="910" y="6174"/>
                  <a:pt x="955" y="6215"/>
                  <a:pt x="1012" y="6231"/>
                </a:cubicBezTo>
                <a:cubicBezTo>
                  <a:pt x="1025" y="6231"/>
                  <a:pt x="1039" y="6231"/>
                  <a:pt x="1052" y="6231"/>
                </a:cubicBezTo>
              </a:path>
              <a:path w="1985" h="914">
                <a:moveTo>
                  <a:pt x="853" y="6429"/>
                </a:moveTo>
                <a:cubicBezTo>
                  <a:pt x="853" y="6518"/>
                  <a:pt x="849" y="6609"/>
                  <a:pt x="873" y="6687"/>
                </a:cubicBezTo>
                <a:cubicBezTo>
                  <a:pt x="885" y="6727"/>
                  <a:pt x="912" y="6727"/>
                  <a:pt x="952" y="6727"/>
                </a:cubicBezTo>
                <a:cubicBezTo>
                  <a:pt x="1014" y="6727"/>
                  <a:pt x="1073" y="6746"/>
                  <a:pt x="1111" y="6687"/>
                </a:cubicBezTo>
                <a:cubicBezTo>
                  <a:pt x="1130" y="6657"/>
                  <a:pt x="1131" y="6626"/>
                  <a:pt x="1151" y="6608"/>
                </a:cubicBezTo>
                <a:cubicBezTo>
                  <a:pt x="1182" y="6581"/>
                  <a:pt x="1171" y="6546"/>
                  <a:pt x="1171" y="6509"/>
                </a:cubicBezTo>
                <a:cubicBezTo>
                  <a:pt x="1171" y="6489"/>
                  <a:pt x="1171" y="6469"/>
                  <a:pt x="1171" y="6449"/>
                </a:cubicBezTo>
              </a:path>
              <a:path w="1985" h="914">
                <a:moveTo>
                  <a:pt x="1389" y="6489"/>
                </a:moveTo>
                <a:cubicBezTo>
                  <a:pt x="1381" y="6522"/>
                  <a:pt x="1355" y="6558"/>
                  <a:pt x="1349" y="6588"/>
                </a:cubicBezTo>
                <a:cubicBezTo>
                  <a:pt x="1341" y="6626"/>
                  <a:pt x="1330" y="6649"/>
                  <a:pt x="1330" y="6687"/>
                </a:cubicBezTo>
                <a:cubicBezTo>
                  <a:pt x="1330" y="6707"/>
                  <a:pt x="1330" y="6714"/>
                  <a:pt x="1330" y="6727"/>
                </a:cubicBezTo>
                <a:cubicBezTo>
                  <a:pt x="1330" y="6788"/>
                  <a:pt x="1330" y="6680"/>
                  <a:pt x="1330" y="6668"/>
                </a:cubicBezTo>
                <a:cubicBezTo>
                  <a:pt x="1330" y="6595"/>
                  <a:pt x="1330" y="6522"/>
                  <a:pt x="1330" y="6449"/>
                </a:cubicBezTo>
                <a:cubicBezTo>
                  <a:pt x="1374" y="6449"/>
                  <a:pt x="1356" y="6433"/>
                  <a:pt x="1389" y="6429"/>
                </a:cubicBezTo>
                <a:cubicBezTo>
                  <a:pt x="1421" y="6425"/>
                  <a:pt x="1433" y="6410"/>
                  <a:pt x="1468" y="6410"/>
                </a:cubicBezTo>
                <a:cubicBezTo>
                  <a:pt x="1501" y="6410"/>
                  <a:pt x="1491" y="6440"/>
                  <a:pt x="1508" y="6449"/>
                </a:cubicBezTo>
                <a:cubicBezTo>
                  <a:pt x="1536" y="6463"/>
                  <a:pt x="1528" y="6470"/>
                  <a:pt x="1528" y="6509"/>
                </a:cubicBezTo>
                <a:cubicBezTo>
                  <a:pt x="1528" y="6566"/>
                  <a:pt x="1510" y="6664"/>
                  <a:pt x="1548" y="6707"/>
                </a:cubicBezTo>
                <a:cubicBezTo>
                  <a:pt x="1555" y="6714"/>
                  <a:pt x="1561" y="6720"/>
                  <a:pt x="1568" y="6727"/>
                </a:cubicBezTo>
              </a:path>
              <a:path w="1985" h="914">
                <a:moveTo>
                  <a:pt x="1786" y="6449"/>
                </a:moveTo>
                <a:cubicBezTo>
                  <a:pt x="1786" y="6548"/>
                  <a:pt x="1786" y="6648"/>
                  <a:pt x="1786" y="6747"/>
                </a:cubicBezTo>
              </a:path>
              <a:path w="1985" h="914">
                <a:moveTo>
                  <a:pt x="1786" y="6251"/>
                </a:moveTo>
                <a:lnTo>
                  <a:pt x="1786" y="6251"/>
                </a:lnTo>
              </a:path>
              <a:path w="1985" h="914">
                <a:moveTo>
                  <a:pt x="2282" y="6410"/>
                </a:moveTo>
                <a:cubicBezTo>
                  <a:pt x="2246" y="6410"/>
                  <a:pt x="2235" y="6413"/>
                  <a:pt x="2222" y="6390"/>
                </a:cubicBezTo>
                <a:cubicBezTo>
                  <a:pt x="2195" y="6411"/>
                  <a:pt x="2170" y="6433"/>
                  <a:pt x="2163" y="6449"/>
                </a:cubicBezTo>
                <a:cubicBezTo>
                  <a:pt x="2153" y="6473"/>
                  <a:pt x="2134" y="6476"/>
                  <a:pt x="2123" y="6509"/>
                </a:cubicBezTo>
                <a:cubicBezTo>
                  <a:pt x="2114" y="6535"/>
                  <a:pt x="2092" y="6532"/>
                  <a:pt x="2084" y="6548"/>
                </a:cubicBezTo>
                <a:cubicBezTo>
                  <a:pt x="2071" y="6575"/>
                  <a:pt x="2064" y="6568"/>
                  <a:pt x="2064" y="6608"/>
                </a:cubicBezTo>
                <a:cubicBezTo>
                  <a:pt x="2064" y="6628"/>
                  <a:pt x="2064" y="6635"/>
                  <a:pt x="2064" y="6648"/>
                </a:cubicBezTo>
                <a:cubicBezTo>
                  <a:pt x="2183" y="6648"/>
                  <a:pt x="2302" y="6648"/>
                  <a:pt x="2421" y="6648"/>
                </a:cubicBezTo>
              </a:path>
              <a:path w="1985" h="914">
                <a:moveTo>
                  <a:pt x="2004" y="6072"/>
                </a:moveTo>
                <a:cubicBezTo>
                  <a:pt x="2032" y="6050"/>
                  <a:pt x="2049" y="6039"/>
                  <a:pt x="2084" y="6032"/>
                </a:cubicBezTo>
                <a:cubicBezTo>
                  <a:pt x="2101" y="6007"/>
                  <a:pt x="2133" y="6013"/>
                  <a:pt x="2163" y="5993"/>
                </a:cubicBezTo>
                <a:cubicBezTo>
                  <a:pt x="2192" y="5974"/>
                  <a:pt x="2187" y="5973"/>
                  <a:pt x="2222" y="5973"/>
                </a:cubicBezTo>
                <a:cubicBezTo>
                  <a:pt x="2231" y="5946"/>
                  <a:pt x="2233" y="5955"/>
                  <a:pt x="2262" y="5933"/>
                </a:cubicBezTo>
              </a:path>
              <a:path w="1985" h="914">
                <a:moveTo>
                  <a:pt x="2044" y="5834"/>
                </a:moveTo>
                <a:cubicBezTo>
                  <a:pt x="2150" y="5834"/>
                  <a:pt x="2255" y="5834"/>
                  <a:pt x="2361" y="5834"/>
                </a:cubicBezTo>
                <a:cubicBezTo>
                  <a:pt x="2361" y="5907"/>
                  <a:pt x="2361" y="5979"/>
                  <a:pt x="2361" y="6052"/>
                </a:cubicBezTo>
                <a:cubicBezTo>
                  <a:pt x="2332" y="6062"/>
                  <a:pt x="2342" y="6077"/>
                  <a:pt x="2342" y="6112"/>
                </a:cubicBezTo>
                <a:cubicBezTo>
                  <a:pt x="2342" y="6119"/>
                  <a:pt x="2342" y="6125"/>
                  <a:pt x="2342" y="61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 descr="Peasants"/>
          <p:cNvPicPr/>
          <p:nvPr/>
        </p:nvPicPr>
        <p:blipFill>
          <a:blip r:embed="rId4"/>
          <a:stretch/>
        </p:blipFill>
        <p:spPr>
          <a:xfrm>
            <a:off x="1143000" y="4038480"/>
            <a:ext cx="1204920" cy="2543400"/>
          </a:xfrm>
          <a:prstGeom prst="rect">
            <a:avLst/>
          </a:prstGeom>
          <a:ln w="0">
            <a:noFill/>
          </a:ln>
        </p:spPr>
      </p:pic>
      <p:sp>
        <p:nvSpPr>
          <p:cNvPr id="66" name=""/>
          <p:cNvSpPr/>
          <p:nvPr/>
        </p:nvSpPr>
        <p:spPr>
          <a:xfrm>
            <a:off x="2585880" y="4386240"/>
            <a:ext cx="1008360" cy="528840"/>
          </a:xfrm>
          <a:custGeom>
            <a:avLst/>
            <a:gdLst/>
            <a:ahLst/>
            <a:rect l="l" t="t" r="r" b="b"/>
            <a:pathLst>
              <a:path w="2799" h="1469">
                <a:moveTo>
                  <a:pt x="7183" y="12502"/>
                </a:moveTo>
                <a:cubicBezTo>
                  <a:pt x="7222" y="12511"/>
                  <a:pt x="7243" y="12536"/>
                  <a:pt x="7263" y="12561"/>
                </a:cubicBezTo>
                <a:cubicBezTo>
                  <a:pt x="7285" y="12589"/>
                  <a:pt x="7322" y="12649"/>
                  <a:pt x="7342" y="12660"/>
                </a:cubicBezTo>
                <a:cubicBezTo>
                  <a:pt x="7356" y="12668"/>
                  <a:pt x="7390" y="12676"/>
                  <a:pt x="7402" y="12700"/>
                </a:cubicBezTo>
                <a:cubicBezTo>
                  <a:pt x="7413" y="12721"/>
                  <a:pt x="7426" y="12736"/>
                  <a:pt x="7461" y="12740"/>
                </a:cubicBezTo>
                <a:cubicBezTo>
                  <a:pt x="7466" y="12741"/>
                  <a:pt x="7518" y="12704"/>
                  <a:pt x="7521" y="12700"/>
                </a:cubicBezTo>
                <a:cubicBezTo>
                  <a:pt x="7541" y="12670"/>
                  <a:pt x="7553" y="12653"/>
                  <a:pt x="7580" y="12621"/>
                </a:cubicBezTo>
                <a:cubicBezTo>
                  <a:pt x="7605" y="12591"/>
                  <a:pt x="7634" y="12578"/>
                  <a:pt x="7660" y="12561"/>
                </a:cubicBezTo>
                <a:cubicBezTo>
                  <a:pt x="7678" y="12543"/>
                  <a:pt x="7681" y="12537"/>
                  <a:pt x="7699" y="12541"/>
                </a:cubicBezTo>
                <a:cubicBezTo>
                  <a:pt x="7699" y="12605"/>
                  <a:pt x="7701" y="12647"/>
                  <a:pt x="7719" y="12700"/>
                </a:cubicBezTo>
                <a:cubicBezTo>
                  <a:pt x="7723" y="12713"/>
                  <a:pt x="7738" y="12749"/>
                  <a:pt x="7759" y="12760"/>
                </a:cubicBezTo>
                <a:cubicBezTo>
                  <a:pt x="7784" y="12772"/>
                  <a:pt x="7809" y="12748"/>
                  <a:pt x="7818" y="12740"/>
                </a:cubicBezTo>
                <a:cubicBezTo>
                  <a:pt x="7838" y="12722"/>
                  <a:pt x="7846" y="12686"/>
                  <a:pt x="7858" y="12680"/>
                </a:cubicBezTo>
                <a:cubicBezTo>
                  <a:pt x="7885" y="12666"/>
                  <a:pt x="7914" y="12637"/>
                  <a:pt x="7918" y="12601"/>
                </a:cubicBezTo>
                <a:cubicBezTo>
                  <a:pt x="7922" y="12568"/>
                  <a:pt x="7938" y="12558"/>
                  <a:pt x="7938" y="12521"/>
                </a:cubicBezTo>
                <a:cubicBezTo>
                  <a:pt x="7938" y="12460"/>
                  <a:pt x="7946" y="12397"/>
                  <a:pt x="7957" y="12363"/>
                </a:cubicBezTo>
                <a:cubicBezTo>
                  <a:pt x="7972" y="12316"/>
                  <a:pt x="7944" y="12286"/>
                  <a:pt x="7977" y="12244"/>
                </a:cubicBezTo>
              </a:path>
              <a:path w="2799" h="1469">
                <a:moveTo>
                  <a:pt x="8235" y="12581"/>
                </a:moveTo>
                <a:cubicBezTo>
                  <a:pt x="8204" y="12581"/>
                  <a:pt x="8165" y="12582"/>
                  <a:pt x="8156" y="12601"/>
                </a:cubicBezTo>
                <a:cubicBezTo>
                  <a:pt x="8132" y="12649"/>
                  <a:pt x="8165" y="12735"/>
                  <a:pt x="8176" y="12779"/>
                </a:cubicBezTo>
                <a:cubicBezTo>
                  <a:pt x="8181" y="12798"/>
                  <a:pt x="8210" y="12811"/>
                  <a:pt x="8235" y="12819"/>
                </a:cubicBezTo>
                <a:cubicBezTo>
                  <a:pt x="8277" y="12833"/>
                  <a:pt x="8339" y="12819"/>
                  <a:pt x="8354" y="12799"/>
                </a:cubicBezTo>
                <a:cubicBezTo>
                  <a:pt x="8386" y="12757"/>
                  <a:pt x="8394" y="12758"/>
                  <a:pt x="8394" y="12700"/>
                </a:cubicBezTo>
                <a:cubicBezTo>
                  <a:pt x="8394" y="12639"/>
                  <a:pt x="8408" y="12631"/>
                  <a:pt x="8354" y="12601"/>
                </a:cubicBezTo>
                <a:cubicBezTo>
                  <a:pt x="8301" y="12571"/>
                  <a:pt x="8316" y="12567"/>
                  <a:pt x="8255" y="12541"/>
                </a:cubicBezTo>
              </a:path>
              <a:path w="2799" h="1469">
                <a:moveTo>
                  <a:pt x="8751" y="12541"/>
                </a:moveTo>
                <a:cubicBezTo>
                  <a:pt x="8734" y="12535"/>
                  <a:pt x="8720" y="12505"/>
                  <a:pt x="8692" y="12521"/>
                </a:cubicBezTo>
                <a:cubicBezTo>
                  <a:pt x="8648" y="12546"/>
                  <a:pt x="8669" y="12571"/>
                  <a:pt x="8652" y="12601"/>
                </a:cubicBezTo>
                <a:cubicBezTo>
                  <a:pt x="8627" y="12645"/>
                  <a:pt x="8632" y="12640"/>
                  <a:pt x="8672" y="12680"/>
                </a:cubicBezTo>
                <a:cubicBezTo>
                  <a:pt x="8698" y="12706"/>
                  <a:pt x="8717" y="12725"/>
                  <a:pt x="8751" y="12740"/>
                </a:cubicBezTo>
                <a:cubicBezTo>
                  <a:pt x="8762" y="12745"/>
                  <a:pt x="8833" y="12770"/>
                  <a:pt x="8850" y="12760"/>
                </a:cubicBezTo>
                <a:cubicBezTo>
                  <a:pt x="8885" y="12741"/>
                  <a:pt x="8890" y="12715"/>
                  <a:pt x="8890" y="12680"/>
                </a:cubicBezTo>
                <a:cubicBezTo>
                  <a:pt x="8890" y="12639"/>
                  <a:pt x="8889" y="12634"/>
                  <a:pt x="8870" y="12601"/>
                </a:cubicBezTo>
                <a:cubicBezTo>
                  <a:pt x="8842" y="12551"/>
                  <a:pt x="8830" y="12551"/>
                  <a:pt x="8791" y="12521"/>
                </a:cubicBezTo>
              </a:path>
              <a:path w="2799" h="1469">
                <a:moveTo>
                  <a:pt x="9208" y="12184"/>
                </a:moveTo>
                <a:cubicBezTo>
                  <a:pt x="9208" y="12269"/>
                  <a:pt x="9208" y="12343"/>
                  <a:pt x="9188" y="12422"/>
                </a:cubicBezTo>
                <a:cubicBezTo>
                  <a:pt x="9181" y="12451"/>
                  <a:pt x="9196" y="12500"/>
                  <a:pt x="9208" y="12521"/>
                </a:cubicBezTo>
                <a:cubicBezTo>
                  <a:pt x="9231" y="12560"/>
                  <a:pt x="9256" y="12595"/>
                  <a:pt x="9267" y="12640"/>
                </a:cubicBezTo>
                <a:cubicBezTo>
                  <a:pt x="9275" y="12671"/>
                  <a:pt x="9278" y="12692"/>
                  <a:pt x="9287" y="12720"/>
                </a:cubicBezTo>
                <a:cubicBezTo>
                  <a:pt x="9287" y="12740"/>
                  <a:pt x="9287" y="12747"/>
                  <a:pt x="9287" y="12760"/>
                </a:cubicBezTo>
              </a:path>
              <a:path w="2799" h="1469">
                <a:moveTo>
                  <a:pt x="7739" y="13256"/>
                </a:moveTo>
                <a:cubicBezTo>
                  <a:pt x="7696" y="13256"/>
                  <a:pt x="7682" y="13265"/>
                  <a:pt x="7640" y="13275"/>
                </a:cubicBezTo>
                <a:cubicBezTo>
                  <a:pt x="7590" y="13287"/>
                  <a:pt x="7566" y="13332"/>
                  <a:pt x="7521" y="13355"/>
                </a:cubicBezTo>
                <a:cubicBezTo>
                  <a:pt x="7501" y="13365"/>
                  <a:pt x="7483" y="13367"/>
                  <a:pt x="7481" y="13395"/>
                </a:cubicBezTo>
                <a:cubicBezTo>
                  <a:pt x="7477" y="13446"/>
                  <a:pt x="7474" y="13509"/>
                  <a:pt x="7501" y="13553"/>
                </a:cubicBezTo>
                <a:cubicBezTo>
                  <a:pt x="7520" y="13583"/>
                  <a:pt x="7550" y="13622"/>
                  <a:pt x="7580" y="13633"/>
                </a:cubicBezTo>
                <a:cubicBezTo>
                  <a:pt x="7602" y="13641"/>
                  <a:pt x="7638" y="13650"/>
                  <a:pt x="7660" y="13652"/>
                </a:cubicBezTo>
                <a:cubicBezTo>
                  <a:pt x="7704" y="13657"/>
                  <a:pt x="7853" y="13672"/>
                  <a:pt x="7878" y="13633"/>
                </a:cubicBezTo>
                <a:cubicBezTo>
                  <a:pt x="7895" y="13606"/>
                  <a:pt x="7892" y="13567"/>
                  <a:pt x="7918" y="13533"/>
                </a:cubicBezTo>
                <a:cubicBezTo>
                  <a:pt x="7945" y="13498"/>
                  <a:pt x="7957" y="13479"/>
                  <a:pt x="7957" y="13434"/>
                </a:cubicBezTo>
                <a:cubicBezTo>
                  <a:pt x="7957" y="13390"/>
                  <a:pt x="7977" y="13270"/>
                  <a:pt x="7938" y="13236"/>
                </a:cubicBezTo>
                <a:cubicBezTo>
                  <a:pt x="7915" y="13216"/>
                  <a:pt x="7874" y="13196"/>
                  <a:pt x="7838" y="13196"/>
                </a:cubicBezTo>
                <a:cubicBezTo>
                  <a:pt x="7796" y="13196"/>
                  <a:pt x="7761" y="13176"/>
                  <a:pt x="7719" y="13176"/>
                </a:cubicBezTo>
                <a:cubicBezTo>
                  <a:pt x="7672" y="13176"/>
                  <a:pt x="7636" y="13169"/>
                  <a:pt x="7600" y="13196"/>
                </a:cubicBezTo>
              </a:path>
              <a:path w="2799" h="1469">
                <a:moveTo>
                  <a:pt x="8195" y="13395"/>
                </a:moveTo>
                <a:cubicBezTo>
                  <a:pt x="8204" y="13430"/>
                  <a:pt x="8225" y="13455"/>
                  <a:pt x="8235" y="13494"/>
                </a:cubicBezTo>
                <a:cubicBezTo>
                  <a:pt x="8240" y="13513"/>
                  <a:pt x="8261" y="13532"/>
                  <a:pt x="8275" y="13553"/>
                </a:cubicBezTo>
                <a:cubicBezTo>
                  <a:pt x="8296" y="13584"/>
                  <a:pt x="8320" y="13615"/>
                  <a:pt x="8334" y="13633"/>
                </a:cubicBezTo>
                <a:cubicBezTo>
                  <a:pt x="8355" y="13661"/>
                  <a:pt x="8383" y="13652"/>
                  <a:pt x="8414" y="13652"/>
                </a:cubicBezTo>
                <a:cubicBezTo>
                  <a:pt x="8453" y="13652"/>
                  <a:pt x="8524" y="13665"/>
                  <a:pt x="8553" y="13633"/>
                </a:cubicBezTo>
                <a:cubicBezTo>
                  <a:pt x="8579" y="13604"/>
                  <a:pt x="8592" y="13570"/>
                  <a:pt x="8592" y="13533"/>
                </a:cubicBezTo>
                <a:cubicBezTo>
                  <a:pt x="8592" y="13489"/>
                  <a:pt x="8583" y="13476"/>
                  <a:pt x="8572" y="13434"/>
                </a:cubicBezTo>
                <a:cubicBezTo>
                  <a:pt x="8565" y="13408"/>
                  <a:pt x="8541" y="13396"/>
                  <a:pt x="8533" y="13355"/>
                </a:cubicBezTo>
              </a:path>
              <a:path w="2799" h="1469">
                <a:moveTo>
                  <a:pt x="8930" y="13077"/>
                </a:moveTo>
                <a:cubicBezTo>
                  <a:pt x="8930" y="13130"/>
                  <a:pt x="8924" y="13135"/>
                  <a:pt x="8910" y="13176"/>
                </a:cubicBezTo>
                <a:cubicBezTo>
                  <a:pt x="8901" y="13202"/>
                  <a:pt x="8898" y="13232"/>
                  <a:pt x="8890" y="13256"/>
                </a:cubicBezTo>
                <a:cubicBezTo>
                  <a:pt x="8881" y="13281"/>
                  <a:pt x="8876" y="13330"/>
                  <a:pt x="8870" y="13355"/>
                </a:cubicBezTo>
                <a:cubicBezTo>
                  <a:pt x="8850" y="13434"/>
                  <a:pt x="8874" y="13520"/>
                  <a:pt x="8850" y="13593"/>
                </a:cubicBezTo>
                <a:cubicBezTo>
                  <a:pt x="8850" y="13613"/>
                  <a:pt x="8850" y="13620"/>
                  <a:pt x="8850" y="13633"/>
                </a:cubicBezTo>
              </a:path>
              <a:path w="2799" h="1469">
                <a:moveTo>
                  <a:pt x="8711" y="13315"/>
                </a:moveTo>
                <a:cubicBezTo>
                  <a:pt x="8857" y="13315"/>
                  <a:pt x="9002" y="13315"/>
                  <a:pt x="9148" y="13315"/>
                </a:cubicBezTo>
              </a:path>
              <a:path w="2799" h="1469">
                <a:moveTo>
                  <a:pt x="9208" y="13553"/>
                </a:moveTo>
                <a:cubicBezTo>
                  <a:pt x="9252" y="13553"/>
                  <a:pt x="9403" y="13577"/>
                  <a:pt x="9426" y="13533"/>
                </a:cubicBezTo>
                <a:cubicBezTo>
                  <a:pt x="9437" y="13512"/>
                  <a:pt x="9444" y="13468"/>
                  <a:pt x="9446" y="13454"/>
                </a:cubicBezTo>
                <a:cubicBezTo>
                  <a:pt x="9453" y="13395"/>
                  <a:pt x="9402" y="13433"/>
                  <a:pt x="9386" y="13414"/>
                </a:cubicBezTo>
                <a:cubicBezTo>
                  <a:pt x="9368" y="13393"/>
                  <a:pt x="9368" y="13395"/>
                  <a:pt x="9327" y="13395"/>
                </a:cubicBezTo>
                <a:cubicBezTo>
                  <a:pt x="9291" y="13395"/>
                  <a:pt x="9269" y="13400"/>
                  <a:pt x="9247" y="13434"/>
                </a:cubicBezTo>
                <a:cubicBezTo>
                  <a:pt x="9230" y="13460"/>
                  <a:pt x="9212" y="13522"/>
                  <a:pt x="9227" y="13553"/>
                </a:cubicBezTo>
                <a:cubicBezTo>
                  <a:pt x="9248" y="13595"/>
                  <a:pt x="9294" y="13559"/>
                  <a:pt x="9327" y="13573"/>
                </a:cubicBezTo>
                <a:cubicBezTo>
                  <a:pt x="9357" y="13586"/>
                  <a:pt x="9371" y="13609"/>
                  <a:pt x="9406" y="13613"/>
                </a:cubicBezTo>
                <a:cubicBezTo>
                  <a:pt x="9434" y="13616"/>
                  <a:pt x="9438" y="13633"/>
                  <a:pt x="9485" y="13633"/>
                </a:cubicBezTo>
                <a:cubicBezTo>
                  <a:pt x="9525" y="13633"/>
                  <a:pt x="9564" y="13633"/>
                  <a:pt x="9604" y="13633"/>
                </a:cubicBezTo>
              </a:path>
              <a:path w="2799" h="1469">
                <a:moveTo>
                  <a:pt x="9664" y="13275"/>
                </a:moveTo>
                <a:cubicBezTo>
                  <a:pt x="9664" y="13341"/>
                  <a:pt x="9664" y="13408"/>
                  <a:pt x="9664" y="13474"/>
                </a:cubicBezTo>
                <a:cubicBezTo>
                  <a:pt x="9664" y="13535"/>
                  <a:pt x="9664" y="13425"/>
                  <a:pt x="9664" y="13414"/>
                </a:cubicBezTo>
                <a:cubicBezTo>
                  <a:pt x="9664" y="13371"/>
                  <a:pt x="9656" y="13346"/>
                  <a:pt x="9684" y="13315"/>
                </a:cubicBezTo>
                <a:cubicBezTo>
                  <a:pt x="9711" y="13285"/>
                  <a:pt x="9744" y="13295"/>
                  <a:pt x="9783" y="13295"/>
                </a:cubicBezTo>
                <a:cubicBezTo>
                  <a:pt x="9851" y="13295"/>
                  <a:pt x="9923" y="13295"/>
                  <a:pt x="9962" y="13315"/>
                </a:cubicBezTo>
                <a:cubicBezTo>
                  <a:pt x="9968" y="13315"/>
                  <a:pt x="9975" y="13315"/>
                  <a:pt x="9981" y="133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720880" y="5014800"/>
            <a:ext cx="1522440" cy="257400"/>
          </a:xfrm>
          <a:custGeom>
            <a:avLst/>
            <a:gdLst/>
            <a:ahLst/>
            <a:rect l="l" t="t" r="r" b="b"/>
            <a:pathLst>
              <a:path w="4228" h="716">
                <a:moveTo>
                  <a:pt x="7640" y="14030"/>
                </a:moveTo>
                <a:cubicBezTo>
                  <a:pt x="7717" y="14030"/>
                  <a:pt x="7810" y="14034"/>
                  <a:pt x="7858" y="14010"/>
                </a:cubicBezTo>
                <a:cubicBezTo>
                  <a:pt x="7899" y="13989"/>
                  <a:pt x="7966" y="14020"/>
                  <a:pt x="7997" y="14030"/>
                </a:cubicBezTo>
                <a:cubicBezTo>
                  <a:pt x="8026" y="14040"/>
                  <a:pt x="8046" y="14057"/>
                  <a:pt x="8057" y="14089"/>
                </a:cubicBezTo>
                <a:cubicBezTo>
                  <a:pt x="8071" y="14130"/>
                  <a:pt x="8062" y="14220"/>
                  <a:pt x="8037" y="14248"/>
                </a:cubicBezTo>
                <a:cubicBezTo>
                  <a:pt x="8010" y="14279"/>
                  <a:pt x="7977" y="14268"/>
                  <a:pt x="7938" y="14268"/>
                </a:cubicBezTo>
                <a:cubicBezTo>
                  <a:pt x="7906" y="14268"/>
                  <a:pt x="7863" y="14263"/>
                  <a:pt x="7838" y="14248"/>
                </a:cubicBezTo>
                <a:cubicBezTo>
                  <a:pt x="7809" y="14231"/>
                  <a:pt x="7766" y="14224"/>
                  <a:pt x="7739" y="14208"/>
                </a:cubicBezTo>
                <a:cubicBezTo>
                  <a:pt x="7710" y="14191"/>
                  <a:pt x="7690" y="14180"/>
                  <a:pt x="7660" y="14168"/>
                </a:cubicBezTo>
                <a:cubicBezTo>
                  <a:pt x="7610" y="14147"/>
                  <a:pt x="7600" y="14159"/>
                  <a:pt x="7600" y="14109"/>
                </a:cubicBezTo>
                <a:cubicBezTo>
                  <a:pt x="7600" y="14073"/>
                  <a:pt x="7623" y="14061"/>
                  <a:pt x="7640" y="14049"/>
                </a:cubicBezTo>
                <a:cubicBezTo>
                  <a:pt x="7658" y="14036"/>
                  <a:pt x="7695" y="14018"/>
                  <a:pt x="7699" y="14010"/>
                </a:cubicBezTo>
                <a:cubicBezTo>
                  <a:pt x="7712" y="13982"/>
                  <a:pt x="7721" y="13990"/>
                  <a:pt x="7759" y="13990"/>
                </a:cubicBezTo>
                <a:cubicBezTo>
                  <a:pt x="7871" y="13990"/>
                  <a:pt x="7984" y="13990"/>
                  <a:pt x="8096" y="13990"/>
                </a:cubicBezTo>
                <a:cubicBezTo>
                  <a:pt x="8096" y="14086"/>
                  <a:pt x="8139" y="14437"/>
                  <a:pt x="8076" y="14486"/>
                </a:cubicBezTo>
                <a:cubicBezTo>
                  <a:pt x="8045" y="14510"/>
                  <a:pt x="8038" y="14541"/>
                  <a:pt x="7997" y="14565"/>
                </a:cubicBezTo>
                <a:cubicBezTo>
                  <a:pt x="7944" y="14597"/>
                  <a:pt x="7888" y="14594"/>
                  <a:pt x="7838" y="14625"/>
                </a:cubicBezTo>
                <a:cubicBezTo>
                  <a:pt x="7805" y="14645"/>
                  <a:pt x="7799" y="14645"/>
                  <a:pt x="7759" y="14645"/>
                </a:cubicBezTo>
                <a:cubicBezTo>
                  <a:pt x="7720" y="14645"/>
                  <a:pt x="7679" y="14649"/>
                  <a:pt x="7660" y="14605"/>
                </a:cubicBezTo>
                <a:cubicBezTo>
                  <a:pt x="7650" y="14583"/>
                  <a:pt x="7627" y="14579"/>
                  <a:pt x="7620" y="14565"/>
                </a:cubicBezTo>
                <a:cubicBezTo>
                  <a:pt x="7617" y="14558"/>
                  <a:pt x="7587" y="14511"/>
                  <a:pt x="7580" y="14506"/>
                </a:cubicBezTo>
                <a:cubicBezTo>
                  <a:pt x="7573" y="14506"/>
                  <a:pt x="7567" y="14506"/>
                  <a:pt x="7560" y="14506"/>
                </a:cubicBezTo>
              </a:path>
              <a:path w="4228" h="716">
                <a:moveTo>
                  <a:pt x="8553" y="14188"/>
                </a:moveTo>
                <a:cubicBezTo>
                  <a:pt x="8489" y="14188"/>
                  <a:pt x="8430" y="14190"/>
                  <a:pt x="8394" y="14208"/>
                </a:cubicBezTo>
                <a:cubicBezTo>
                  <a:pt x="8372" y="14219"/>
                  <a:pt x="8358" y="14233"/>
                  <a:pt x="8354" y="14268"/>
                </a:cubicBezTo>
                <a:cubicBezTo>
                  <a:pt x="8351" y="14296"/>
                  <a:pt x="8361" y="14328"/>
                  <a:pt x="8374" y="14347"/>
                </a:cubicBezTo>
                <a:cubicBezTo>
                  <a:pt x="8384" y="14362"/>
                  <a:pt x="8432" y="14406"/>
                  <a:pt x="8434" y="14407"/>
                </a:cubicBezTo>
                <a:cubicBezTo>
                  <a:pt x="8474" y="14428"/>
                  <a:pt x="8542" y="14397"/>
                  <a:pt x="8572" y="14387"/>
                </a:cubicBezTo>
                <a:cubicBezTo>
                  <a:pt x="8608" y="14375"/>
                  <a:pt x="8632" y="14362"/>
                  <a:pt x="8652" y="14347"/>
                </a:cubicBezTo>
                <a:cubicBezTo>
                  <a:pt x="8673" y="14331"/>
                  <a:pt x="8689" y="14292"/>
                  <a:pt x="8692" y="14268"/>
                </a:cubicBezTo>
                <a:cubicBezTo>
                  <a:pt x="8695" y="14242"/>
                  <a:pt x="8692" y="14214"/>
                  <a:pt x="8692" y="14188"/>
                </a:cubicBezTo>
                <a:cubicBezTo>
                  <a:pt x="8661" y="14188"/>
                  <a:pt x="8636" y="14175"/>
                  <a:pt x="8632" y="14208"/>
                </a:cubicBezTo>
                <a:cubicBezTo>
                  <a:pt x="8629" y="14228"/>
                  <a:pt x="8639" y="14280"/>
                  <a:pt x="8652" y="14288"/>
                </a:cubicBezTo>
                <a:cubicBezTo>
                  <a:pt x="8675" y="14303"/>
                  <a:pt x="8693" y="14306"/>
                  <a:pt x="8711" y="14327"/>
                </a:cubicBezTo>
                <a:cubicBezTo>
                  <a:pt x="8724" y="14342"/>
                  <a:pt x="8755" y="14379"/>
                  <a:pt x="8771" y="14387"/>
                </a:cubicBezTo>
                <a:cubicBezTo>
                  <a:pt x="8789" y="14396"/>
                  <a:pt x="8860" y="14414"/>
                  <a:pt x="8870" y="14426"/>
                </a:cubicBezTo>
                <a:cubicBezTo>
                  <a:pt x="8890" y="14450"/>
                  <a:pt x="8917" y="14467"/>
                  <a:pt x="8950" y="14486"/>
                </a:cubicBezTo>
                <a:cubicBezTo>
                  <a:pt x="8985" y="14507"/>
                  <a:pt x="8993" y="14506"/>
                  <a:pt x="9029" y="14506"/>
                </a:cubicBezTo>
              </a:path>
              <a:path w="4228" h="716">
                <a:moveTo>
                  <a:pt x="9009" y="14188"/>
                </a:moveTo>
                <a:cubicBezTo>
                  <a:pt x="9009" y="14257"/>
                  <a:pt x="9010" y="14310"/>
                  <a:pt x="9029" y="14367"/>
                </a:cubicBezTo>
                <a:cubicBezTo>
                  <a:pt x="9029" y="14374"/>
                  <a:pt x="9029" y="14380"/>
                  <a:pt x="9029" y="14387"/>
                </a:cubicBezTo>
                <a:cubicBezTo>
                  <a:pt x="9029" y="14314"/>
                  <a:pt x="9029" y="14241"/>
                  <a:pt x="9029" y="14168"/>
                </a:cubicBezTo>
                <a:cubicBezTo>
                  <a:pt x="9089" y="14168"/>
                  <a:pt x="9148" y="14168"/>
                  <a:pt x="9208" y="14168"/>
                </a:cubicBezTo>
              </a:path>
              <a:path w="4228" h="716">
                <a:moveTo>
                  <a:pt x="9366" y="14208"/>
                </a:moveTo>
                <a:cubicBezTo>
                  <a:pt x="9366" y="14254"/>
                  <a:pt x="9384" y="14261"/>
                  <a:pt x="9386" y="14288"/>
                </a:cubicBezTo>
                <a:cubicBezTo>
                  <a:pt x="9390" y="14343"/>
                  <a:pt x="9406" y="14314"/>
                  <a:pt x="9406" y="14367"/>
                </a:cubicBezTo>
                <a:cubicBezTo>
                  <a:pt x="9406" y="14407"/>
                  <a:pt x="9406" y="14446"/>
                  <a:pt x="9406" y="14486"/>
                </a:cubicBezTo>
                <a:cubicBezTo>
                  <a:pt x="9406" y="14446"/>
                  <a:pt x="9397" y="14439"/>
                  <a:pt x="9386" y="14407"/>
                </a:cubicBezTo>
                <a:cubicBezTo>
                  <a:pt x="9370" y="14359"/>
                  <a:pt x="9386" y="14278"/>
                  <a:pt x="9386" y="14228"/>
                </a:cubicBezTo>
                <a:cubicBezTo>
                  <a:pt x="9438" y="14228"/>
                  <a:pt x="9507" y="14214"/>
                  <a:pt x="9545" y="14248"/>
                </a:cubicBezTo>
                <a:cubicBezTo>
                  <a:pt x="9569" y="14269"/>
                  <a:pt x="9577" y="14320"/>
                  <a:pt x="9585" y="14347"/>
                </a:cubicBezTo>
                <a:cubicBezTo>
                  <a:pt x="9591" y="14368"/>
                  <a:pt x="9619" y="14395"/>
                  <a:pt x="9624" y="14407"/>
                </a:cubicBezTo>
                <a:cubicBezTo>
                  <a:pt x="9632" y="14425"/>
                  <a:pt x="9624" y="14466"/>
                  <a:pt x="9624" y="14486"/>
                </a:cubicBezTo>
                <a:cubicBezTo>
                  <a:pt x="9624" y="14435"/>
                  <a:pt x="9618" y="14409"/>
                  <a:pt x="9604" y="14367"/>
                </a:cubicBezTo>
                <a:cubicBezTo>
                  <a:pt x="9596" y="14344"/>
                  <a:pt x="9587" y="14311"/>
                  <a:pt x="9585" y="14288"/>
                </a:cubicBezTo>
                <a:cubicBezTo>
                  <a:pt x="9585" y="14268"/>
                  <a:pt x="9585" y="14261"/>
                  <a:pt x="9585" y="14248"/>
                </a:cubicBezTo>
                <a:cubicBezTo>
                  <a:pt x="9654" y="14248"/>
                  <a:pt x="9720" y="14238"/>
                  <a:pt x="9783" y="14268"/>
                </a:cubicBezTo>
                <a:cubicBezTo>
                  <a:pt x="9823" y="14287"/>
                  <a:pt x="9823" y="14318"/>
                  <a:pt x="9842" y="14327"/>
                </a:cubicBezTo>
                <a:cubicBezTo>
                  <a:pt x="9866" y="14339"/>
                  <a:pt x="9883" y="14363"/>
                  <a:pt x="9902" y="14387"/>
                </a:cubicBezTo>
                <a:cubicBezTo>
                  <a:pt x="9920" y="14405"/>
                  <a:pt x="9926" y="14408"/>
                  <a:pt x="9922" y="14426"/>
                </a:cubicBezTo>
              </a:path>
              <a:path w="4228" h="716">
                <a:moveTo>
                  <a:pt x="10279" y="14288"/>
                </a:moveTo>
                <a:cubicBezTo>
                  <a:pt x="10391" y="14288"/>
                  <a:pt x="10504" y="14288"/>
                  <a:pt x="10616" y="14288"/>
                </a:cubicBezTo>
                <a:cubicBezTo>
                  <a:pt x="10570" y="14281"/>
                  <a:pt x="10544" y="14253"/>
                  <a:pt x="10497" y="14248"/>
                </a:cubicBezTo>
                <a:cubicBezTo>
                  <a:pt x="10476" y="14246"/>
                  <a:pt x="10417" y="14237"/>
                  <a:pt x="10398" y="14228"/>
                </a:cubicBezTo>
                <a:cubicBezTo>
                  <a:pt x="10363" y="14210"/>
                  <a:pt x="10322" y="14192"/>
                  <a:pt x="10279" y="14188"/>
                </a:cubicBezTo>
                <a:cubicBezTo>
                  <a:pt x="10227" y="14183"/>
                  <a:pt x="10137" y="14174"/>
                  <a:pt x="10100" y="14208"/>
                </a:cubicBezTo>
                <a:cubicBezTo>
                  <a:pt x="10072" y="14234"/>
                  <a:pt x="10064" y="14271"/>
                  <a:pt x="10061" y="14307"/>
                </a:cubicBezTo>
                <a:cubicBezTo>
                  <a:pt x="10059" y="14327"/>
                  <a:pt x="10063" y="14400"/>
                  <a:pt x="10081" y="14407"/>
                </a:cubicBezTo>
                <a:cubicBezTo>
                  <a:pt x="10113" y="14419"/>
                  <a:pt x="10125" y="14442"/>
                  <a:pt x="10160" y="14446"/>
                </a:cubicBezTo>
                <a:cubicBezTo>
                  <a:pt x="10193" y="14450"/>
                  <a:pt x="10209" y="14463"/>
                  <a:pt x="10239" y="14466"/>
                </a:cubicBezTo>
                <a:cubicBezTo>
                  <a:pt x="10342" y="14478"/>
                  <a:pt x="10453" y="14466"/>
                  <a:pt x="10557" y="14466"/>
                </a:cubicBezTo>
              </a:path>
              <a:path w="4228" h="716">
                <a:moveTo>
                  <a:pt x="10874" y="14168"/>
                </a:moveTo>
                <a:cubicBezTo>
                  <a:pt x="10874" y="14260"/>
                  <a:pt x="10874" y="14499"/>
                  <a:pt x="10874" y="14407"/>
                </a:cubicBezTo>
                <a:cubicBezTo>
                  <a:pt x="10874" y="14373"/>
                  <a:pt x="10855" y="14348"/>
                  <a:pt x="10855" y="14307"/>
                </a:cubicBezTo>
                <a:cubicBezTo>
                  <a:pt x="10855" y="14278"/>
                  <a:pt x="10842" y="14224"/>
                  <a:pt x="10874" y="14208"/>
                </a:cubicBezTo>
                <a:cubicBezTo>
                  <a:pt x="10883" y="14203"/>
                  <a:pt x="10950" y="14192"/>
                  <a:pt x="10954" y="14188"/>
                </a:cubicBezTo>
                <a:cubicBezTo>
                  <a:pt x="10974" y="14163"/>
                  <a:pt x="10985" y="14168"/>
                  <a:pt x="11033" y="14168"/>
                </a:cubicBezTo>
                <a:cubicBezTo>
                  <a:pt x="11070" y="14168"/>
                  <a:pt x="11173" y="14150"/>
                  <a:pt x="11192" y="14188"/>
                </a:cubicBezTo>
                <a:cubicBezTo>
                  <a:pt x="11219" y="14242"/>
                  <a:pt x="11192" y="14385"/>
                  <a:pt x="11192" y="14446"/>
                </a:cubicBezTo>
              </a:path>
              <a:path w="4228" h="716">
                <a:moveTo>
                  <a:pt x="11589" y="13930"/>
                </a:moveTo>
                <a:cubicBezTo>
                  <a:pt x="11596" y="13930"/>
                  <a:pt x="11602" y="13930"/>
                  <a:pt x="11609" y="13930"/>
                </a:cubicBezTo>
                <a:cubicBezTo>
                  <a:pt x="11609" y="14002"/>
                  <a:pt x="11642" y="14389"/>
                  <a:pt x="11589" y="14407"/>
                </a:cubicBezTo>
              </a:path>
              <a:path w="4228" h="716">
                <a:moveTo>
                  <a:pt x="11450" y="14149"/>
                </a:moveTo>
                <a:cubicBezTo>
                  <a:pt x="11562" y="14149"/>
                  <a:pt x="11675" y="14149"/>
                  <a:pt x="11787" y="1414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86120" y="4457880"/>
            <a:ext cx="442800" cy="185400"/>
          </a:xfrm>
          <a:custGeom>
            <a:avLst/>
            <a:gdLst/>
            <a:ahLst/>
            <a:rect l="l" t="t" r="r" b="b"/>
            <a:pathLst>
              <a:path w="1231" h="517">
                <a:moveTo>
                  <a:pt x="6747" y="12720"/>
                </a:moveTo>
                <a:cubicBezTo>
                  <a:pt x="6506" y="12720"/>
                  <a:pt x="6223" y="12758"/>
                  <a:pt x="5993" y="12700"/>
                </a:cubicBezTo>
                <a:cubicBezTo>
                  <a:pt x="5964" y="12693"/>
                  <a:pt x="5939" y="12666"/>
                  <a:pt x="5913" y="12660"/>
                </a:cubicBezTo>
                <a:cubicBezTo>
                  <a:pt x="5873" y="12651"/>
                  <a:pt x="5816" y="12660"/>
                  <a:pt x="5775" y="12660"/>
                </a:cubicBezTo>
                <a:cubicBezTo>
                  <a:pt x="5765" y="12630"/>
                  <a:pt x="5751" y="12640"/>
                  <a:pt x="5715" y="12640"/>
                </a:cubicBezTo>
                <a:cubicBezTo>
                  <a:pt x="5675" y="12640"/>
                  <a:pt x="5636" y="12640"/>
                  <a:pt x="5596" y="12640"/>
                </a:cubicBezTo>
              </a:path>
              <a:path w="1231" h="517">
                <a:moveTo>
                  <a:pt x="5517" y="12640"/>
                </a:moveTo>
                <a:cubicBezTo>
                  <a:pt x="5525" y="12608"/>
                  <a:pt x="5524" y="12609"/>
                  <a:pt x="5556" y="12601"/>
                </a:cubicBezTo>
                <a:cubicBezTo>
                  <a:pt x="5562" y="12591"/>
                  <a:pt x="5609" y="12553"/>
                  <a:pt x="5636" y="12541"/>
                </a:cubicBezTo>
                <a:cubicBezTo>
                  <a:pt x="5673" y="12524"/>
                  <a:pt x="5692" y="12546"/>
                  <a:pt x="5715" y="12502"/>
                </a:cubicBezTo>
                <a:cubicBezTo>
                  <a:pt x="5747" y="12491"/>
                  <a:pt x="5723" y="12493"/>
                  <a:pt x="5755" y="12482"/>
                </a:cubicBezTo>
                <a:cubicBezTo>
                  <a:pt x="5776" y="12450"/>
                  <a:pt x="5794" y="12475"/>
                  <a:pt x="5794" y="12422"/>
                </a:cubicBezTo>
                <a:cubicBezTo>
                  <a:pt x="5821" y="12413"/>
                  <a:pt x="5812" y="12411"/>
                  <a:pt x="5834" y="12382"/>
                </a:cubicBezTo>
              </a:path>
              <a:path w="1231" h="517">
                <a:moveTo>
                  <a:pt x="5536" y="12660"/>
                </a:moveTo>
                <a:cubicBezTo>
                  <a:pt x="5543" y="12660"/>
                  <a:pt x="5549" y="12660"/>
                  <a:pt x="5556" y="12660"/>
                </a:cubicBezTo>
                <a:cubicBezTo>
                  <a:pt x="5556" y="12701"/>
                  <a:pt x="5548" y="12730"/>
                  <a:pt x="5576" y="12760"/>
                </a:cubicBezTo>
                <a:cubicBezTo>
                  <a:pt x="5603" y="12789"/>
                  <a:pt x="5606" y="12798"/>
                  <a:pt x="5636" y="12819"/>
                </a:cubicBezTo>
                <a:cubicBezTo>
                  <a:pt x="5658" y="12834"/>
                  <a:pt x="5707" y="12865"/>
                  <a:pt x="5715" y="12879"/>
                </a:cubicBezTo>
                <a:cubicBezTo>
                  <a:pt x="5715" y="12885"/>
                  <a:pt x="5715" y="12892"/>
                  <a:pt x="5715" y="128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36520" y="4172040"/>
            <a:ext cx="757080" cy="236520"/>
          </a:xfrm>
          <a:custGeom>
            <a:avLst/>
            <a:gdLst/>
            <a:ahLst/>
            <a:rect l="l" t="t" r="r" b="b"/>
            <a:pathLst>
              <a:path w="2104" h="656">
                <a:moveTo>
                  <a:pt x="655" y="11589"/>
                </a:moveTo>
                <a:cubicBezTo>
                  <a:pt x="655" y="11651"/>
                  <a:pt x="639" y="11733"/>
                  <a:pt x="675" y="11787"/>
                </a:cubicBezTo>
                <a:cubicBezTo>
                  <a:pt x="700" y="11824"/>
                  <a:pt x="695" y="11838"/>
                  <a:pt x="695" y="11886"/>
                </a:cubicBezTo>
                <a:cubicBezTo>
                  <a:pt x="695" y="11941"/>
                  <a:pt x="701" y="11978"/>
                  <a:pt x="714" y="12025"/>
                </a:cubicBezTo>
                <a:cubicBezTo>
                  <a:pt x="724" y="12058"/>
                  <a:pt x="714" y="12109"/>
                  <a:pt x="714" y="12144"/>
                </a:cubicBezTo>
                <a:cubicBezTo>
                  <a:pt x="820" y="12144"/>
                  <a:pt x="926" y="12144"/>
                  <a:pt x="1032" y="12144"/>
                </a:cubicBezTo>
              </a:path>
              <a:path w="2104" h="656">
                <a:moveTo>
                  <a:pt x="1191" y="11946"/>
                </a:moveTo>
                <a:cubicBezTo>
                  <a:pt x="1191" y="12019"/>
                  <a:pt x="1191" y="12091"/>
                  <a:pt x="1191" y="12164"/>
                </a:cubicBezTo>
              </a:path>
              <a:path w="2104" h="656">
                <a:moveTo>
                  <a:pt x="1210" y="11748"/>
                </a:moveTo>
                <a:lnTo>
                  <a:pt x="1210" y="11748"/>
                </a:lnTo>
              </a:path>
              <a:path w="2104" h="656">
                <a:moveTo>
                  <a:pt x="1449" y="11946"/>
                </a:moveTo>
                <a:cubicBezTo>
                  <a:pt x="1449" y="11983"/>
                  <a:pt x="1433" y="11993"/>
                  <a:pt x="1429" y="12025"/>
                </a:cubicBezTo>
                <a:cubicBezTo>
                  <a:pt x="1422" y="12089"/>
                  <a:pt x="1429" y="12159"/>
                  <a:pt x="1429" y="12224"/>
                </a:cubicBezTo>
                <a:cubicBezTo>
                  <a:pt x="1429" y="12138"/>
                  <a:pt x="1429" y="12052"/>
                  <a:pt x="1429" y="11966"/>
                </a:cubicBezTo>
                <a:cubicBezTo>
                  <a:pt x="1474" y="11966"/>
                  <a:pt x="1488" y="11956"/>
                  <a:pt x="1508" y="11946"/>
                </a:cubicBezTo>
                <a:cubicBezTo>
                  <a:pt x="1544" y="11928"/>
                  <a:pt x="1601" y="11958"/>
                  <a:pt x="1627" y="11966"/>
                </a:cubicBezTo>
                <a:cubicBezTo>
                  <a:pt x="1675" y="11980"/>
                  <a:pt x="1667" y="11994"/>
                  <a:pt x="1667" y="12045"/>
                </a:cubicBezTo>
                <a:cubicBezTo>
                  <a:pt x="1667" y="12111"/>
                  <a:pt x="1667" y="12178"/>
                  <a:pt x="1667" y="12244"/>
                </a:cubicBezTo>
              </a:path>
              <a:path w="2104" h="656">
                <a:moveTo>
                  <a:pt x="1925" y="12085"/>
                </a:moveTo>
                <a:cubicBezTo>
                  <a:pt x="1962" y="12085"/>
                  <a:pt x="1972" y="12069"/>
                  <a:pt x="2004" y="12065"/>
                </a:cubicBezTo>
                <a:cubicBezTo>
                  <a:pt x="2038" y="12061"/>
                  <a:pt x="2060" y="12039"/>
                  <a:pt x="2064" y="12005"/>
                </a:cubicBezTo>
                <a:cubicBezTo>
                  <a:pt x="2067" y="11979"/>
                  <a:pt x="2072" y="11940"/>
                  <a:pt x="2044" y="11926"/>
                </a:cubicBezTo>
                <a:cubicBezTo>
                  <a:pt x="2023" y="11915"/>
                  <a:pt x="1987" y="11894"/>
                  <a:pt x="1965" y="11886"/>
                </a:cubicBezTo>
                <a:cubicBezTo>
                  <a:pt x="1923" y="11872"/>
                  <a:pt x="1899" y="11887"/>
                  <a:pt x="1885" y="11906"/>
                </a:cubicBezTo>
                <a:cubicBezTo>
                  <a:pt x="1862" y="11937"/>
                  <a:pt x="1865" y="11947"/>
                  <a:pt x="1865" y="11986"/>
                </a:cubicBezTo>
                <a:cubicBezTo>
                  <a:pt x="1865" y="12015"/>
                  <a:pt x="1887" y="12062"/>
                  <a:pt x="1905" y="12085"/>
                </a:cubicBezTo>
                <a:cubicBezTo>
                  <a:pt x="1928" y="12113"/>
                  <a:pt x="1924" y="12140"/>
                  <a:pt x="1965" y="12144"/>
                </a:cubicBezTo>
                <a:cubicBezTo>
                  <a:pt x="2029" y="12151"/>
                  <a:pt x="2098" y="12144"/>
                  <a:pt x="2163" y="12144"/>
                </a:cubicBezTo>
              </a:path>
              <a:path w="2104" h="656">
                <a:moveTo>
                  <a:pt x="2381" y="11867"/>
                </a:moveTo>
                <a:cubicBezTo>
                  <a:pt x="2381" y="11902"/>
                  <a:pt x="2388" y="11958"/>
                  <a:pt x="2401" y="11986"/>
                </a:cubicBezTo>
                <a:cubicBezTo>
                  <a:pt x="2418" y="12023"/>
                  <a:pt x="2421" y="12037"/>
                  <a:pt x="2421" y="12085"/>
                </a:cubicBezTo>
                <a:cubicBezTo>
                  <a:pt x="2421" y="12125"/>
                  <a:pt x="2421" y="12164"/>
                  <a:pt x="2421" y="12204"/>
                </a:cubicBezTo>
                <a:cubicBezTo>
                  <a:pt x="2421" y="12085"/>
                  <a:pt x="2421" y="11966"/>
                  <a:pt x="2421" y="11847"/>
                </a:cubicBezTo>
                <a:cubicBezTo>
                  <a:pt x="2463" y="11847"/>
                  <a:pt x="2485" y="11864"/>
                  <a:pt x="2520" y="11867"/>
                </a:cubicBezTo>
                <a:cubicBezTo>
                  <a:pt x="2533" y="11867"/>
                  <a:pt x="2547" y="11867"/>
                  <a:pt x="2560" y="11867"/>
                </a:cubicBezTo>
                <a:cubicBezTo>
                  <a:pt x="2574" y="11908"/>
                  <a:pt x="2587" y="11920"/>
                  <a:pt x="2639" y="11926"/>
                </a:cubicBezTo>
                <a:cubicBezTo>
                  <a:pt x="2675" y="11930"/>
                  <a:pt x="2700" y="11946"/>
                  <a:pt x="2738" y="11946"/>
                </a:cubicBezTo>
                <a:cubicBezTo>
                  <a:pt x="2745" y="11946"/>
                  <a:pt x="2751" y="11946"/>
                  <a:pt x="2758" y="11946"/>
                </a:cubicBezTo>
                <a:cubicBezTo>
                  <a:pt x="2758" y="12009"/>
                  <a:pt x="2756" y="12070"/>
                  <a:pt x="2738" y="12105"/>
                </a:cubicBezTo>
                <a:cubicBezTo>
                  <a:pt x="2728" y="12126"/>
                  <a:pt x="2738" y="12180"/>
                  <a:pt x="2738" y="122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79360" y="4486320"/>
            <a:ext cx="785880" cy="279360"/>
          </a:xfrm>
          <a:custGeom>
            <a:avLst/>
            <a:gdLst/>
            <a:ahLst/>
            <a:rect l="l" t="t" r="r" b="b"/>
            <a:pathLst>
              <a:path w="2184" h="775">
                <a:moveTo>
                  <a:pt x="774" y="12839"/>
                </a:moveTo>
                <a:cubicBezTo>
                  <a:pt x="776" y="12846"/>
                  <a:pt x="793" y="12936"/>
                  <a:pt x="794" y="12938"/>
                </a:cubicBezTo>
                <a:cubicBezTo>
                  <a:pt x="833" y="12986"/>
                  <a:pt x="843" y="12967"/>
                  <a:pt x="853" y="13037"/>
                </a:cubicBezTo>
                <a:cubicBezTo>
                  <a:pt x="894" y="13047"/>
                  <a:pt x="895" y="13070"/>
                  <a:pt x="933" y="13037"/>
                </a:cubicBezTo>
                <a:cubicBezTo>
                  <a:pt x="963" y="13010"/>
                  <a:pt x="981" y="13020"/>
                  <a:pt x="992" y="12978"/>
                </a:cubicBezTo>
                <a:cubicBezTo>
                  <a:pt x="1022" y="12971"/>
                  <a:pt x="1048" y="12960"/>
                  <a:pt x="1072" y="12938"/>
                </a:cubicBezTo>
                <a:cubicBezTo>
                  <a:pt x="1103" y="12909"/>
                  <a:pt x="1145" y="12930"/>
                  <a:pt x="1151" y="12879"/>
                </a:cubicBezTo>
                <a:cubicBezTo>
                  <a:pt x="1155" y="12846"/>
                  <a:pt x="1171" y="12836"/>
                  <a:pt x="1171" y="12799"/>
                </a:cubicBezTo>
                <a:cubicBezTo>
                  <a:pt x="1171" y="12759"/>
                  <a:pt x="1171" y="12720"/>
                  <a:pt x="1171" y="12680"/>
                </a:cubicBezTo>
              </a:path>
              <a:path w="2184" h="775">
                <a:moveTo>
                  <a:pt x="1389" y="12879"/>
                </a:moveTo>
                <a:cubicBezTo>
                  <a:pt x="1389" y="12978"/>
                  <a:pt x="1389" y="13077"/>
                  <a:pt x="1389" y="13176"/>
                </a:cubicBezTo>
                <a:cubicBezTo>
                  <a:pt x="1389" y="13090"/>
                  <a:pt x="1354" y="12901"/>
                  <a:pt x="1409" y="12839"/>
                </a:cubicBezTo>
                <a:cubicBezTo>
                  <a:pt x="1448" y="12795"/>
                  <a:pt x="1472" y="12827"/>
                  <a:pt x="1508" y="12839"/>
                </a:cubicBezTo>
                <a:cubicBezTo>
                  <a:pt x="1532" y="12847"/>
                  <a:pt x="1559" y="12841"/>
                  <a:pt x="1568" y="12859"/>
                </a:cubicBezTo>
                <a:cubicBezTo>
                  <a:pt x="1577" y="12877"/>
                  <a:pt x="1591" y="12947"/>
                  <a:pt x="1607" y="12958"/>
                </a:cubicBezTo>
                <a:cubicBezTo>
                  <a:pt x="1632" y="12975"/>
                  <a:pt x="1627" y="12977"/>
                  <a:pt x="1627" y="13018"/>
                </a:cubicBezTo>
                <a:cubicBezTo>
                  <a:pt x="1627" y="13058"/>
                  <a:pt x="1636" y="13065"/>
                  <a:pt x="1647" y="13097"/>
                </a:cubicBezTo>
                <a:cubicBezTo>
                  <a:pt x="1654" y="13118"/>
                  <a:pt x="1647" y="13154"/>
                  <a:pt x="1647" y="13176"/>
                </a:cubicBezTo>
              </a:path>
              <a:path w="2184" h="775">
                <a:moveTo>
                  <a:pt x="1965" y="12898"/>
                </a:moveTo>
                <a:cubicBezTo>
                  <a:pt x="1930" y="12890"/>
                  <a:pt x="1898" y="12869"/>
                  <a:pt x="1865" y="12859"/>
                </a:cubicBezTo>
                <a:cubicBezTo>
                  <a:pt x="1837" y="12851"/>
                  <a:pt x="1796" y="12859"/>
                  <a:pt x="1766" y="12859"/>
                </a:cubicBezTo>
                <a:cubicBezTo>
                  <a:pt x="1766" y="12904"/>
                  <a:pt x="1750" y="12885"/>
                  <a:pt x="1746" y="12918"/>
                </a:cubicBezTo>
                <a:cubicBezTo>
                  <a:pt x="1740" y="12968"/>
                  <a:pt x="1734" y="13041"/>
                  <a:pt x="1766" y="13077"/>
                </a:cubicBezTo>
                <a:cubicBezTo>
                  <a:pt x="1801" y="13117"/>
                  <a:pt x="1816" y="13087"/>
                  <a:pt x="1845" y="13057"/>
                </a:cubicBezTo>
                <a:cubicBezTo>
                  <a:pt x="1873" y="13029"/>
                  <a:pt x="1865" y="12989"/>
                  <a:pt x="1885" y="12958"/>
                </a:cubicBezTo>
                <a:cubicBezTo>
                  <a:pt x="1905" y="12928"/>
                  <a:pt x="1890" y="12905"/>
                  <a:pt x="1905" y="12879"/>
                </a:cubicBezTo>
                <a:cubicBezTo>
                  <a:pt x="1921" y="12851"/>
                  <a:pt x="1951" y="12830"/>
                  <a:pt x="1965" y="12819"/>
                </a:cubicBezTo>
                <a:cubicBezTo>
                  <a:pt x="1996" y="12795"/>
                  <a:pt x="2032" y="12757"/>
                  <a:pt x="2044" y="12720"/>
                </a:cubicBezTo>
                <a:cubicBezTo>
                  <a:pt x="2051" y="12700"/>
                  <a:pt x="2054" y="12658"/>
                  <a:pt x="2064" y="12640"/>
                </a:cubicBezTo>
                <a:cubicBezTo>
                  <a:pt x="2085" y="12604"/>
                  <a:pt x="2084" y="12588"/>
                  <a:pt x="2084" y="12541"/>
                </a:cubicBezTo>
                <a:cubicBezTo>
                  <a:pt x="2084" y="12495"/>
                  <a:pt x="2072" y="12504"/>
                  <a:pt x="2044" y="12462"/>
                </a:cubicBezTo>
                <a:cubicBezTo>
                  <a:pt x="2044" y="12515"/>
                  <a:pt x="2035" y="12555"/>
                  <a:pt x="2024" y="12581"/>
                </a:cubicBezTo>
                <a:cubicBezTo>
                  <a:pt x="1994" y="12651"/>
                  <a:pt x="2028" y="12767"/>
                  <a:pt x="2004" y="12839"/>
                </a:cubicBezTo>
                <a:cubicBezTo>
                  <a:pt x="1983" y="12903"/>
                  <a:pt x="2004" y="13010"/>
                  <a:pt x="2004" y="13077"/>
                </a:cubicBezTo>
              </a:path>
              <a:path w="2184" h="775">
                <a:moveTo>
                  <a:pt x="2242" y="12998"/>
                </a:moveTo>
                <a:cubicBezTo>
                  <a:pt x="2283" y="12990"/>
                  <a:pt x="2296" y="12961"/>
                  <a:pt x="2322" y="12958"/>
                </a:cubicBezTo>
                <a:cubicBezTo>
                  <a:pt x="2373" y="12952"/>
                  <a:pt x="2429" y="12958"/>
                  <a:pt x="2480" y="12958"/>
                </a:cubicBezTo>
                <a:cubicBezTo>
                  <a:pt x="2470" y="12928"/>
                  <a:pt x="2443" y="12882"/>
                  <a:pt x="2401" y="12859"/>
                </a:cubicBezTo>
                <a:cubicBezTo>
                  <a:pt x="2378" y="12846"/>
                  <a:pt x="2328" y="12822"/>
                  <a:pt x="2302" y="12819"/>
                </a:cubicBezTo>
                <a:cubicBezTo>
                  <a:pt x="2273" y="12816"/>
                  <a:pt x="2224" y="12862"/>
                  <a:pt x="2222" y="12879"/>
                </a:cubicBezTo>
                <a:cubicBezTo>
                  <a:pt x="2219" y="12899"/>
                  <a:pt x="2203" y="12916"/>
                  <a:pt x="2183" y="12938"/>
                </a:cubicBezTo>
                <a:cubicBezTo>
                  <a:pt x="2153" y="12972"/>
                  <a:pt x="2176" y="12981"/>
                  <a:pt x="2163" y="13018"/>
                </a:cubicBezTo>
                <a:cubicBezTo>
                  <a:pt x="2147" y="13061"/>
                  <a:pt x="2143" y="13073"/>
                  <a:pt x="2143" y="13117"/>
                </a:cubicBezTo>
                <a:cubicBezTo>
                  <a:pt x="2143" y="13133"/>
                  <a:pt x="2171" y="13205"/>
                  <a:pt x="2183" y="13216"/>
                </a:cubicBezTo>
                <a:cubicBezTo>
                  <a:pt x="2200" y="13231"/>
                  <a:pt x="2236" y="13236"/>
                  <a:pt x="2262" y="13236"/>
                </a:cubicBezTo>
                <a:cubicBezTo>
                  <a:pt x="2307" y="13236"/>
                  <a:pt x="2325" y="13208"/>
                  <a:pt x="2342" y="13196"/>
                </a:cubicBezTo>
                <a:cubicBezTo>
                  <a:pt x="2374" y="13180"/>
                  <a:pt x="2379" y="13173"/>
                  <a:pt x="2401" y="13176"/>
                </a:cubicBezTo>
              </a:path>
              <a:path w="2184" h="775">
                <a:moveTo>
                  <a:pt x="2719" y="12879"/>
                </a:moveTo>
                <a:cubicBezTo>
                  <a:pt x="2719" y="12991"/>
                  <a:pt x="2719" y="13104"/>
                  <a:pt x="2719" y="13216"/>
                </a:cubicBezTo>
                <a:cubicBezTo>
                  <a:pt x="2719" y="13177"/>
                  <a:pt x="2728" y="13168"/>
                  <a:pt x="2738" y="13137"/>
                </a:cubicBezTo>
                <a:cubicBezTo>
                  <a:pt x="2750" y="13098"/>
                  <a:pt x="2746" y="13054"/>
                  <a:pt x="2758" y="13018"/>
                </a:cubicBezTo>
                <a:cubicBezTo>
                  <a:pt x="2765" y="12998"/>
                  <a:pt x="2788" y="12963"/>
                  <a:pt x="2798" y="12958"/>
                </a:cubicBezTo>
                <a:cubicBezTo>
                  <a:pt x="2836" y="12939"/>
                  <a:pt x="2907" y="12974"/>
                  <a:pt x="2917" y="12978"/>
                </a:cubicBezTo>
                <a:cubicBezTo>
                  <a:pt x="2937" y="12978"/>
                  <a:pt x="2944" y="12978"/>
                  <a:pt x="2957" y="129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14280" y="4757760"/>
            <a:ext cx="1036800" cy="357120"/>
          </a:xfrm>
          <a:custGeom>
            <a:avLst/>
            <a:gdLst/>
            <a:ahLst/>
            <a:rect l="l" t="t" r="r" b="b"/>
            <a:pathLst>
              <a:path w="2878" h="993">
                <a:moveTo>
                  <a:pt x="1131" y="13494"/>
                </a:moveTo>
                <a:cubicBezTo>
                  <a:pt x="1099" y="13486"/>
                  <a:pt x="1081" y="13464"/>
                  <a:pt x="1052" y="13454"/>
                </a:cubicBezTo>
                <a:cubicBezTo>
                  <a:pt x="1027" y="13446"/>
                  <a:pt x="965" y="13448"/>
                  <a:pt x="952" y="13474"/>
                </a:cubicBezTo>
                <a:cubicBezTo>
                  <a:pt x="940" y="13498"/>
                  <a:pt x="938" y="13505"/>
                  <a:pt x="913" y="13533"/>
                </a:cubicBezTo>
                <a:cubicBezTo>
                  <a:pt x="888" y="13561"/>
                  <a:pt x="893" y="13576"/>
                  <a:pt x="893" y="13613"/>
                </a:cubicBezTo>
                <a:cubicBezTo>
                  <a:pt x="893" y="13657"/>
                  <a:pt x="905" y="13693"/>
                  <a:pt x="913" y="13712"/>
                </a:cubicBezTo>
                <a:cubicBezTo>
                  <a:pt x="922" y="13734"/>
                  <a:pt x="938" y="13748"/>
                  <a:pt x="972" y="13752"/>
                </a:cubicBezTo>
                <a:cubicBezTo>
                  <a:pt x="1043" y="13760"/>
                  <a:pt x="1119" y="13752"/>
                  <a:pt x="1191" y="13752"/>
                </a:cubicBezTo>
                <a:cubicBezTo>
                  <a:pt x="1191" y="13794"/>
                  <a:pt x="1181" y="13801"/>
                  <a:pt x="1151" y="13831"/>
                </a:cubicBezTo>
                <a:cubicBezTo>
                  <a:pt x="1125" y="13857"/>
                  <a:pt x="1104" y="13853"/>
                  <a:pt x="1091" y="13891"/>
                </a:cubicBezTo>
                <a:cubicBezTo>
                  <a:pt x="1084" y="13911"/>
                  <a:pt x="1068" y="13980"/>
                  <a:pt x="1052" y="13990"/>
                </a:cubicBezTo>
                <a:cubicBezTo>
                  <a:pt x="1030" y="14004"/>
                  <a:pt x="1001" y="14010"/>
                  <a:pt x="972" y="14010"/>
                </a:cubicBezTo>
                <a:cubicBezTo>
                  <a:pt x="930" y="14010"/>
                  <a:pt x="927" y="13965"/>
                  <a:pt x="893" y="13950"/>
                </a:cubicBezTo>
                <a:cubicBezTo>
                  <a:pt x="873" y="13950"/>
                  <a:pt x="866" y="13950"/>
                  <a:pt x="873" y="13930"/>
                </a:cubicBezTo>
              </a:path>
              <a:path w="2878" h="993">
                <a:moveTo>
                  <a:pt x="1389" y="13395"/>
                </a:moveTo>
                <a:cubicBezTo>
                  <a:pt x="1389" y="13570"/>
                  <a:pt x="1411" y="13764"/>
                  <a:pt x="1369" y="13930"/>
                </a:cubicBezTo>
                <a:cubicBezTo>
                  <a:pt x="1369" y="13937"/>
                  <a:pt x="1369" y="13943"/>
                  <a:pt x="1369" y="13950"/>
                </a:cubicBezTo>
                <a:cubicBezTo>
                  <a:pt x="1369" y="13892"/>
                  <a:pt x="1337" y="13678"/>
                  <a:pt x="1389" y="13652"/>
                </a:cubicBezTo>
                <a:cubicBezTo>
                  <a:pt x="1427" y="13633"/>
                  <a:pt x="1498" y="13668"/>
                  <a:pt x="1508" y="13672"/>
                </a:cubicBezTo>
                <a:cubicBezTo>
                  <a:pt x="1554" y="13692"/>
                  <a:pt x="1548" y="13696"/>
                  <a:pt x="1548" y="13752"/>
                </a:cubicBezTo>
                <a:cubicBezTo>
                  <a:pt x="1548" y="13811"/>
                  <a:pt x="1548" y="13871"/>
                  <a:pt x="1548" y="13930"/>
                </a:cubicBezTo>
              </a:path>
              <a:path w="2878" h="993">
                <a:moveTo>
                  <a:pt x="1885" y="13652"/>
                </a:moveTo>
                <a:cubicBezTo>
                  <a:pt x="1885" y="13715"/>
                  <a:pt x="1882" y="13759"/>
                  <a:pt x="1865" y="13811"/>
                </a:cubicBezTo>
                <a:cubicBezTo>
                  <a:pt x="1858" y="13832"/>
                  <a:pt x="1865" y="13869"/>
                  <a:pt x="1865" y="13891"/>
                </a:cubicBezTo>
              </a:path>
              <a:path w="2878" h="993">
                <a:moveTo>
                  <a:pt x="1925" y="13434"/>
                </a:moveTo>
                <a:lnTo>
                  <a:pt x="1925" y="13434"/>
                </a:lnTo>
              </a:path>
              <a:path w="2878" h="993">
                <a:moveTo>
                  <a:pt x="2103" y="13672"/>
                </a:moveTo>
                <a:cubicBezTo>
                  <a:pt x="2103" y="13708"/>
                  <a:pt x="2087" y="13720"/>
                  <a:pt x="2084" y="13752"/>
                </a:cubicBezTo>
                <a:cubicBezTo>
                  <a:pt x="2076" y="13825"/>
                  <a:pt x="2085" y="13886"/>
                  <a:pt x="2064" y="13950"/>
                </a:cubicBezTo>
                <a:cubicBezTo>
                  <a:pt x="2056" y="13975"/>
                  <a:pt x="2072" y="13954"/>
                  <a:pt x="2084" y="13930"/>
                </a:cubicBezTo>
                <a:cubicBezTo>
                  <a:pt x="2097" y="13905"/>
                  <a:pt x="2104" y="13904"/>
                  <a:pt x="2123" y="13871"/>
                </a:cubicBezTo>
                <a:cubicBezTo>
                  <a:pt x="2141" y="13840"/>
                  <a:pt x="2179" y="13805"/>
                  <a:pt x="2183" y="13772"/>
                </a:cubicBezTo>
                <a:cubicBezTo>
                  <a:pt x="2187" y="13733"/>
                  <a:pt x="2183" y="13691"/>
                  <a:pt x="2183" y="13652"/>
                </a:cubicBezTo>
                <a:cubicBezTo>
                  <a:pt x="2223" y="13652"/>
                  <a:pt x="2229" y="13661"/>
                  <a:pt x="2262" y="13672"/>
                </a:cubicBezTo>
                <a:cubicBezTo>
                  <a:pt x="2292" y="13682"/>
                  <a:pt x="2307" y="13692"/>
                  <a:pt x="2342" y="13692"/>
                </a:cubicBezTo>
              </a:path>
              <a:path w="2878" h="993">
                <a:moveTo>
                  <a:pt x="2679" y="13533"/>
                </a:moveTo>
                <a:cubicBezTo>
                  <a:pt x="2679" y="13758"/>
                  <a:pt x="2679" y="13983"/>
                  <a:pt x="2679" y="14208"/>
                </a:cubicBezTo>
              </a:path>
              <a:path w="2878" h="993">
                <a:moveTo>
                  <a:pt x="2500" y="13851"/>
                </a:moveTo>
                <a:cubicBezTo>
                  <a:pt x="2527" y="13851"/>
                  <a:pt x="2540" y="13851"/>
                  <a:pt x="2560" y="13851"/>
                </a:cubicBezTo>
                <a:cubicBezTo>
                  <a:pt x="2565" y="13836"/>
                  <a:pt x="2596" y="13816"/>
                  <a:pt x="2619" y="13811"/>
                </a:cubicBezTo>
                <a:cubicBezTo>
                  <a:pt x="2653" y="13804"/>
                  <a:pt x="2689" y="13794"/>
                  <a:pt x="2719" y="13791"/>
                </a:cubicBezTo>
                <a:cubicBezTo>
                  <a:pt x="2765" y="13786"/>
                  <a:pt x="2799" y="13784"/>
                  <a:pt x="2838" y="13772"/>
                </a:cubicBezTo>
                <a:cubicBezTo>
                  <a:pt x="2845" y="13772"/>
                  <a:pt x="2851" y="13772"/>
                  <a:pt x="2858" y="13772"/>
                </a:cubicBezTo>
              </a:path>
              <a:path w="2878" h="993">
                <a:moveTo>
                  <a:pt x="2818" y="13395"/>
                </a:moveTo>
                <a:cubicBezTo>
                  <a:pt x="2919" y="13395"/>
                  <a:pt x="3027" y="13405"/>
                  <a:pt x="3115" y="13375"/>
                </a:cubicBezTo>
                <a:cubicBezTo>
                  <a:pt x="3229" y="13336"/>
                  <a:pt x="3528" y="13360"/>
                  <a:pt x="3631" y="13395"/>
                </a:cubicBezTo>
                <a:cubicBezTo>
                  <a:pt x="3638" y="13395"/>
                  <a:pt x="3644" y="13395"/>
                  <a:pt x="3651" y="13395"/>
                </a:cubicBezTo>
              </a:path>
              <a:path w="2878" h="993">
                <a:moveTo>
                  <a:pt x="3612" y="13216"/>
                </a:moveTo>
                <a:cubicBezTo>
                  <a:pt x="3612" y="13263"/>
                  <a:pt x="3620" y="13292"/>
                  <a:pt x="3631" y="13315"/>
                </a:cubicBezTo>
                <a:cubicBezTo>
                  <a:pt x="3648" y="13352"/>
                  <a:pt x="3665" y="13370"/>
                  <a:pt x="3671" y="13414"/>
                </a:cubicBezTo>
                <a:cubicBezTo>
                  <a:pt x="3689" y="13420"/>
                  <a:pt x="3734" y="13428"/>
                  <a:pt x="3750" y="13454"/>
                </a:cubicBezTo>
                <a:cubicBezTo>
                  <a:pt x="3770" y="13487"/>
                  <a:pt x="3710" y="13534"/>
                  <a:pt x="3691" y="13553"/>
                </a:cubicBezTo>
                <a:cubicBezTo>
                  <a:pt x="3659" y="13585"/>
                  <a:pt x="3681" y="13593"/>
                  <a:pt x="3631" y="1359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99880" y="5850000"/>
            <a:ext cx="785880" cy="272880"/>
          </a:xfrm>
          <a:custGeom>
            <a:avLst/>
            <a:gdLst/>
            <a:ahLst/>
            <a:rect l="l" t="t" r="r" b="b"/>
            <a:pathLst>
              <a:path w="2184" h="755">
                <a:moveTo>
                  <a:pt x="833" y="16490"/>
                </a:moveTo>
                <a:cubicBezTo>
                  <a:pt x="833" y="16569"/>
                  <a:pt x="833" y="16649"/>
                  <a:pt x="833" y="16728"/>
                </a:cubicBezTo>
                <a:cubicBezTo>
                  <a:pt x="876" y="16728"/>
                  <a:pt x="892" y="16728"/>
                  <a:pt x="933" y="16748"/>
                </a:cubicBezTo>
                <a:cubicBezTo>
                  <a:pt x="971" y="16767"/>
                  <a:pt x="983" y="16774"/>
                  <a:pt x="1012" y="16768"/>
                </a:cubicBezTo>
              </a:path>
              <a:path w="2184" h="755">
                <a:moveTo>
                  <a:pt x="1191" y="16669"/>
                </a:moveTo>
                <a:cubicBezTo>
                  <a:pt x="1222" y="16664"/>
                  <a:pt x="1259" y="16665"/>
                  <a:pt x="1290" y="16649"/>
                </a:cubicBezTo>
                <a:cubicBezTo>
                  <a:pt x="1319" y="16635"/>
                  <a:pt x="1345" y="16623"/>
                  <a:pt x="1349" y="16589"/>
                </a:cubicBezTo>
                <a:cubicBezTo>
                  <a:pt x="1352" y="16561"/>
                  <a:pt x="1275" y="16513"/>
                  <a:pt x="1250" y="16510"/>
                </a:cubicBezTo>
                <a:cubicBezTo>
                  <a:pt x="1203" y="16504"/>
                  <a:pt x="1150" y="16505"/>
                  <a:pt x="1131" y="16530"/>
                </a:cubicBezTo>
                <a:cubicBezTo>
                  <a:pt x="1122" y="16542"/>
                  <a:pt x="1115" y="16606"/>
                  <a:pt x="1111" y="16609"/>
                </a:cubicBezTo>
                <a:cubicBezTo>
                  <a:pt x="1088" y="16627"/>
                  <a:pt x="1091" y="16627"/>
                  <a:pt x="1091" y="16669"/>
                </a:cubicBezTo>
                <a:cubicBezTo>
                  <a:pt x="1091" y="16718"/>
                  <a:pt x="1099" y="16741"/>
                  <a:pt x="1111" y="16788"/>
                </a:cubicBezTo>
                <a:cubicBezTo>
                  <a:pt x="1119" y="16821"/>
                  <a:pt x="1153" y="16808"/>
                  <a:pt x="1191" y="16808"/>
                </a:cubicBezTo>
                <a:cubicBezTo>
                  <a:pt x="1231" y="16808"/>
                  <a:pt x="1270" y="16808"/>
                  <a:pt x="1310" y="16808"/>
                </a:cubicBezTo>
              </a:path>
              <a:path w="2184" h="755">
                <a:moveTo>
                  <a:pt x="1607" y="16530"/>
                </a:moveTo>
                <a:cubicBezTo>
                  <a:pt x="1548" y="16545"/>
                  <a:pt x="1591" y="16572"/>
                  <a:pt x="1548" y="16609"/>
                </a:cubicBezTo>
                <a:cubicBezTo>
                  <a:pt x="1532" y="16622"/>
                  <a:pt x="1512" y="16655"/>
                  <a:pt x="1508" y="16689"/>
                </a:cubicBezTo>
                <a:cubicBezTo>
                  <a:pt x="1505" y="16714"/>
                  <a:pt x="1508" y="16744"/>
                  <a:pt x="1508" y="16768"/>
                </a:cubicBezTo>
                <a:cubicBezTo>
                  <a:pt x="1558" y="16768"/>
                  <a:pt x="1605" y="16777"/>
                  <a:pt x="1627" y="16748"/>
                </a:cubicBezTo>
                <a:cubicBezTo>
                  <a:pt x="1644" y="16725"/>
                  <a:pt x="1644" y="16707"/>
                  <a:pt x="1667" y="16689"/>
                </a:cubicBezTo>
                <a:cubicBezTo>
                  <a:pt x="1684" y="16676"/>
                  <a:pt x="1704" y="16653"/>
                  <a:pt x="1707" y="16629"/>
                </a:cubicBezTo>
                <a:cubicBezTo>
                  <a:pt x="1711" y="16600"/>
                  <a:pt x="1726" y="16521"/>
                  <a:pt x="1726" y="16550"/>
                </a:cubicBezTo>
                <a:cubicBezTo>
                  <a:pt x="1726" y="16610"/>
                  <a:pt x="1730" y="16658"/>
                  <a:pt x="1746" y="16689"/>
                </a:cubicBezTo>
                <a:cubicBezTo>
                  <a:pt x="1760" y="16715"/>
                  <a:pt x="1771" y="16763"/>
                  <a:pt x="1786" y="16788"/>
                </a:cubicBezTo>
                <a:cubicBezTo>
                  <a:pt x="1807" y="16823"/>
                  <a:pt x="1814" y="16830"/>
                  <a:pt x="1845" y="16867"/>
                </a:cubicBezTo>
              </a:path>
              <a:path w="2184" h="755">
                <a:moveTo>
                  <a:pt x="2064" y="16312"/>
                </a:moveTo>
                <a:cubicBezTo>
                  <a:pt x="2046" y="16329"/>
                  <a:pt x="2039" y="16333"/>
                  <a:pt x="2044" y="16351"/>
                </a:cubicBezTo>
                <a:cubicBezTo>
                  <a:pt x="2017" y="16369"/>
                  <a:pt x="2024" y="16390"/>
                  <a:pt x="2024" y="16431"/>
                </a:cubicBezTo>
                <a:cubicBezTo>
                  <a:pt x="2024" y="16557"/>
                  <a:pt x="2024" y="16682"/>
                  <a:pt x="2024" y="16808"/>
                </a:cubicBezTo>
              </a:path>
              <a:path w="2184" h="755">
                <a:moveTo>
                  <a:pt x="1865" y="16550"/>
                </a:moveTo>
                <a:cubicBezTo>
                  <a:pt x="1949" y="16550"/>
                  <a:pt x="2047" y="16535"/>
                  <a:pt x="2123" y="16570"/>
                </a:cubicBezTo>
                <a:cubicBezTo>
                  <a:pt x="2154" y="16584"/>
                  <a:pt x="2194" y="16599"/>
                  <a:pt x="2222" y="16609"/>
                </a:cubicBezTo>
                <a:cubicBezTo>
                  <a:pt x="2229" y="16609"/>
                  <a:pt x="2235" y="16609"/>
                  <a:pt x="2242" y="16609"/>
                </a:cubicBezTo>
              </a:path>
              <a:path w="2184" h="755">
                <a:moveTo>
                  <a:pt x="2342" y="16252"/>
                </a:moveTo>
                <a:cubicBezTo>
                  <a:pt x="2312" y="16262"/>
                  <a:pt x="2322" y="16276"/>
                  <a:pt x="2322" y="16312"/>
                </a:cubicBezTo>
                <a:cubicBezTo>
                  <a:pt x="2322" y="16504"/>
                  <a:pt x="2322" y="16695"/>
                  <a:pt x="2322" y="16887"/>
                </a:cubicBezTo>
                <a:cubicBezTo>
                  <a:pt x="2322" y="16808"/>
                  <a:pt x="2322" y="16728"/>
                  <a:pt x="2322" y="16649"/>
                </a:cubicBezTo>
                <a:cubicBezTo>
                  <a:pt x="2345" y="16649"/>
                  <a:pt x="2391" y="16638"/>
                  <a:pt x="2401" y="16669"/>
                </a:cubicBezTo>
                <a:cubicBezTo>
                  <a:pt x="2411" y="16700"/>
                  <a:pt x="2412" y="16716"/>
                  <a:pt x="2421" y="16748"/>
                </a:cubicBezTo>
                <a:cubicBezTo>
                  <a:pt x="2435" y="16798"/>
                  <a:pt x="2441" y="16786"/>
                  <a:pt x="2441" y="16847"/>
                </a:cubicBezTo>
                <a:cubicBezTo>
                  <a:pt x="2441" y="16868"/>
                  <a:pt x="2447" y="16917"/>
                  <a:pt x="2461" y="16927"/>
                </a:cubicBezTo>
                <a:cubicBezTo>
                  <a:pt x="2467" y="16927"/>
                  <a:pt x="2474" y="16927"/>
                  <a:pt x="2480" y="16927"/>
                </a:cubicBezTo>
              </a:path>
              <a:path w="2184" h="755">
                <a:moveTo>
                  <a:pt x="2619" y="16788"/>
                </a:moveTo>
                <a:cubicBezTo>
                  <a:pt x="2656" y="16779"/>
                  <a:pt x="2654" y="16760"/>
                  <a:pt x="2679" y="16748"/>
                </a:cubicBezTo>
                <a:cubicBezTo>
                  <a:pt x="2730" y="16724"/>
                  <a:pt x="2719" y="16717"/>
                  <a:pt x="2719" y="16669"/>
                </a:cubicBezTo>
                <a:cubicBezTo>
                  <a:pt x="2719" y="16644"/>
                  <a:pt x="2686" y="16632"/>
                  <a:pt x="2659" y="16629"/>
                </a:cubicBezTo>
                <a:cubicBezTo>
                  <a:pt x="2615" y="16624"/>
                  <a:pt x="2578" y="16641"/>
                  <a:pt x="2560" y="16649"/>
                </a:cubicBezTo>
                <a:cubicBezTo>
                  <a:pt x="2524" y="16664"/>
                  <a:pt x="2494" y="16667"/>
                  <a:pt x="2480" y="16708"/>
                </a:cubicBezTo>
                <a:cubicBezTo>
                  <a:pt x="2465" y="16752"/>
                  <a:pt x="2492" y="16792"/>
                  <a:pt x="2500" y="16808"/>
                </a:cubicBezTo>
                <a:cubicBezTo>
                  <a:pt x="2520" y="16847"/>
                  <a:pt x="2523" y="16808"/>
                  <a:pt x="2560" y="16828"/>
                </a:cubicBezTo>
                <a:cubicBezTo>
                  <a:pt x="2590" y="16844"/>
                  <a:pt x="2627" y="16874"/>
                  <a:pt x="2659" y="16887"/>
                </a:cubicBezTo>
                <a:cubicBezTo>
                  <a:pt x="2707" y="16906"/>
                  <a:pt x="2805" y="16887"/>
                  <a:pt x="2858" y="16887"/>
                </a:cubicBezTo>
              </a:path>
              <a:path w="2184" h="755">
                <a:moveTo>
                  <a:pt x="2897" y="16629"/>
                </a:moveTo>
                <a:cubicBezTo>
                  <a:pt x="2897" y="16755"/>
                  <a:pt x="2897" y="16880"/>
                  <a:pt x="2897" y="17006"/>
                </a:cubicBezTo>
                <a:cubicBezTo>
                  <a:pt x="2914" y="16961"/>
                  <a:pt x="2917" y="16934"/>
                  <a:pt x="2917" y="16887"/>
                </a:cubicBezTo>
                <a:cubicBezTo>
                  <a:pt x="2917" y="16847"/>
                  <a:pt x="2894" y="16710"/>
                  <a:pt x="2937" y="16689"/>
                </a:cubicBezTo>
                <a:cubicBezTo>
                  <a:pt x="2964" y="16676"/>
                  <a:pt x="2987" y="16686"/>
                  <a:pt x="3016" y="1666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22200" y="6129360"/>
            <a:ext cx="1135080" cy="307800"/>
          </a:xfrm>
          <a:custGeom>
            <a:avLst/>
            <a:gdLst/>
            <a:ahLst/>
            <a:rect l="l" t="t" r="r" b="b"/>
            <a:pathLst>
              <a:path w="3156" h="854">
                <a:moveTo>
                  <a:pt x="913" y="17165"/>
                </a:moveTo>
                <a:cubicBezTo>
                  <a:pt x="939" y="17200"/>
                  <a:pt x="933" y="17217"/>
                  <a:pt x="933" y="17264"/>
                </a:cubicBezTo>
                <a:cubicBezTo>
                  <a:pt x="933" y="17348"/>
                  <a:pt x="937" y="17430"/>
                  <a:pt x="913" y="17502"/>
                </a:cubicBezTo>
                <a:cubicBezTo>
                  <a:pt x="895" y="17557"/>
                  <a:pt x="913" y="17531"/>
                  <a:pt x="913" y="17482"/>
                </a:cubicBezTo>
                <a:cubicBezTo>
                  <a:pt x="913" y="17356"/>
                  <a:pt x="913" y="17231"/>
                  <a:pt x="913" y="17105"/>
                </a:cubicBezTo>
                <a:cubicBezTo>
                  <a:pt x="952" y="17105"/>
                  <a:pt x="982" y="17119"/>
                  <a:pt x="1012" y="17125"/>
                </a:cubicBezTo>
                <a:cubicBezTo>
                  <a:pt x="1054" y="17133"/>
                  <a:pt x="1117" y="17106"/>
                  <a:pt x="1151" y="17145"/>
                </a:cubicBezTo>
                <a:cubicBezTo>
                  <a:pt x="1175" y="17172"/>
                  <a:pt x="1137" y="17245"/>
                  <a:pt x="1131" y="17264"/>
                </a:cubicBezTo>
                <a:cubicBezTo>
                  <a:pt x="1121" y="17295"/>
                  <a:pt x="1113" y="17287"/>
                  <a:pt x="1091" y="17304"/>
                </a:cubicBezTo>
                <a:cubicBezTo>
                  <a:pt x="1067" y="17322"/>
                  <a:pt x="1021" y="17354"/>
                  <a:pt x="1012" y="17363"/>
                </a:cubicBezTo>
                <a:cubicBezTo>
                  <a:pt x="1012" y="17383"/>
                  <a:pt x="1012" y="17390"/>
                  <a:pt x="992" y="17383"/>
                </a:cubicBezTo>
                <a:cubicBezTo>
                  <a:pt x="1003" y="17415"/>
                  <a:pt x="1031" y="17403"/>
                  <a:pt x="1072" y="17403"/>
                </a:cubicBezTo>
                <a:cubicBezTo>
                  <a:pt x="1125" y="17403"/>
                  <a:pt x="1177" y="17403"/>
                  <a:pt x="1230" y="17403"/>
                </a:cubicBezTo>
                <a:cubicBezTo>
                  <a:pt x="1230" y="17451"/>
                  <a:pt x="1243" y="17506"/>
                  <a:pt x="1210" y="17542"/>
                </a:cubicBezTo>
                <a:cubicBezTo>
                  <a:pt x="1195" y="17559"/>
                  <a:pt x="1135" y="17613"/>
                  <a:pt x="1131" y="17621"/>
                </a:cubicBezTo>
                <a:cubicBezTo>
                  <a:pt x="1118" y="17647"/>
                  <a:pt x="1128" y="17641"/>
                  <a:pt x="1091" y="17641"/>
                </a:cubicBezTo>
                <a:cubicBezTo>
                  <a:pt x="1066" y="17606"/>
                  <a:pt x="1064" y="17603"/>
                  <a:pt x="1032" y="17582"/>
                </a:cubicBezTo>
                <a:cubicBezTo>
                  <a:pt x="1003" y="17563"/>
                  <a:pt x="984" y="17533"/>
                  <a:pt x="952" y="17522"/>
                </a:cubicBezTo>
                <a:cubicBezTo>
                  <a:pt x="937" y="17517"/>
                  <a:pt x="909" y="17522"/>
                  <a:pt x="893" y="17522"/>
                </a:cubicBezTo>
              </a:path>
              <a:path w="3156" h="854">
                <a:moveTo>
                  <a:pt x="1588" y="17383"/>
                </a:moveTo>
                <a:cubicBezTo>
                  <a:pt x="1557" y="17352"/>
                  <a:pt x="1551" y="17343"/>
                  <a:pt x="1508" y="17343"/>
                </a:cubicBezTo>
                <a:cubicBezTo>
                  <a:pt x="1488" y="17343"/>
                  <a:pt x="1481" y="17343"/>
                  <a:pt x="1468" y="17343"/>
                </a:cubicBezTo>
                <a:cubicBezTo>
                  <a:pt x="1468" y="17392"/>
                  <a:pt x="1453" y="17416"/>
                  <a:pt x="1449" y="17462"/>
                </a:cubicBezTo>
                <a:cubicBezTo>
                  <a:pt x="1446" y="17505"/>
                  <a:pt x="1446" y="17543"/>
                  <a:pt x="1468" y="17562"/>
                </a:cubicBezTo>
                <a:cubicBezTo>
                  <a:pt x="1492" y="17583"/>
                  <a:pt x="1498" y="17610"/>
                  <a:pt x="1528" y="17621"/>
                </a:cubicBezTo>
                <a:cubicBezTo>
                  <a:pt x="1558" y="17632"/>
                  <a:pt x="1691" y="17631"/>
                  <a:pt x="1707" y="17601"/>
                </a:cubicBezTo>
                <a:cubicBezTo>
                  <a:pt x="1737" y="17543"/>
                  <a:pt x="1705" y="17396"/>
                  <a:pt x="1687" y="17343"/>
                </a:cubicBezTo>
                <a:cubicBezTo>
                  <a:pt x="1664" y="17275"/>
                  <a:pt x="1636" y="17311"/>
                  <a:pt x="1607" y="17264"/>
                </a:cubicBezTo>
                <a:cubicBezTo>
                  <a:pt x="1592" y="17240"/>
                  <a:pt x="1607" y="17244"/>
                  <a:pt x="1568" y="17244"/>
                </a:cubicBezTo>
              </a:path>
              <a:path w="3156" h="854">
                <a:moveTo>
                  <a:pt x="1984" y="17363"/>
                </a:moveTo>
                <a:cubicBezTo>
                  <a:pt x="1948" y="17335"/>
                  <a:pt x="1945" y="17337"/>
                  <a:pt x="1925" y="17363"/>
                </a:cubicBezTo>
                <a:cubicBezTo>
                  <a:pt x="1904" y="17391"/>
                  <a:pt x="1888" y="17424"/>
                  <a:pt x="1885" y="17462"/>
                </a:cubicBezTo>
                <a:cubicBezTo>
                  <a:pt x="1882" y="17502"/>
                  <a:pt x="1872" y="17591"/>
                  <a:pt x="1905" y="17621"/>
                </a:cubicBezTo>
                <a:cubicBezTo>
                  <a:pt x="1933" y="17646"/>
                  <a:pt x="1988" y="17677"/>
                  <a:pt x="2024" y="17681"/>
                </a:cubicBezTo>
                <a:cubicBezTo>
                  <a:pt x="2061" y="17685"/>
                  <a:pt x="2080" y="17680"/>
                  <a:pt x="2084" y="17641"/>
                </a:cubicBezTo>
                <a:cubicBezTo>
                  <a:pt x="2089" y="17598"/>
                  <a:pt x="2123" y="17602"/>
                  <a:pt x="2123" y="17542"/>
                </a:cubicBezTo>
                <a:cubicBezTo>
                  <a:pt x="2123" y="17491"/>
                  <a:pt x="2114" y="17449"/>
                  <a:pt x="2103" y="17423"/>
                </a:cubicBezTo>
                <a:cubicBezTo>
                  <a:pt x="2092" y="17397"/>
                  <a:pt x="2086" y="17378"/>
                  <a:pt x="2044" y="17363"/>
                </a:cubicBezTo>
                <a:cubicBezTo>
                  <a:pt x="2015" y="17353"/>
                  <a:pt x="1999" y="17343"/>
                  <a:pt x="1965" y="17343"/>
                </a:cubicBezTo>
              </a:path>
              <a:path w="3156" h="854">
                <a:moveTo>
                  <a:pt x="2401" y="17165"/>
                </a:moveTo>
                <a:cubicBezTo>
                  <a:pt x="2401" y="17202"/>
                  <a:pt x="2383" y="17212"/>
                  <a:pt x="2381" y="17244"/>
                </a:cubicBezTo>
                <a:cubicBezTo>
                  <a:pt x="2378" y="17285"/>
                  <a:pt x="2378" y="17328"/>
                  <a:pt x="2361" y="17363"/>
                </a:cubicBezTo>
                <a:cubicBezTo>
                  <a:pt x="2343" y="17400"/>
                  <a:pt x="2342" y="17415"/>
                  <a:pt x="2342" y="17462"/>
                </a:cubicBezTo>
                <a:cubicBezTo>
                  <a:pt x="2342" y="17528"/>
                  <a:pt x="2343" y="17584"/>
                  <a:pt x="2361" y="17641"/>
                </a:cubicBezTo>
                <a:cubicBezTo>
                  <a:pt x="2361" y="17648"/>
                  <a:pt x="2361" y="17654"/>
                  <a:pt x="2361" y="17661"/>
                </a:cubicBezTo>
              </a:path>
              <a:path w="3156" h="854">
                <a:moveTo>
                  <a:pt x="2203" y="17324"/>
                </a:moveTo>
                <a:cubicBezTo>
                  <a:pt x="2292" y="17324"/>
                  <a:pt x="2382" y="17320"/>
                  <a:pt x="2461" y="17343"/>
                </a:cubicBezTo>
                <a:cubicBezTo>
                  <a:pt x="2467" y="17343"/>
                  <a:pt x="2474" y="17343"/>
                  <a:pt x="2480" y="17343"/>
                </a:cubicBezTo>
              </a:path>
              <a:path w="3156" h="854">
                <a:moveTo>
                  <a:pt x="2699" y="17443"/>
                </a:moveTo>
                <a:cubicBezTo>
                  <a:pt x="2641" y="17450"/>
                  <a:pt x="2621" y="17461"/>
                  <a:pt x="2580" y="17502"/>
                </a:cubicBezTo>
                <a:cubicBezTo>
                  <a:pt x="2551" y="17531"/>
                  <a:pt x="2545" y="17555"/>
                  <a:pt x="2520" y="17582"/>
                </a:cubicBezTo>
                <a:cubicBezTo>
                  <a:pt x="2495" y="17610"/>
                  <a:pt x="2500" y="17624"/>
                  <a:pt x="2500" y="17661"/>
                </a:cubicBezTo>
                <a:cubicBezTo>
                  <a:pt x="2500" y="17696"/>
                  <a:pt x="2504" y="17709"/>
                  <a:pt x="2540" y="17720"/>
                </a:cubicBezTo>
                <a:cubicBezTo>
                  <a:pt x="2573" y="17730"/>
                  <a:pt x="2604" y="17689"/>
                  <a:pt x="2619" y="17720"/>
                </a:cubicBezTo>
                <a:cubicBezTo>
                  <a:pt x="2629" y="17741"/>
                  <a:pt x="2621" y="17789"/>
                  <a:pt x="2600" y="17800"/>
                </a:cubicBezTo>
                <a:cubicBezTo>
                  <a:pt x="2581" y="17810"/>
                  <a:pt x="2572" y="17834"/>
                  <a:pt x="2560" y="17840"/>
                </a:cubicBezTo>
                <a:cubicBezTo>
                  <a:pt x="2537" y="17851"/>
                  <a:pt x="2536" y="17875"/>
                  <a:pt x="2500" y="17879"/>
                </a:cubicBezTo>
                <a:cubicBezTo>
                  <a:pt x="2481" y="17881"/>
                  <a:pt x="2460" y="17879"/>
                  <a:pt x="2441" y="17879"/>
                </a:cubicBezTo>
              </a:path>
              <a:path w="3156" h="854">
                <a:moveTo>
                  <a:pt x="2838" y="17562"/>
                </a:moveTo>
                <a:cubicBezTo>
                  <a:pt x="2879" y="17531"/>
                  <a:pt x="2928" y="17538"/>
                  <a:pt x="2977" y="17522"/>
                </a:cubicBezTo>
                <a:cubicBezTo>
                  <a:pt x="3038" y="17502"/>
                  <a:pt x="3093" y="17515"/>
                  <a:pt x="3155" y="17502"/>
                </a:cubicBezTo>
                <a:cubicBezTo>
                  <a:pt x="3216" y="17489"/>
                  <a:pt x="3275" y="17476"/>
                  <a:pt x="3334" y="17462"/>
                </a:cubicBezTo>
                <a:cubicBezTo>
                  <a:pt x="3365" y="17455"/>
                  <a:pt x="3406" y="17459"/>
                  <a:pt x="3433" y="17443"/>
                </a:cubicBezTo>
                <a:cubicBezTo>
                  <a:pt x="3474" y="17419"/>
                  <a:pt x="3508" y="17404"/>
                  <a:pt x="3552" y="17383"/>
                </a:cubicBezTo>
                <a:cubicBezTo>
                  <a:pt x="3591" y="17365"/>
                  <a:pt x="3632" y="17358"/>
                  <a:pt x="3671" y="17343"/>
                </a:cubicBezTo>
                <a:cubicBezTo>
                  <a:pt x="3717" y="17325"/>
                  <a:pt x="3768" y="17317"/>
                  <a:pt x="3810" y="17304"/>
                </a:cubicBezTo>
                <a:cubicBezTo>
                  <a:pt x="3817" y="17304"/>
                  <a:pt x="3823" y="17304"/>
                  <a:pt x="3830" y="17304"/>
                </a:cubicBezTo>
              </a:path>
              <a:path w="3156" h="854">
                <a:moveTo>
                  <a:pt x="3572" y="17026"/>
                </a:moveTo>
                <a:cubicBezTo>
                  <a:pt x="3572" y="17053"/>
                  <a:pt x="3562" y="17090"/>
                  <a:pt x="3592" y="17105"/>
                </a:cubicBezTo>
                <a:cubicBezTo>
                  <a:pt x="3611" y="17115"/>
                  <a:pt x="3637" y="17124"/>
                  <a:pt x="3651" y="17125"/>
                </a:cubicBezTo>
                <a:cubicBezTo>
                  <a:pt x="3753" y="17133"/>
                  <a:pt x="3857" y="17125"/>
                  <a:pt x="3949" y="17145"/>
                </a:cubicBezTo>
                <a:cubicBezTo>
                  <a:pt x="3986" y="17153"/>
                  <a:pt x="4028" y="17161"/>
                  <a:pt x="4048" y="17205"/>
                </a:cubicBezTo>
                <a:cubicBezTo>
                  <a:pt x="4064" y="17240"/>
                  <a:pt x="3980" y="17288"/>
                  <a:pt x="3969" y="17304"/>
                </a:cubicBezTo>
                <a:cubicBezTo>
                  <a:pt x="3952" y="17331"/>
                  <a:pt x="3929" y="17372"/>
                  <a:pt x="3909" y="17403"/>
                </a:cubicBezTo>
                <a:cubicBezTo>
                  <a:pt x="3883" y="17444"/>
                  <a:pt x="3889" y="17484"/>
                  <a:pt x="3870" y="17522"/>
                </a:cubicBezTo>
                <a:cubicBezTo>
                  <a:pt x="3859" y="17545"/>
                  <a:pt x="3846" y="17561"/>
                  <a:pt x="3830" y="1758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028960" y="5715000"/>
            <a:ext cx="1585800" cy="328680"/>
          </a:xfrm>
          <a:custGeom>
            <a:avLst/>
            <a:gdLst/>
            <a:ahLst/>
            <a:rect l="l" t="t" r="r" b="b"/>
            <a:pathLst>
              <a:path w="4406" h="914">
                <a:moveTo>
                  <a:pt x="7521" y="16054"/>
                </a:moveTo>
                <a:cubicBezTo>
                  <a:pt x="7521" y="16114"/>
                  <a:pt x="7524" y="16162"/>
                  <a:pt x="7541" y="16212"/>
                </a:cubicBezTo>
                <a:cubicBezTo>
                  <a:pt x="7552" y="16244"/>
                  <a:pt x="7560" y="16276"/>
                  <a:pt x="7560" y="16312"/>
                </a:cubicBezTo>
                <a:cubicBezTo>
                  <a:pt x="7560" y="16388"/>
                  <a:pt x="7583" y="16510"/>
                  <a:pt x="7541" y="16570"/>
                </a:cubicBezTo>
              </a:path>
              <a:path w="4406" h="914">
                <a:moveTo>
                  <a:pt x="7263" y="16014"/>
                </a:moveTo>
                <a:cubicBezTo>
                  <a:pt x="7401" y="16014"/>
                  <a:pt x="7570" y="15989"/>
                  <a:pt x="7699" y="16034"/>
                </a:cubicBezTo>
                <a:cubicBezTo>
                  <a:pt x="7784" y="16064"/>
                  <a:pt x="7871" y="16085"/>
                  <a:pt x="7957" y="16113"/>
                </a:cubicBezTo>
                <a:cubicBezTo>
                  <a:pt x="8014" y="16131"/>
                  <a:pt x="8044" y="16146"/>
                  <a:pt x="8076" y="16113"/>
                </a:cubicBezTo>
              </a:path>
              <a:path w="4406" h="914">
                <a:moveTo>
                  <a:pt x="7957" y="16371"/>
                </a:moveTo>
                <a:cubicBezTo>
                  <a:pt x="7957" y="16397"/>
                  <a:pt x="7957" y="16424"/>
                  <a:pt x="7957" y="16450"/>
                </a:cubicBezTo>
                <a:cubicBezTo>
                  <a:pt x="7932" y="16468"/>
                  <a:pt x="7938" y="16490"/>
                  <a:pt x="7938" y="16530"/>
                </a:cubicBezTo>
                <a:cubicBezTo>
                  <a:pt x="7938" y="16550"/>
                  <a:pt x="7938" y="16569"/>
                  <a:pt x="7938" y="16589"/>
                </a:cubicBezTo>
              </a:path>
              <a:path w="4406" h="914">
                <a:moveTo>
                  <a:pt x="7977" y="16272"/>
                </a:moveTo>
                <a:lnTo>
                  <a:pt x="7977" y="16272"/>
                </a:lnTo>
              </a:path>
              <a:path w="4406" h="914">
                <a:moveTo>
                  <a:pt x="8235" y="16431"/>
                </a:moveTo>
                <a:cubicBezTo>
                  <a:pt x="8199" y="16439"/>
                  <a:pt x="8183" y="16463"/>
                  <a:pt x="8156" y="16490"/>
                </a:cubicBezTo>
                <a:cubicBezTo>
                  <a:pt x="8127" y="16519"/>
                  <a:pt x="8136" y="16550"/>
                  <a:pt x="8136" y="16589"/>
                </a:cubicBezTo>
                <a:cubicBezTo>
                  <a:pt x="8197" y="16589"/>
                  <a:pt x="8308" y="16611"/>
                  <a:pt x="8354" y="16570"/>
                </a:cubicBezTo>
                <a:cubicBezTo>
                  <a:pt x="8387" y="16541"/>
                  <a:pt x="8394" y="16557"/>
                  <a:pt x="8394" y="16510"/>
                </a:cubicBezTo>
                <a:cubicBezTo>
                  <a:pt x="8394" y="16483"/>
                  <a:pt x="8405" y="16446"/>
                  <a:pt x="8374" y="16431"/>
                </a:cubicBezTo>
                <a:cubicBezTo>
                  <a:pt x="8367" y="16431"/>
                  <a:pt x="8361" y="16431"/>
                  <a:pt x="8354" y="16431"/>
                </a:cubicBezTo>
                <a:cubicBezTo>
                  <a:pt x="8354" y="16476"/>
                  <a:pt x="8364" y="16490"/>
                  <a:pt x="8374" y="16510"/>
                </a:cubicBezTo>
                <a:cubicBezTo>
                  <a:pt x="8387" y="16536"/>
                  <a:pt x="8401" y="16532"/>
                  <a:pt x="8414" y="16550"/>
                </a:cubicBezTo>
                <a:cubicBezTo>
                  <a:pt x="8444" y="16590"/>
                  <a:pt x="8473" y="16600"/>
                  <a:pt x="8473" y="16649"/>
                </a:cubicBezTo>
                <a:cubicBezTo>
                  <a:pt x="8473" y="16700"/>
                  <a:pt x="8461" y="16703"/>
                  <a:pt x="8414" y="16728"/>
                </a:cubicBezTo>
                <a:cubicBezTo>
                  <a:pt x="8372" y="16750"/>
                  <a:pt x="8375" y="16774"/>
                  <a:pt x="8334" y="16788"/>
                </a:cubicBezTo>
                <a:cubicBezTo>
                  <a:pt x="8283" y="16805"/>
                  <a:pt x="8131" y="16799"/>
                  <a:pt x="8096" y="16768"/>
                </a:cubicBezTo>
                <a:cubicBezTo>
                  <a:pt x="8068" y="16743"/>
                  <a:pt x="8079" y="16718"/>
                  <a:pt x="8057" y="16689"/>
                </a:cubicBezTo>
              </a:path>
              <a:path w="4406" h="914">
                <a:moveTo>
                  <a:pt x="8572" y="16272"/>
                </a:moveTo>
                <a:cubicBezTo>
                  <a:pt x="8550" y="16302"/>
                  <a:pt x="8553" y="16313"/>
                  <a:pt x="8553" y="16351"/>
                </a:cubicBezTo>
                <a:cubicBezTo>
                  <a:pt x="8553" y="16412"/>
                  <a:pt x="8556" y="16458"/>
                  <a:pt x="8572" y="16510"/>
                </a:cubicBezTo>
                <a:cubicBezTo>
                  <a:pt x="8581" y="16537"/>
                  <a:pt x="8585" y="16563"/>
                  <a:pt x="8592" y="16589"/>
                </a:cubicBezTo>
                <a:cubicBezTo>
                  <a:pt x="8592" y="16537"/>
                  <a:pt x="8598" y="16531"/>
                  <a:pt x="8612" y="16490"/>
                </a:cubicBezTo>
                <a:cubicBezTo>
                  <a:pt x="8627" y="16446"/>
                  <a:pt x="8621" y="16496"/>
                  <a:pt x="8632" y="16431"/>
                </a:cubicBezTo>
                <a:cubicBezTo>
                  <a:pt x="8663" y="16427"/>
                  <a:pt x="8718" y="16395"/>
                  <a:pt x="8751" y="16411"/>
                </a:cubicBezTo>
                <a:cubicBezTo>
                  <a:pt x="8776" y="16424"/>
                  <a:pt x="8802" y="16442"/>
                  <a:pt x="8811" y="16470"/>
                </a:cubicBezTo>
                <a:cubicBezTo>
                  <a:pt x="8820" y="16496"/>
                  <a:pt x="8842" y="16494"/>
                  <a:pt x="8850" y="16510"/>
                </a:cubicBezTo>
                <a:cubicBezTo>
                  <a:pt x="8850" y="16517"/>
                  <a:pt x="8850" y="16523"/>
                  <a:pt x="8850" y="16530"/>
                </a:cubicBezTo>
              </a:path>
              <a:path w="4406" h="914">
                <a:moveTo>
                  <a:pt x="9049" y="16133"/>
                </a:moveTo>
                <a:cubicBezTo>
                  <a:pt x="9049" y="16173"/>
                  <a:pt x="9049" y="16212"/>
                  <a:pt x="9049" y="16252"/>
                </a:cubicBezTo>
                <a:cubicBezTo>
                  <a:pt x="9032" y="16263"/>
                  <a:pt x="9018" y="16316"/>
                  <a:pt x="9009" y="16351"/>
                </a:cubicBezTo>
                <a:cubicBezTo>
                  <a:pt x="8997" y="16398"/>
                  <a:pt x="9009" y="16461"/>
                  <a:pt x="9009" y="16510"/>
                </a:cubicBezTo>
              </a:path>
              <a:path w="4406" h="914">
                <a:moveTo>
                  <a:pt x="8870" y="16272"/>
                </a:moveTo>
                <a:cubicBezTo>
                  <a:pt x="8923" y="16272"/>
                  <a:pt x="8976" y="16272"/>
                  <a:pt x="9029" y="16272"/>
                </a:cubicBezTo>
                <a:cubicBezTo>
                  <a:pt x="9045" y="16296"/>
                  <a:pt x="9049" y="16292"/>
                  <a:pt x="9088" y="16292"/>
                </a:cubicBezTo>
              </a:path>
              <a:path w="4406" h="914">
                <a:moveTo>
                  <a:pt x="9426" y="16312"/>
                </a:moveTo>
                <a:cubicBezTo>
                  <a:pt x="9393" y="16312"/>
                  <a:pt x="9360" y="16312"/>
                  <a:pt x="9327" y="16312"/>
                </a:cubicBezTo>
                <a:cubicBezTo>
                  <a:pt x="9314" y="16330"/>
                  <a:pt x="9258" y="16331"/>
                  <a:pt x="9247" y="16371"/>
                </a:cubicBezTo>
                <a:cubicBezTo>
                  <a:pt x="9247" y="16384"/>
                  <a:pt x="9247" y="16398"/>
                  <a:pt x="9247" y="16411"/>
                </a:cubicBezTo>
                <a:cubicBezTo>
                  <a:pt x="9219" y="16420"/>
                  <a:pt x="9227" y="16416"/>
                  <a:pt x="9227" y="16450"/>
                </a:cubicBezTo>
                <a:cubicBezTo>
                  <a:pt x="9259" y="16461"/>
                  <a:pt x="9235" y="16459"/>
                  <a:pt x="9267" y="16470"/>
                </a:cubicBezTo>
                <a:cubicBezTo>
                  <a:pt x="9279" y="16507"/>
                  <a:pt x="9287" y="16489"/>
                  <a:pt x="9287" y="16550"/>
                </a:cubicBezTo>
                <a:cubicBezTo>
                  <a:pt x="9255" y="16558"/>
                  <a:pt x="9240" y="16581"/>
                  <a:pt x="9208" y="16589"/>
                </a:cubicBezTo>
                <a:cubicBezTo>
                  <a:pt x="9198" y="16629"/>
                  <a:pt x="9189" y="16629"/>
                  <a:pt x="9148" y="16629"/>
                </a:cubicBezTo>
                <a:cubicBezTo>
                  <a:pt x="9095" y="16629"/>
                  <a:pt x="9042" y="16629"/>
                  <a:pt x="8989" y="16629"/>
                </a:cubicBezTo>
              </a:path>
              <a:path w="4406" h="914">
                <a:moveTo>
                  <a:pt x="10041" y="16192"/>
                </a:moveTo>
                <a:cubicBezTo>
                  <a:pt x="10011" y="16207"/>
                  <a:pt x="9991" y="16242"/>
                  <a:pt x="9962" y="16272"/>
                </a:cubicBezTo>
                <a:cubicBezTo>
                  <a:pt x="9937" y="16297"/>
                  <a:pt x="9898" y="16348"/>
                  <a:pt x="9882" y="16371"/>
                </a:cubicBezTo>
                <a:cubicBezTo>
                  <a:pt x="9863" y="16400"/>
                  <a:pt x="9865" y="16420"/>
                  <a:pt x="9823" y="16431"/>
                </a:cubicBezTo>
                <a:cubicBezTo>
                  <a:pt x="9815" y="16463"/>
                  <a:pt x="9815" y="16462"/>
                  <a:pt x="9783" y="16470"/>
                </a:cubicBezTo>
                <a:cubicBezTo>
                  <a:pt x="9775" y="16494"/>
                  <a:pt x="9749" y="16504"/>
                  <a:pt x="9723" y="16530"/>
                </a:cubicBezTo>
              </a:path>
              <a:path w="4406" h="914">
                <a:moveTo>
                  <a:pt x="7124" y="16371"/>
                </a:moveTo>
                <a:cubicBezTo>
                  <a:pt x="7022" y="16371"/>
                  <a:pt x="6853" y="16397"/>
                  <a:pt x="6767" y="16351"/>
                </a:cubicBezTo>
                <a:cubicBezTo>
                  <a:pt x="6705" y="16318"/>
                  <a:pt x="6650" y="16318"/>
                  <a:pt x="6588" y="16292"/>
                </a:cubicBezTo>
                <a:cubicBezTo>
                  <a:pt x="6547" y="16275"/>
                  <a:pt x="6526" y="16265"/>
                  <a:pt x="6489" y="16252"/>
                </a:cubicBezTo>
                <a:cubicBezTo>
                  <a:pt x="6454" y="16240"/>
                  <a:pt x="6420" y="16226"/>
                  <a:pt x="6390" y="16212"/>
                </a:cubicBezTo>
                <a:cubicBezTo>
                  <a:pt x="6361" y="16198"/>
                  <a:pt x="6367" y="16193"/>
                  <a:pt x="6350" y="16173"/>
                </a:cubicBezTo>
                <a:cubicBezTo>
                  <a:pt x="6291" y="16165"/>
                  <a:pt x="6321" y="16156"/>
                  <a:pt x="6271" y="16133"/>
                </a:cubicBezTo>
                <a:cubicBezTo>
                  <a:pt x="6264" y="16133"/>
                  <a:pt x="6258" y="16133"/>
                  <a:pt x="6251" y="16133"/>
                </a:cubicBezTo>
                <a:cubicBezTo>
                  <a:pt x="6232" y="16121"/>
                  <a:pt x="6233" y="16116"/>
                  <a:pt x="6191" y="16113"/>
                </a:cubicBezTo>
                <a:cubicBezTo>
                  <a:pt x="6104" y="16108"/>
                  <a:pt x="5940" y="16146"/>
                  <a:pt x="5874" y="16093"/>
                </a:cubicBezTo>
                <a:cubicBezTo>
                  <a:pt x="5842" y="16068"/>
                  <a:pt x="5835" y="16063"/>
                  <a:pt x="5814" y="16034"/>
                </a:cubicBezTo>
              </a:path>
              <a:path w="4406" h="914">
                <a:moveTo>
                  <a:pt x="5735" y="15954"/>
                </a:moveTo>
                <a:cubicBezTo>
                  <a:pt x="5694" y="15954"/>
                  <a:pt x="5688" y="15963"/>
                  <a:pt x="5655" y="15974"/>
                </a:cubicBezTo>
                <a:cubicBezTo>
                  <a:pt x="5649" y="15974"/>
                  <a:pt x="5642" y="15974"/>
                  <a:pt x="5636" y="15974"/>
                </a:cubicBezTo>
                <a:cubicBezTo>
                  <a:pt x="5636" y="16032"/>
                  <a:pt x="5670" y="16009"/>
                  <a:pt x="5695" y="16054"/>
                </a:cubicBezTo>
                <a:cubicBezTo>
                  <a:pt x="5695" y="16060"/>
                  <a:pt x="5695" y="16067"/>
                  <a:pt x="5695" y="16073"/>
                </a:cubicBezTo>
                <a:cubicBezTo>
                  <a:pt x="5780" y="16073"/>
                  <a:pt x="5783" y="16078"/>
                  <a:pt x="5854" y="16113"/>
                </a:cubicBezTo>
                <a:cubicBezTo>
                  <a:pt x="5894" y="16133"/>
                  <a:pt x="5886" y="16112"/>
                  <a:pt x="5913" y="16153"/>
                </a:cubicBezTo>
                <a:cubicBezTo>
                  <a:pt x="5920" y="16163"/>
                  <a:pt x="5954" y="16215"/>
                  <a:pt x="5933" y="16232"/>
                </a:cubicBezTo>
                <a:cubicBezTo>
                  <a:pt x="5926" y="16232"/>
                  <a:pt x="5920" y="16232"/>
                  <a:pt x="5913" y="16232"/>
                </a:cubicBezTo>
              </a:path>
              <a:path w="4406" h="914">
                <a:moveTo>
                  <a:pt x="5636" y="15935"/>
                </a:moveTo>
                <a:cubicBezTo>
                  <a:pt x="5696" y="15935"/>
                  <a:pt x="5743" y="15939"/>
                  <a:pt x="5794" y="15954"/>
                </a:cubicBezTo>
                <a:cubicBezTo>
                  <a:pt x="5813" y="15960"/>
                  <a:pt x="5857" y="15954"/>
                  <a:pt x="5874" y="15954"/>
                </a:cubicBezTo>
                <a:cubicBezTo>
                  <a:pt x="5885" y="15924"/>
                  <a:pt x="5890" y="15935"/>
                  <a:pt x="5933" y="15935"/>
                </a:cubicBezTo>
                <a:cubicBezTo>
                  <a:pt x="5943" y="15895"/>
                  <a:pt x="5952" y="15895"/>
                  <a:pt x="5993" y="15895"/>
                </a:cubicBezTo>
                <a:cubicBezTo>
                  <a:pt x="6003" y="15865"/>
                  <a:pt x="6016" y="15875"/>
                  <a:pt x="6052" y="15875"/>
                </a:cubicBezTo>
                <a:cubicBezTo>
                  <a:pt x="6059" y="15875"/>
                  <a:pt x="6065" y="15875"/>
                  <a:pt x="6072" y="1587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851200" y="6194520"/>
            <a:ext cx="1071360" cy="257040"/>
          </a:xfrm>
          <a:custGeom>
            <a:avLst/>
            <a:gdLst/>
            <a:ahLst/>
            <a:rect l="l" t="t" r="r" b="b"/>
            <a:pathLst>
              <a:path w="2977" h="715">
                <a:moveTo>
                  <a:pt x="8136" y="17244"/>
                </a:moveTo>
                <a:cubicBezTo>
                  <a:pt x="8129" y="17244"/>
                  <a:pt x="8123" y="17244"/>
                  <a:pt x="8116" y="17244"/>
                </a:cubicBezTo>
                <a:cubicBezTo>
                  <a:pt x="8116" y="17283"/>
                  <a:pt x="8121" y="17288"/>
                  <a:pt x="8096" y="17304"/>
                </a:cubicBezTo>
                <a:cubicBezTo>
                  <a:pt x="8096" y="17365"/>
                  <a:pt x="8093" y="17411"/>
                  <a:pt x="8076" y="17462"/>
                </a:cubicBezTo>
                <a:cubicBezTo>
                  <a:pt x="8071" y="17477"/>
                  <a:pt x="8076" y="17506"/>
                  <a:pt x="8076" y="17522"/>
                </a:cubicBezTo>
                <a:cubicBezTo>
                  <a:pt x="8057" y="17522"/>
                  <a:pt x="8050" y="17522"/>
                  <a:pt x="8057" y="17542"/>
                </a:cubicBezTo>
              </a:path>
              <a:path w="2977" h="715">
                <a:moveTo>
                  <a:pt x="7918" y="17205"/>
                </a:moveTo>
                <a:cubicBezTo>
                  <a:pt x="8053" y="17205"/>
                  <a:pt x="8212" y="17189"/>
                  <a:pt x="8334" y="17224"/>
                </a:cubicBezTo>
                <a:cubicBezTo>
                  <a:pt x="8341" y="17224"/>
                  <a:pt x="8347" y="17224"/>
                  <a:pt x="8354" y="17224"/>
                </a:cubicBezTo>
              </a:path>
              <a:path w="2977" h="715">
                <a:moveTo>
                  <a:pt x="8414" y="17423"/>
                </a:moveTo>
                <a:cubicBezTo>
                  <a:pt x="8414" y="17477"/>
                  <a:pt x="8414" y="17633"/>
                  <a:pt x="8414" y="17621"/>
                </a:cubicBezTo>
                <a:cubicBezTo>
                  <a:pt x="8414" y="17584"/>
                  <a:pt x="8400" y="17571"/>
                  <a:pt x="8394" y="17542"/>
                </a:cubicBezTo>
                <a:cubicBezTo>
                  <a:pt x="8387" y="17509"/>
                  <a:pt x="8398" y="17467"/>
                  <a:pt x="8414" y="17443"/>
                </a:cubicBezTo>
                <a:cubicBezTo>
                  <a:pt x="8430" y="17419"/>
                  <a:pt x="8430" y="17401"/>
                  <a:pt x="8453" y="17383"/>
                </a:cubicBezTo>
                <a:cubicBezTo>
                  <a:pt x="8478" y="17363"/>
                  <a:pt x="8516" y="17343"/>
                  <a:pt x="8553" y="17343"/>
                </a:cubicBezTo>
              </a:path>
              <a:path w="2977" h="715">
                <a:moveTo>
                  <a:pt x="8870" y="17403"/>
                </a:moveTo>
                <a:cubicBezTo>
                  <a:pt x="8848" y="17419"/>
                  <a:pt x="8783" y="17425"/>
                  <a:pt x="8771" y="17443"/>
                </a:cubicBezTo>
                <a:cubicBezTo>
                  <a:pt x="8764" y="17454"/>
                  <a:pt x="8738" y="17507"/>
                  <a:pt x="8731" y="17522"/>
                </a:cubicBezTo>
                <a:cubicBezTo>
                  <a:pt x="8718" y="17551"/>
                  <a:pt x="8730" y="17641"/>
                  <a:pt x="8751" y="17661"/>
                </a:cubicBezTo>
                <a:cubicBezTo>
                  <a:pt x="8783" y="17691"/>
                  <a:pt x="8831" y="17681"/>
                  <a:pt x="8870" y="17681"/>
                </a:cubicBezTo>
                <a:cubicBezTo>
                  <a:pt x="8889" y="17681"/>
                  <a:pt x="8929" y="17644"/>
                  <a:pt x="8930" y="17641"/>
                </a:cubicBezTo>
                <a:cubicBezTo>
                  <a:pt x="8940" y="17606"/>
                  <a:pt x="8950" y="17579"/>
                  <a:pt x="8950" y="17542"/>
                </a:cubicBezTo>
                <a:cubicBezTo>
                  <a:pt x="8950" y="17499"/>
                  <a:pt x="8966" y="17435"/>
                  <a:pt x="8930" y="17423"/>
                </a:cubicBezTo>
              </a:path>
              <a:path w="2977" h="715">
                <a:moveTo>
                  <a:pt x="9148" y="17423"/>
                </a:moveTo>
                <a:cubicBezTo>
                  <a:pt x="9148" y="17485"/>
                  <a:pt x="9131" y="17574"/>
                  <a:pt x="9168" y="17621"/>
                </a:cubicBezTo>
                <a:cubicBezTo>
                  <a:pt x="9182" y="17638"/>
                  <a:pt x="9224" y="17654"/>
                  <a:pt x="9247" y="17641"/>
                </a:cubicBezTo>
                <a:cubicBezTo>
                  <a:pt x="9268" y="17629"/>
                  <a:pt x="9318" y="17609"/>
                  <a:pt x="9327" y="17601"/>
                </a:cubicBezTo>
                <a:cubicBezTo>
                  <a:pt x="9348" y="17581"/>
                  <a:pt x="9363" y="17552"/>
                  <a:pt x="9366" y="17522"/>
                </a:cubicBezTo>
                <a:cubicBezTo>
                  <a:pt x="9369" y="17489"/>
                  <a:pt x="9386" y="17507"/>
                  <a:pt x="9386" y="17462"/>
                </a:cubicBezTo>
                <a:cubicBezTo>
                  <a:pt x="9386" y="17436"/>
                  <a:pt x="9386" y="17409"/>
                  <a:pt x="9386" y="17383"/>
                </a:cubicBezTo>
              </a:path>
              <a:path w="2977" h="715">
                <a:moveTo>
                  <a:pt x="9624" y="17363"/>
                </a:moveTo>
                <a:cubicBezTo>
                  <a:pt x="9582" y="17374"/>
                  <a:pt x="9585" y="17393"/>
                  <a:pt x="9565" y="17423"/>
                </a:cubicBezTo>
                <a:cubicBezTo>
                  <a:pt x="9543" y="17456"/>
                  <a:pt x="9519" y="17440"/>
                  <a:pt x="9505" y="17482"/>
                </a:cubicBezTo>
                <a:cubicBezTo>
                  <a:pt x="9495" y="17512"/>
                  <a:pt x="9485" y="17499"/>
                  <a:pt x="9485" y="17542"/>
                </a:cubicBezTo>
                <a:cubicBezTo>
                  <a:pt x="9485" y="17580"/>
                  <a:pt x="9499" y="17608"/>
                  <a:pt x="9505" y="17621"/>
                </a:cubicBezTo>
                <a:cubicBezTo>
                  <a:pt x="9519" y="17653"/>
                  <a:pt x="9542" y="17641"/>
                  <a:pt x="9585" y="17641"/>
                </a:cubicBezTo>
                <a:cubicBezTo>
                  <a:pt x="9609" y="17641"/>
                  <a:pt x="9618" y="17662"/>
                  <a:pt x="9624" y="17681"/>
                </a:cubicBezTo>
                <a:cubicBezTo>
                  <a:pt x="9605" y="17686"/>
                  <a:pt x="9569" y="17712"/>
                  <a:pt x="9565" y="17720"/>
                </a:cubicBezTo>
                <a:cubicBezTo>
                  <a:pt x="9565" y="17747"/>
                  <a:pt x="9558" y="17753"/>
                  <a:pt x="9525" y="17740"/>
                </a:cubicBezTo>
                <a:cubicBezTo>
                  <a:pt x="9515" y="17798"/>
                  <a:pt x="9502" y="17768"/>
                  <a:pt x="9485" y="17820"/>
                </a:cubicBezTo>
                <a:cubicBezTo>
                  <a:pt x="9472" y="17859"/>
                  <a:pt x="9485" y="17861"/>
                  <a:pt x="9465" y="17899"/>
                </a:cubicBezTo>
                <a:cubicBezTo>
                  <a:pt x="9435" y="17956"/>
                  <a:pt x="9430" y="17900"/>
                  <a:pt x="9426" y="17879"/>
                </a:cubicBezTo>
              </a:path>
              <a:path w="2977" h="715">
                <a:moveTo>
                  <a:pt x="9842" y="17601"/>
                </a:moveTo>
                <a:cubicBezTo>
                  <a:pt x="9893" y="17601"/>
                  <a:pt x="9966" y="17625"/>
                  <a:pt x="9981" y="17562"/>
                </a:cubicBezTo>
                <a:cubicBezTo>
                  <a:pt x="9987" y="17538"/>
                  <a:pt x="9989" y="17476"/>
                  <a:pt x="9962" y="17462"/>
                </a:cubicBezTo>
                <a:cubicBezTo>
                  <a:pt x="9944" y="17453"/>
                  <a:pt x="9890" y="17431"/>
                  <a:pt x="9882" y="17423"/>
                </a:cubicBezTo>
                <a:cubicBezTo>
                  <a:pt x="9866" y="17407"/>
                  <a:pt x="9874" y="17386"/>
                  <a:pt x="9842" y="17383"/>
                </a:cubicBezTo>
                <a:cubicBezTo>
                  <a:pt x="9807" y="17380"/>
                  <a:pt x="9767" y="17394"/>
                  <a:pt x="9763" y="17423"/>
                </a:cubicBezTo>
                <a:cubicBezTo>
                  <a:pt x="9759" y="17455"/>
                  <a:pt x="9743" y="17465"/>
                  <a:pt x="9743" y="17502"/>
                </a:cubicBezTo>
                <a:cubicBezTo>
                  <a:pt x="9743" y="17529"/>
                  <a:pt x="9733" y="17567"/>
                  <a:pt x="9763" y="17582"/>
                </a:cubicBezTo>
                <a:cubicBezTo>
                  <a:pt x="9784" y="17592"/>
                  <a:pt x="9820" y="17614"/>
                  <a:pt x="9842" y="17621"/>
                </a:cubicBezTo>
                <a:cubicBezTo>
                  <a:pt x="9849" y="17623"/>
                  <a:pt x="9898" y="17655"/>
                  <a:pt x="9902" y="17661"/>
                </a:cubicBezTo>
                <a:cubicBezTo>
                  <a:pt x="9913" y="17677"/>
                  <a:pt x="9933" y="17691"/>
                  <a:pt x="9962" y="17701"/>
                </a:cubicBezTo>
                <a:cubicBezTo>
                  <a:pt x="9988" y="17710"/>
                  <a:pt x="10033" y="17701"/>
                  <a:pt x="10061" y="17701"/>
                </a:cubicBezTo>
              </a:path>
              <a:path w="2977" h="715">
                <a:moveTo>
                  <a:pt x="10239" y="17343"/>
                </a:moveTo>
                <a:cubicBezTo>
                  <a:pt x="10239" y="17419"/>
                  <a:pt x="10214" y="17562"/>
                  <a:pt x="10259" y="17621"/>
                </a:cubicBezTo>
                <a:cubicBezTo>
                  <a:pt x="10259" y="17559"/>
                  <a:pt x="10238" y="17449"/>
                  <a:pt x="10279" y="17403"/>
                </a:cubicBezTo>
                <a:cubicBezTo>
                  <a:pt x="10295" y="17385"/>
                  <a:pt x="10351" y="17353"/>
                  <a:pt x="10358" y="17343"/>
                </a:cubicBezTo>
                <a:cubicBezTo>
                  <a:pt x="10374" y="17319"/>
                  <a:pt x="10378" y="17324"/>
                  <a:pt x="10418" y="17324"/>
                </a:cubicBezTo>
                <a:cubicBezTo>
                  <a:pt x="10438" y="17324"/>
                  <a:pt x="10444" y="17324"/>
                  <a:pt x="10438" y="17343"/>
                </a:cubicBezTo>
              </a:path>
              <a:path w="2977" h="715">
                <a:moveTo>
                  <a:pt x="10874" y="17363"/>
                </a:moveTo>
                <a:cubicBezTo>
                  <a:pt x="10842" y="17355"/>
                  <a:pt x="10829" y="17328"/>
                  <a:pt x="10795" y="17324"/>
                </a:cubicBezTo>
                <a:cubicBezTo>
                  <a:pt x="10759" y="17320"/>
                  <a:pt x="10739" y="17325"/>
                  <a:pt x="10735" y="17363"/>
                </a:cubicBezTo>
                <a:cubicBezTo>
                  <a:pt x="10731" y="17396"/>
                  <a:pt x="10719" y="17413"/>
                  <a:pt x="10716" y="17443"/>
                </a:cubicBezTo>
                <a:cubicBezTo>
                  <a:pt x="10710" y="17496"/>
                  <a:pt x="10751" y="17468"/>
                  <a:pt x="10775" y="17482"/>
                </a:cubicBezTo>
                <a:cubicBezTo>
                  <a:pt x="10808" y="17500"/>
                  <a:pt x="10814" y="17502"/>
                  <a:pt x="10855" y="17502"/>
                </a:cubicBezTo>
                <a:cubicBezTo>
                  <a:pt x="10876" y="17502"/>
                  <a:pt x="10892" y="17523"/>
                  <a:pt x="10894" y="17542"/>
                </a:cubicBezTo>
                <a:cubicBezTo>
                  <a:pt x="10900" y="17593"/>
                  <a:pt x="10870" y="17578"/>
                  <a:pt x="10855" y="17601"/>
                </a:cubicBezTo>
                <a:cubicBezTo>
                  <a:pt x="10846" y="17615"/>
                  <a:pt x="10840" y="17648"/>
                  <a:pt x="10815" y="17661"/>
                </a:cubicBezTo>
                <a:cubicBezTo>
                  <a:pt x="10790" y="17674"/>
                  <a:pt x="10725" y="17661"/>
                  <a:pt x="10696" y="1766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979560" y="3643200"/>
            <a:ext cx="1271520" cy="300240"/>
          </a:xfrm>
          <a:custGeom>
            <a:avLst/>
            <a:gdLst/>
            <a:ahLst/>
            <a:rect l="l" t="t" r="r" b="b"/>
            <a:pathLst>
              <a:path w="3533" h="835">
                <a:moveTo>
                  <a:pt x="2719" y="10160"/>
                </a:moveTo>
                <a:cubicBezTo>
                  <a:pt x="2719" y="10365"/>
                  <a:pt x="2719" y="10570"/>
                  <a:pt x="2719" y="10775"/>
                </a:cubicBezTo>
              </a:path>
              <a:path w="3533" h="835">
                <a:moveTo>
                  <a:pt x="2738" y="10160"/>
                </a:moveTo>
                <a:cubicBezTo>
                  <a:pt x="2791" y="10160"/>
                  <a:pt x="2852" y="10146"/>
                  <a:pt x="2877" y="10140"/>
                </a:cubicBezTo>
                <a:cubicBezTo>
                  <a:pt x="2900" y="10134"/>
                  <a:pt x="2955" y="10121"/>
                  <a:pt x="2957" y="10120"/>
                </a:cubicBezTo>
                <a:cubicBezTo>
                  <a:pt x="2995" y="10109"/>
                  <a:pt x="3056" y="10120"/>
                  <a:pt x="3096" y="10120"/>
                </a:cubicBezTo>
                <a:cubicBezTo>
                  <a:pt x="3096" y="10189"/>
                  <a:pt x="3096" y="10259"/>
                  <a:pt x="3076" y="10299"/>
                </a:cubicBezTo>
                <a:cubicBezTo>
                  <a:pt x="3060" y="10330"/>
                  <a:pt x="3042" y="10383"/>
                  <a:pt x="3016" y="10398"/>
                </a:cubicBezTo>
                <a:cubicBezTo>
                  <a:pt x="2992" y="10412"/>
                  <a:pt x="2995" y="10418"/>
                  <a:pt x="2957" y="10418"/>
                </a:cubicBezTo>
                <a:cubicBezTo>
                  <a:pt x="2919" y="10418"/>
                  <a:pt x="2890" y="10432"/>
                  <a:pt x="2877" y="10438"/>
                </a:cubicBezTo>
                <a:cubicBezTo>
                  <a:pt x="2854" y="10448"/>
                  <a:pt x="2803" y="10438"/>
                  <a:pt x="2778" y="10438"/>
                </a:cubicBezTo>
              </a:path>
              <a:path w="3533" h="835">
                <a:moveTo>
                  <a:pt x="3274" y="10597"/>
                </a:moveTo>
                <a:cubicBezTo>
                  <a:pt x="3310" y="10588"/>
                  <a:pt x="3330" y="10577"/>
                  <a:pt x="3373" y="10577"/>
                </a:cubicBezTo>
                <a:cubicBezTo>
                  <a:pt x="3405" y="10577"/>
                  <a:pt x="3417" y="10557"/>
                  <a:pt x="3453" y="10557"/>
                </a:cubicBezTo>
                <a:cubicBezTo>
                  <a:pt x="3473" y="10557"/>
                  <a:pt x="3479" y="10557"/>
                  <a:pt x="3492" y="10557"/>
                </a:cubicBezTo>
                <a:cubicBezTo>
                  <a:pt x="3492" y="10512"/>
                  <a:pt x="3505" y="10496"/>
                  <a:pt x="3453" y="10478"/>
                </a:cubicBezTo>
                <a:cubicBezTo>
                  <a:pt x="3433" y="10471"/>
                  <a:pt x="3391" y="10468"/>
                  <a:pt x="3373" y="10458"/>
                </a:cubicBezTo>
                <a:cubicBezTo>
                  <a:pt x="3340" y="10439"/>
                  <a:pt x="3335" y="10438"/>
                  <a:pt x="3294" y="10438"/>
                </a:cubicBezTo>
                <a:cubicBezTo>
                  <a:pt x="3228" y="10438"/>
                  <a:pt x="3235" y="10460"/>
                  <a:pt x="3235" y="10517"/>
                </a:cubicBezTo>
                <a:cubicBezTo>
                  <a:pt x="3235" y="10561"/>
                  <a:pt x="3234" y="10580"/>
                  <a:pt x="3254" y="10616"/>
                </a:cubicBezTo>
                <a:cubicBezTo>
                  <a:pt x="3268" y="10640"/>
                  <a:pt x="3318" y="10705"/>
                  <a:pt x="3334" y="10716"/>
                </a:cubicBezTo>
                <a:cubicBezTo>
                  <a:pt x="3372" y="10742"/>
                  <a:pt x="3340" y="10755"/>
                  <a:pt x="3413" y="10755"/>
                </a:cubicBezTo>
                <a:cubicBezTo>
                  <a:pt x="3459" y="10755"/>
                  <a:pt x="3506" y="10755"/>
                  <a:pt x="3552" y="10755"/>
                </a:cubicBezTo>
              </a:path>
              <a:path w="3533" h="835">
                <a:moveTo>
                  <a:pt x="3830" y="10478"/>
                </a:moveTo>
                <a:cubicBezTo>
                  <a:pt x="3786" y="10461"/>
                  <a:pt x="3738" y="10443"/>
                  <a:pt x="3691" y="10438"/>
                </a:cubicBezTo>
                <a:cubicBezTo>
                  <a:pt x="3654" y="10434"/>
                  <a:pt x="3622" y="10486"/>
                  <a:pt x="3612" y="10517"/>
                </a:cubicBezTo>
                <a:cubicBezTo>
                  <a:pt x="3601" y="10550"/>
                  <a:pt x="3592" y="10580"/>
                  <a:pt x="3592" y="10616"/>
                </a:cubicBezTo>
                <a:cubicBezTo>
                  <a:pt x="3592" y="10636"/>
                  <a:pt x="3612" y="10655"/>
                  <a:pt x="3631" y="10656"/>
                </a:cubicBezTo>
                <a:cubicBezTo>
                  <a:pt x="3680" y="10660"/>
                  <a:pt x="3700" y="10691"/>
                  <a:pt x="3750" y="10696"/>
                </a:cubicBezTo>
                <a:cubicBezTo>
                  <a:pt x="3796" y="10701"/>
                  <a:pt x="3791" y="10651"/>
                  <a:pt x="3810" y="10636"/>
                </a:cubicBezTo>
                <a:cubicBezTo>
                  <a:pt x="3843" y="10609"/>
                  <a:pt x="3833" y="10571"/>
                  <a:pt x="3850" y="10557"/>
                </a:cubicBezTo>
                <a:cubicBezTo>
                  <a:pt x="3870" y="10541"/>
                  <a:pt x="3867" y="10548"/>
                  <a:pt x="3889" y="10517"/>
                </a:cubicBezTo>
                <a:cubicBezTo>
                  <a:pt x="3897" y="10548"/>
                  <a:pt x="3909" y="10561"/>
                  <a:pt x="3909" y="10597"/>
                </a:cubicBezTo>
                <a:cubicBezTo>
                  <a:pt x="3909" y="10623"/>
                  <a:pt x="3908" y="10640"/>
                  <a:pt x="3929" y="10656"/>
                </a:cubicBezTo>
                <a:cubicBezTo>
                  <a:pt x="3948" y="10671"/>
                  <a:pt x="3955" y="10676"/>
                  <a:pt x="3989" y="10676"/>
                </a:cubicBezTo>
                <a:cubicBezTo>
                  <a:pt x="4025" y="10676"/>
                  <a:pt x="4050" y="10696"/>
                  <a:pt x="4088" y="10696"/>
                </a:cubicBezTo>
              </a:path>
              <a:path w="3533" h="835">
                <a:moveTo>
                  <a:pt x="4505" y="10358"/>
                </a:moveTo>
                <a:cubicBezTo>
                  <a:pt x="4458" y="10358"/>
                  <a:pt x="4445" y="10343"/>
                  <a:pt x="4405" y="10339"/>
                </a:cubicBezTo>
                <a:cubicBezTo>
                  <a:pt x="4366" y="10335"/>
                  <a:pt x="4361" y="10338"/>
                  <a:pt x="4346" y="10358"/>
                </a:cubicBezTo>
                <a:cubicBezTo>
                  <a:pt x="4320" y="10392"/>
                  <a:pt x="4326" y="10413"/>
                  <a:pt x="4326" y="10458"/>
                </a:cubicBezTo>
                <a:cubicBezTo>
                  <a:pt x="4326" y="10498"/>
                  <a:pt x="4335" y="10504"/>
                  <a:pt x="4346" y="10537"/>
                </a:cubicBezTo>
                <a:cubicBezTo>
                  <a:pt x="4356" y="10568"/>
                  <a:pt x="4377" y="10558"/>
                  <a:pt x="4405" y="10577"/>
                </a:cubicBezTo>
                <a:cubicBezTo>
                  <a:pt x="4428" y="10592"/>
                  <a:pt x="4477" y="10613"/>
                  <a:pt x="4485" y="10616"/>
                </a:cubicBezTo>
                <a:cubicBezTo>
                  <a:pt x="4498" y="10621"/>
                  <a:pt x="4530" y="10616"/>
                  <a:pt x="4544" y="10616"/>
                </a:cubicBezTo>
                <a:cubicBezTo>
                  <a:pt x="4544" y="10663"/>
                  <a:pt x="4552" y="10696"/>
                  <a:pt x="4524" y="10716"/>
                </a:cubicBezTo>
                <a:cubicBezTo>
                  <a:pt x="4490" y="10741"/>
                  <a:pt x="4454" y="10739"/>
                  <a:pt x="4425" y="10755"/>
                </a:cubicBezTo>
                <a:cubicBezTo>
                  <a:pt x="4395" y="10772"/>
                  <a:pt x="4378" y="10794"/>
                  <a:pt x="4366" y="10755"/>
                </a:cubicBezTo>
              </a:path>
              <a:path w="3533" h="835">
                <a:moveTo>
                  <a:pt x="4961" y="10438"/>
                </a:moveTo>
                <a:cubicBezTo>
                  <a:pt x="4901" y="10438"/>
                  <a:pt x="4807" y="10421"/>
                  <a:pt x="4762" y="10458"/>
                </a:cubicBezTo>
                <a:cubicBezTo>
                  <a:pt x="4732" y="10483"/>
                  <a:pt x="4726" y="10502"/>
                  <a:pt x="4723" y="10537"/>
                </a:cubicBezTo>
                <a:cubicBezTo>
                  <a:pt x="4718" y="10595"/>
                  <a:pt x="4736" y="10668"/>
                  <a:pt x="4743" y="10696"/>
                </a:cubicBezTo>
                <a:cubicBezTo>
                  <a:pt x="4756" y="10745"/>
                  <a:pt x="4774" y="10777"/>
                  <a:pt x="4822" y="10735"/>
                </a:cubicBezTo>
                <a:cubicBezTo>
                  <a:pt x="4857" y="10705"/>
                  <a:pt x="4837" y="10645"/>
                  <a:pt x="4862" y="10616"/>
                </a:cubicBezTo>
                <a:cubicBezTo>
                  <a:pt x="4884" y="10591"/>
                  <a:pt x="4860" y="10549"/>
                  <a:pt x="4882" y="10517"/>
                </a:cubicBezTo>
                <a:cubicBezTo>
                  <a:pt x="4886" y="10511"/>
                  <a:pt x="4916" y="10461"/>
                  <a:pt x="4921" y="10438"/>
                </a:cubicBezTo>
                <a:cubicBezTo>
                  <a:pt x="4932" y="10387"/>
                  <a:pt x="4918" y="10388"/>
                  <a:pt x="4941" y="10358"/>
                </a:cubicBezTo>
                <a:cubicBezTo>
                  <a:pt x="4948" y="10352"/>
                  <a:pt x="4954" y="10345"/>
                  <a:pt x="4961" y="10339"/>
                </a:cubicBezTo>
                <a:cubicBezTo>
                  <a:pt x="4961" y="10448"/>
                  <a:pt x="4948" y="10598"/>
                  <a:pt x="4981" y="10676"/>
                </a:cubicBezTo>
                <a:cubicBezTo>
                  <a:pt x="4992" y="10701"/>
                  <a:pt x="5020" y="10713"/>
                  <a:pt x="5060" y="10716"/>
                </a:cubicBezTo>
                <a:cubicBezTo>
                  <a:pt x="5103" y="10719"/>
                  <a:pt x="5117" y="10735"/>
                  <a:pt x="5159" y="10735"/>
                </a:cubicBezTo>
                <a:cubicBezTo>
                  <a:pt x="5179" y="10735"/>
                  <a:pt x="5186" y="10735"/>
                  <a:pt x="5199" y="10735"/>
                </a:cubicBezTo>
              </a:path>
              <a:path w="3533" h="835">
                <a:moveTo>
                  <a:pt x="5239" y="10497"/>
                </a:moveTo>
                <a:cubicBezTo>
                  <a:pt x="5239" y="10547"/>
                  <a:pt x="5247" y="10569"/>
                  <a:pt x="5259" y="10616"/>
                </a:cubicBezTo>
                <a:cubicBezTo>
                  <a:pt x="5273" y="10669"/>
                  <a:pt x="5262" y="10726"/>
                  <a:pt x="5278" y="10775"/>
                </a:cubicBezTo>
                <a:cubicBezTo>
                  <a:pt x="5292" y="10818"/>
                  <a:pt x="5278" y="10752"/>
                  <a:pt x="5278" y="10735"/>
                </a:cubicBezTo>
                <a:cubicBezTo>
                  <a:pt x="5278" y="10656"/>
                  <a:pt x="5276" y="10584"/>
                  <a:pt x="5298" y="10517"/>
                </a:cubicBezTo>
                <a:cubicBezTo>
                  <a:pt x="5305" y="10497"/>
                  <a:pt x="5329" y="10463"/>
                  <a:pt x="5338" y="10458"/>
                </a:cubicBezTo>
                <a:cubicBezTo>
                  <a:pt x="5351" y="10451"/>
                  <a:pt x="5372" y="10423"/>
                  <a:pt x="5398" y="10438"/>
                </a:cubicBezTo>
                <a:cubicBezTo>
                  <a:pt x="5427" y="10455"/>
                  <a:pt x="5438" y="10464"/>
                  <a:pt x="5457" y="10478"/>
                </a:cubicBezTo>
                <a:cubicBezTo>
                  <a:pt x="5481" y="10495"/>
                  <a:pt x="5509" y="10532"/>
                  <a:pt x="5517" y="10557"/>
                </a:cubicBezTo>
                <a:cubicBezTo>
                  <a:pt x="5526" y="10583"/>
                  <a:pt x="5527" y="10610"/>
                  <a:pt x="5536" y="10636"/>
                </a:cubicBezTo>
                <a:cubicBezTo>
                  <a:pt x="5548" y="10670"/>
                  <a:pt x="5543" y="10725"/>
                  <a:pt x="5556" y="10755"/>
                </a:cubicBezTo>
                <a:cubicBezTo>
                  <a:pt x="5571" y="10791"/>
                  <a:pt x="5587" y="10787"/>
                  <a:pt x="5596" y="10815"/>
                </a:cubicBezTo>
              </a:path>
              <a:path w="3533" h="835">
                <a:moveTo>
                  <a:pt x="5834" y="10458"/>
                </a:moveTo>
                <a:cubicBezTo>
                  <a:pt x="5834" y="10533"/>
                  <a:pt x="5818" y="10634"/>
                  <a:pt x="5854" y="10696"/>
                </a:cubicBezTo>
                <a:cubicBezTo>
                  <a:pt x="5878" y="10737"/>
                  <a:pt x="5889" y="10764"/>
                  <a:pt x="5913" y="10795"/>
                </a:cubicBezTo>
                <a:cubicBezTo>
                  <a:pt x="5938" y="10827"/>
                  <a:pt x="5974" y="10878"/>
                  <a:pt x="5993" y="10914"/>
                </a:cubicBezTo>
                <a:cubicBezTo>
                  <a:pt x="6006" y="10939"/>
                  <a:pt x="6004" y="10926"/>
                  <a:pt x="6013" y="10954"/>
                </a:cubicBezTo>
              </a:path>
              <a:path w="3533" h="835">
                <a:moveTo>
                  <a:pt x="5735" y="10716"/>
                </a:moveTo>
                <a:cubicBezTo>
                  <a:pt x="5779" y="10707"/>
                  <a:pt x="5806" y="10696"/>
                  <a:pt x="5854" y="10696"/>
                </a:cubicBezTo>
                <a:cubicBezTo>
                  <a:pt x="5909" y="10696"/>
                  <a:pt x="5929" y="10676"/>
                  <a:pt x="5993" y="10676"/>
                </a:cubicBezTo>
                <a:cubicBezTo>
                  <a:pt x="6079" y="10676"/>
                  <a:pt x="6165" y="10676"/>
                  <a:pt x="6251" y="1067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5"/>
          <a:stretch/>
        </p:blipFill>
        <p:spPr>
          <a:xfrm>
            <a:off x="7162920" y="990720"/>
            <a:ext cx="1374480" cy="2133360"/>
          </a:xfrm>
          <a:prstGeom prst="rect">
            <a:avLst/>
          </a:prstGeom>
          <a:ln w="0">
            <a:noFill/>
          </a:ln>
        </p:spPr>
      </p:pic>
      <p:sp>
        <p:nvSpPr>
          <p:cNvPr id="78" name=""/>
          <p:cNvSpPr/>
          <p:nvPr/>
        </p:nvSpPr>
        <p:spPr>
          <a:xfrm>
            <a:off x="6215040" y="1128600"/>
            <a:ext cx="1336680" cy="1208160"/>
          </a:xfrm>
          <a:custGeom>
            <a:avLst/>
            <a:gdLst/>
            <a:ahLst/>
            <a:rect l="l" t="t" r="r" b="b"/>
            <a:pathLst>
              <a:path w="3712" h="3355">
                <a:moveTo>
                  <a:pt x="17522" y="4306"/>
                </a:moveTo>
                <a:cubicBezTo>
                  <a:pt x="17482" y="4316"/>
                  <a:pt x="17471" y="4326"/>
                  <a:pt x="17423" y="4326"/>
                </a:cubicBezTo>
                <a:cubicBezTo>
                  <a:pt x="17385" y="4326"/>
                  <a:pt x="17376" y="4318"/>
                  <a:pt x="17363" y="4346"/>
                </a:cubicBezTo>
                <a:cubicBezTo>
                  <a:pt x="17342" y="4390"/>
                  <a:pt x="17316" y="4418"/>
                  <a:pt x="17304" y="4465"/>
                </a:cubicBezTo>
                <a:cubicBezTo>
                  <a:pt x="17289" y="4524"/>
                  <a:pt x="17267" y="4560"/>
                  <a:pt x="17264" y="4624"/>
                </a:cubicBezTo>
                <a:cubicBezTo>
                  <a:pt x="17261" y="4681"/>
                  <a:pt x="17245" y="4798"/>
                  <a:pt x="17284" y="4842"/>
                </a:cubicBezTo>
                <a:cubicBezTo>
                  <a:pt x="17305" y="4865"/>
                  <a:pt x="17335" y="4892"/>
                  <a:pt x="17363" y="4901"/>
                </a:cubicBezTo>
                <a:cubicBezTo>
                  <a:pt x="17396" y="4912"/>
                  <a:pt x="17419" y="4896"/>
                  <a:pt x="17443" y="4882"/>
                </a:cubicBezTo>
                <a:cubicBezTo>
                  <a:pt x="17479" y="4861"/>
                  <a:pt x="17508" y="4837"/>
                  <a:pt x="17542" y="4822"/>
                </a:cubicBezTo>
                <a:cubicBezTo>
                  <a:pt x="17572" y="4809"/>
                  <a:pt x="17632" y="4786"/>
                  <a:pt x="17641" y="4782"/>
                </a:cubicBezTo>
                <a:cubicBezTo>
                  <a:pt x="17648" y="4782"/>
                  <a:pt x="17654" y="4782"/>
                  <a:pt x="17661" y="4782"/>
                </a:cubicBezTo>
              </a:path>
              <a:path w="3712" h="3355">
                <a:moveTo>
                  <a:pt x="18098" y="4505"/>
                </a:moveTo>
                <a:cubicBezTo>
                  <a:pt x="18070" y="4505"/>
                  <a:pt x="18028" y="4509"/>
                  <a:pt x="18018" y="4544"/>
                </a:cubicBezTo>
                <a:cubicBezTo>
                  <a:pt x="18005" y="4590"/>
                  <a:pt x="18002" y="4604"/>
                  <a:pt x="17998" y="4643"/>
                </a:cubicBezTo>
                <a:cubicBezTo>
                  <a:pt x="17993" y="4697"/>
                  <a:pt x="18003" y="4738"/>
                  <a:pt x="18018" y="4782"/>
                </a:cubicBezTo>
                <a:cubicBezTo>
                  <a:pt x="18031" y="4822"/>
                  <a:pt x="18031" y="4809"/>
                  <a:pt x="18058" y="4802"/>
                </a:cubicBezTo>
                <a:cubicBezTo>
                  <a:pt x="18073" y="4798"/>
                  <a:pt x="18107" y="4767"/>
                  <a:pt x="18117" y="4743"/>
                </a:cubicBezTo>
                <a:cubicBezTo>
                  <a:pt x="18126" y="4723"/>
                  <a:pt x="18135" y="4683"/>
                  <a:pt x="18137" y="4663"/>
                </a:cubicBezTo>
                <a:cubicBezTo>
                  <a:pt x="18144" y="4599"/>
                  <a:pt x="18137" y="4529"/>
                  <a:pt x="18137" y="4465"/>
                </a:cubicBezTo>
              </a:path>
              <a:path w="3712" h="3355">
                <a:moveTo>
                  <a:pt x="18355" y="4227"/>
                </a:moveTo>
                <a:cubicBezTo>
                  <a:pt x="18355" y="4425"/>
                  <a:pt x="18355" y="4624"/>
                  <a:pt x="18355" y="4822"/>
                </a:cubicBezTo>
              </a:path>
              <a:path w="3712" h="3355">
                <a:moveTo>
                  <a:pt x="18653" y="4465"/>
                </a:moveTo>
                <a:cubicBezTo>
                  <a:pt x="18624" y="4472"/>
                  <a:pt x="18597" y="4478"/>
                  <a:pt x="18594" y="4505"/>
                </a:cubicBezTo>
                <a:cubicBezTo>
                  <a:pt x="18589" y="4548"/>
                  <a:pt x="18557" y="4531"/>
                  <a:pt x="18554" y="4564"/>
                </a:cubicBezTo>
                <a:cubicBezTo>
                  <a:pt x="18551" y="4598"/>
                  <a:pt x="18538" y="4705"/>
                  <a:pt x="18574" y="4723"/>
                </a:cubicBezTo>
                <a:cubicBezTo>
                  <a:pt x="18609" y="4741"/>
                  <a:pt x="18708" y="4725"/>
                  <a:pt x="18732" y="4703"/>
                </a:cubicBezTo>
                <a:cubicBezTo>
                  <a:pt x="18759" y="4678"/>
                  <a:pt x="18752" y="4658"/>
                  <a:pt x="18752" y="4624"/>
                </a:cubicBezTo>
                <a:cubicBezTo>
                  <a:pt x="18752" y="4563"/>
                  <a:pt x="18749" y="4516"/>
                  <a:pt x="18732" y="4465"/>
                </a:cubicBezTo>
                <a:cubicBezTo>
                  <a:pt x="18732" y="4458"/>
                  <a:pt x="18732" y="4452"/>
                  <a:pt x="18732" y="4445"/>
                </a:cubicBezTo>
              </a:path>
              <a:path w="3712" h="3355">
                <a:moveTo>
                  <a:pt x="18971" y="4465"/>
                </a:moveTo>
                <a:cubicBezTo>
                  <a:pt x="18971" y="4570"/>
                  <a:pt x="18971" y="4848"/>
                  <a:pt x="18971" y="4743"/>
                </a:cubicBezTo>
                <a:cubicBezTo>
                  <a:pt x="18971" y="4693"/>
                  <a:pt x="18942" y="4489"/>
                  <a:pt x="18990" y="4465"/>
                </a:cubicBezTo>
                <a:cubicBezTo>
                  <a:pt x="19017" y="4451"/>
                  <a:pt x="19084" y="4427"/>
                  <a:pt x="19090" y="4425"/>
                </a:cubicBezTo>
                <a:cubicBezTo>
                  <a:pt x="19110" y="4425"/>
                  <a:pt x="19116" y="4425"/>
                  <a:pt x="19129" y="4425"/>
                </a:cubicBezTo>
              </a:path>
              <a:path w="3712" h="3355">
                <a:moveTo>
                  <a:pt x="19407" y="4743"/>
                </a:moveTo>
                <a:cubicBezTo>
                  <a:pt x="19407" y="4683"/>
                  <a:pt x="19407" y="4624"/>
                  <a:pt x="19407" y="4564"/>
                </a:cubicBezTo>
                <a:cubicBezTo>
                  <a:pt x="19392" y="4554"/>
                  <a:pt x="19377" y="4514"/>
                  <a:pt x="19368" y="4485"/>
                </a:cubicBezTo>
                <a:cubicBezTo>
                  <a:pt x="19368" y="4465"/>
                  <a:pt x="19368" y="4458"/>
                  <a:pt x="19368" y="4445"/>
                </a:cubicBezTo>
                <a:cubicBezTo>
                  <a:pt x="19325" y="4431"/>
                  <a:pt x="19368" y="4420"/>
                  <a:pt x="19348" y="4385"/>
                </a:cubicBezTo>
                <a:cubicBezTo>
                  <a:pt x="19329" y="4352"/>
                  <a:pt x="19328" y="4347"/>
                  <a:pt x="19328" y="4306"/>
                </a:cubicBezTo>
                <a:cubicBezTo>
                  <a:pt x="19328" y="4273"/>
                  <a:pt x="19328" y="4240"/>
                  <a:pt x="19328" y="4207"/>
                </a:cubicBezTo>
                <a:cubicBezTo>
                  <a:pt x="19370" y="4197"/>
                  <a:pt x="19379" y="4167"/>
                  <a:pt x="19427" y="4167"/>
                </a:cubicBezTo>
                <a:cubicBezTo>
                  <a:pt x="19460" y="4167"/>
                  <a:pt x="19493" y="4167"/>
                  <a:pt x="19526" y="4167"/>
                </a:cubicBezTo>
              </a:path>
              <a:path w="3712" h="3355">
                <a:moveTo>
                  <a:pt x="19268" y="4643"/>
                </a:moveTo>
                <a:cubicBezTo>
                  <a:pt x="19304" y="4643"/>
                  <a:pt x="19316" y="4627"/>
                  <a:pt x="19348" y="4624"/>
                </a:cubicBezTo>
                <a:cubicBezTo>
                  <a:pt x="19355" y="4624"/>
                  <a:pt x="19361" y="4624"/>
                  <a:pt x="19368" y="4624"/>
                </a:cubicBezTo>
                <a:cubicBezTo>
                  <a:pt x="19376" y="4598"/>
                  <a:pt x="19430" y="4575"/>
                  <a:pt x="19467" y="4564"/>
                </a:cubicBezTo>
                <a:cubicBezTo>
                  <a:pt x="19474" y="4564"/>
                  <a:pt x="19480" y="4564"/>
                  <a:pt x="19487" y="4564"/>
                </a:cubicBezTo>
              </a:path>
              <a:path w="3712" h="3355">
                <a:moveTo>
                  <a:pt x="19606" y="4485"/>
                </a:moveTo>
                <a:cubicBezTo>
                  <a:pt x="19609" y="4496"/>
                  <a:pt x="19621" y="4578"/>
                  <a:pt x="19625" y="4584"/>
                </a:cubicBezTo>
                <a:cubicBezTo>
                  <a:pt x="19632" y="4594"/>
                  <a:pt x="19656" y="4617"/>
                  <a:pt x="19665" y="4643"/>
                </a:cubicBezTo>
                <a:cubicBezTo>
                  <a:pt x="19672" y="4664"/>
                  <a:pt x="19680" y="4681"/>
                  <a:pt x="19705" y="4683"/>
                </a:cubicBezTo>
                <a:cubicBezTo>
                  <a:pt x="19738" y="4683"/>
                  <a:pt x="19744" y="4683"/>
                  <a:pt x="19764" y="4683"/>
                </a:cubicBezTo>
                <a:cubicBezTo>
                  <a:pt x="19772" y="4632"/>
                  <a:pt x="19803" y="4637"/>
                  <a:pt x="19824" y="4584"/>
                </a:cubicBezTo>
                <a:cubicBezTo>
                  <a:pt x="19835" y="4556"/>
                  <a:pt x="19844" y="4538"/>
                  <a:pt x="19844" y="4505"/>
                </a:cubicBezTo>
                <a:cubicBezTo>
                  <a:pt x="19844" y="4472"/>
                  <a:pt x="19844" y="4465"/>
                  <a:pt x="19844" y="4445"/>
                </a:cubicBezTo>
              </a:path>
              <a:path w="3712" h="3355">
                <a:moveTo>
                  <a:pt x="20002" y="4187"/>
                </a:moveTo>
                <a:cubicBezTo>
                  <a:pt x="20002" y="4259"/>
                  <a:pt x="19996" y="4324"/>
                  <a:pt x="19983" y="4385"/>
                </a:cubicBezTo>
                <a:cubicBezTo>
                  <a:pt x="19972" y="4438"/>
                  <a:pt x="19988" y="4482"/>
                  <a:pt x="20002" y="4524"/>
                </a:cubicBezTo>
                <a:cubicBezTo>
                  <a:pt x="20011" y="4551"/>
                  <a:pt x="20014" y="4580"/>
                  <a:pt x="20022" y="4604"/>
                </a:cubicBezTo>
                <a:cubicBezTo>
                  <a:pt x="20032" y="4635"/>
                  <a:pt x="20031" y="4612"/>
                  <a:pt x="20042" y="4643"/>
                </a:cubicBezTo>
              </a:path>
              <a:path w="3712" h="3355">
                <a:moveTo>
                  <a:pt x="17681" y="5338"/>
                </a:moveTo>
                <a:cubicBezTo>
                  <a:pt x="17652" y="5345"/>
                  <a:pt x="17610" y="5359"/>
                  <a:pt x="17582" y="5378"/>
                </a:cubicBezTo>
                <a:cubicBezTo>
                  <a:pt x="17567" y="5388"/>
                  <a:pt x="17523" y="5435"/>
                  <a:pt x="17522" y="5437"/>
                </a:cubicBezTo>
                <a:cubicBezTo>
                  <a:pt x="17497" y="5487"/>
                  <a:pt x="17531" y="5594"/>
                  <a:pt x="17542" y="5616"/>
                </a:cubicBezTo>
                <a:cubicBezTo>
                  <a:pt x="17563" y="5659"/>
                  <a:pt x="17555" y="5630"/>
                  <a:pt x="17601" y="5655"/>
                </a:cubicBezTo>
                <a:cubicBezTo>
                  <a:pt x="17641" y="5677"/>
                  <a:pt x="17650" y="5675"/>
                  <a:pt x="17701" y="5675"/>
                </a:cubicBezTo>
                <a:cubicBezTo>
                  <a:pt x="17756" y="5675"/>
                  <a:pt x="17810" y="5684"/>
                  <a:pt x="17859" y="5655"/>
                </a:cubicBezTo>
                <a:cubicBezTo>
                  <a:pt x="17883" y="5640"/>
                  <a:pt x="17932" y="5622"/>
                  <a:pt x="17959" y="5616"/>
                </a:cubicBezTo>
                <a:cubicBezTo>
                  <a:pt x="17969" y="5614"/>
                  <a:pt x="18052" y="5604"/>
                  <a:pt x="18058" y="5596"/>
                </a:cubicBezTo>
                <a:cubicBezTo>
                  <a:pt x="18058" y="5589"/>
                  <a:pt x="18058" y="5583"/>
                  <a:pt x="18058" y="5576"/>
                </a:cubicBezTo>
              </a:path>
              <a:path w="3712" h="3355">
                <a:moveTo>
                  <a:pt x="18058" y="5259"/>
                </a:moveTo>
                <a:cubicBezTo>
                  <a:pt x="18097" y="5270"/>
                  <a:pt x="18138" y="5288"/>
                  <a:pt x="18177" y="5318"/>
                </a:cubicBezTo>
                <a:cubicBezTo>
                  <a:pt x="18216" y="5348"/>
                  <a:pt x="18230" y="5387"/>
                  <a:pt x="18276" y="5398"/>
                </a:cubicBezTo>
                <a:cubicBezTo>
                  <a:pt x="18276" y="5447"/>
                  <a:pt x="18284" y="5470"/>
                  <a:pt x="18296" y="5517"/>
                </a:cubicBezTo>
                <a:cubicBezTo>
                  <a:pt x="18296" y="5536"/>
                  <a:pt x="18296" y="5543"/>
                  <a:pt x="18296" y="5556"/>
                </a:cubicBezTo>
              </a:path>
              <a:path w="3712" h="3355">
                <a:moveTo>
                  <a:pt x="18633" y="5338"/>
                </a:moveTo>
                <a:cubicBezTo>
                  <a:pt x="18606" y="5345"/>
                  <a:pt x="18562" y="5384"/>
                  <a:pt x="18554" y="5398"/>
                </a:cubicBezTo>
                <a:cubicBezTo>
                  <a:pt x="18525" y="5447"/>
                  <a:pt x="18570" y="5514"/>
                  <a:pt x="18594" y="5536"/>
                </a:cubicBezTo>
                <a:cubicBezTo>
                  <a:pt x="18630" y="5569"/>
                  <a:pt x="18659" y="5532"/>
                  <a:pt x="18693" y="5556"/>
                </a:cubicBezTo>
                <a:cubicBezTo>
                  <a:pt x="18702" y="5562"/>
                  <a:pt x="18728" y="5606"/>
                  <a:pt x="18752" y="5556"/>
                </a:cubicBezTo>
                <a:cubicBezTo>
                  <a:pt x="18772" y="5515"/>
                  <a:pt x="18743" y="5448"/>
                  <a:pt x="18732" y="5417"/>
                </a:cubicBezTo>
                <a:cubicBezTo>
                  <a:pt x="18727" y="5403"/>
                  <a:pt x="18697" y="5369"/>
                  <a:pt x="18673" y="5358"/>
                </a:cubicBezTo>
                <a:cubicBezTo>
                  <a:pt x="18666" y="5358"/>
                  <a:pt x="18660" y="5358"/>
                  <a:pt x="18653" y="5358"/>
                </a:cubicBezTo>
              </a:path>
              <a:path w="3712" h="3355">
                <a:moveTo>
                  <a:pt x="19010" y="5159"/>
                </a:moveTo>
                <a:cubicBezTo>
                  <a:pt x="19010" y="5221"/>
                  <a:pt x="19013" y="5266"/>
                  <a:pt x="19030" y="5318"/>
                </a:cubicBezTo>
                <a:cubicBezTo>
                  <a:pt x="19042" y="5353"/>
                  <a:pt x="19039" y="5363"/>
                  <a:pt x="19070" y="5378"/>
                </a:cubicBezTo>
                <a:cubicBezTo>
                  <a:pt x="19070" y="5411"/>
                  <a:pt x="19070" y="5444"/>
                  <a:pt x="19070" y="5477"/>
                </a:cubicBezTo>
              </a:path>
              <a:path w="3712" h="3355">
                <a:moveTo>
                  <a:pt x="18911" y="5358"/>
                </a:moveTo>
                <a:cubicBezTo>
                  <a:pt x="18990" y="5358"/>
                  <a:pt x="19070" y="5358"/>
                  <a:pt x="19149" y="5358"/>
                </a:cubicBezTo>
              </a:path>
              <a:path w="3712" h="3355">
                <a:moveTo>
                  <a:pt x="19268" y="5120"/>
                </a:moveTo>
                <a:cubicBezTo>
                  <a:pt x="19268" y="5239"/>
                  <a:pt x="19268" y="5358"/>
                  <a:pt x="19268" y="5477"/>
                </a:cubicBezTo>
                <a:cubicBezTo>
                  <a:pt x="19268" y="5417"/>
                  <a:pt x="19268" y="5358"/>
                  <a:pt x="19268" y="5298"/>
                </a:cubicBezTo>
                <a:cubicBezTo>
                  <a:pt x="19329" y="5298"/>
                  <a:pt x="19377" y="5307"/>
                  <a:pt x="19427" y="5318"/>
                </a:cubicBezTo>
                <a:cubicBezTo>
                  <a:pt x="19440" y="5318"/>
                  <a:pt x="19454" y="5318"/>
                  <a:pt x="19467" y="5318"/>
                </a:cubicBezTo>
                <a:cubicBezTo>
                  <a:pt x="19467" y="5358"/>
                  <a:pt x="19467" y="5397"/>
                  <a:pt x="19467" y="5437"/>
                </a:cubicBezTo>
              </a:path>
              <a:path w="3712" h="3355">
                <a:moveTo>
                  <a:pt x="19685" y="5298"/>
                </a:moveTo>
                <a:cubicBezTo>
                  <a:pt x="19711" y="5333"/>
                  <a:pt x="19705" y="5351"/>
                  <a:pt x="19705" y="5398"/>
                </a:cubicBezTo>
                <a:cubicBezTo>
                  <a:pt x="19705" y="5417"/>
                  <a:pt x="19705" y="5424"/>
                  <a:pt x="19705" y="5437"/>
                </a:cubicBezTo>
              </a:path>
              <a:path w="3712" h="3355">
                <a:moveTo>
                  <a:pt x="19705" y="5120"/>
                </a:moveTo>
                <a:lnTo>
                  <a:pt x="19705" y="5120"/>
                </a:lnTo>
              </a:path>
              <a:path w="3712" h="3355">
                <a:moveTo>
                  <a:pt x="19903" y="5239"/>
                </a:moveTo>
                <a:cubicBezTo>
                  <a:pt x="19903" y="5298"/>
                  <a:pt x="19903" y="5358"/>
                  <a:pt x="19903" y="5417"/>
                </a:cubicBezTo>
                <a:cubicBezTo>
                  <a:pt x="19903" y="5478"/>
                  <a:pt x="19903" y="5369"/>
                  <a:pt x="19903" y="5358"/>
                </a:cubicBezTo>
                <a:cubicBezTo>
                  <a:pt x="19903" y="5309"/>
                  <a:pt x="19911" y="5282"/>
                  <a:pt x="19923" y="5259"/>
                </a:cubicBezTo>
                <a:cubicBezTo>
                  <a:pt x="19939" y="5227"/>
                  <a:pt x="19909" y="5205"/>
                  <a:pt x="19963" y="5199"/>
                </a:cubicBezTo>
                <a:cubicBezTo>
                  <a:pt x="20004" y="5194"/>
                  <a:pt x="20047" y="5196"/>
                  <a:pt x="20082" y="5219"/>
                </a:cubicBezTo>
                <a:cubicBezTo>
                  <a:pt x="20095" y="5228"/>
                  <a:pt x="20156" y="5252"/>
                  <a:pt x="20161" y="5259"/>
                </a:cubicBezTo>
                <a:cubicBezTo>
                  <a:pt x="20164" y="5263"/>
                  <a:pt x="20181" y="5357"/>
                  <a:pt x="20181" y="5358"/>
                </a:cubicBezTo>
                <a:cubicBezTo>
                  <a:pt x="20185" y="5375"/>
                  <a:pt x="20181" y="5400"/>
                  <a:pt x="20181" y="5417"/>
                </a:cubicBezTo>
              </a:path>
              <a:path w="3712" h="3355">
                <a:moveTo>
                  <a:pt x="20360" y="5199"/>
                </a:moveTo>
                <a:cubicBezTo>
                  <a:pt x="20327" y="5199"/>
                  <a:pt x="20296" y="5204"/>
                  <a:pt x="20280" y="5239"/>
                </a:cubicBezTo>
                <a:cubicBezTo>
                  <a:pt x="20261" y="5282"/>
                  <a:pt x="20292" y="5343"/>
                  <a:pt x="20300" y="5358"/>
                </a:cubicBezTo>
                <a:cubicBezTo>
                  <a:pt x="20305" y="5368"/>
                  <a:pt x="20319" y="5411"/>
                  <a:pt x="20340" y="5417"/>
                </a:cubicBezTo>
                <a:cubicBezTo>
                  <a:pt x="20373" y="5427"/>
                  <a:pt x="20428" y="5434"/>
                  <a:pt x="20459" y="5437"/>
                </a:cubicBezTo>
                <a:cubicBezTo>
                  <a:pt x="20501" y="5442"/>
                  <a:pt x="20499" y="5408"/>
                  <a:pt x="20499" y="5378"/>
                </a:cubicBezTo>
                <a:cubicBezTo>
                  <a:pt x="20499" y="5312"/>
                  <a:pt x="20499" y="5245"/>
                  <a:pt x="20499" y="5179"/>
                </a:cubicBezTo>
                <a:cubicBezTo>
                  <a:pt x="20499" y="5220"/>
                  <a:pt x="20502" y="5238"/>
                  <a:pt x="20518" y="5259"/>
                </a:cubicBezTo>
                <a:cubicBezTo>
                  <a:pt x="20546" y="5296"/>
                  <a:pt x="20566" y="5309"/>
                  <a:pt x="20578" y="5358"/>
                </a:cubicBezTo>
                <a:cubicBezTo>
                  <a:pt x="20585" y="5386"/>
                  <a:pt x="20595" y="5411"/>
                  <a:pt x="20598" y="5437"/>
                </a:cubicBezTo>
                <a:cubicBezTo>
                  <a:pt x="20602" y="5476"/>
                  <a:pt x="20603" y="5508"/>
                  <a:pt x="20578" y="5536"/>
                </a:cubicBezTo>
                <a:cubicBezTo>
                  <a:pt x="20544" y="5574"/>
                  <a:pt x="20539" y="5563"/>
                  <a:pt x="20499" y="5596"/>
                </a:cubicBezTo>
                <a:cubicBezTo>
                  <a:pt x="20466" y="5623"/>
                  <a:pt x="20405" y="5658"/>
                  <a:pt x="20360" y="5675"/>
                </a:cubicBezTo>
                <a:cubicBezTo>
                  <a:pt x="20313" y="5693"/>
                  <a:pt x="20245" y="5697"/>
                  <a:pt x="20201" y="5715"/>
                </a:cubicBezTo>
                <a:cubicBezTo>
                  <a:pt x="20162" y="5731"/>
                  <a:pt x="20170" y="5755"/>
                  <a:pt x="20122" y="5755"/>
                </a:cubicBezTo>
                <a:cubicBezTo>
                  <a:pt x="20102" y="5755"/>
                  <a:pt x="20095" y="5755"/>
                  <a:pt x="20102" y="5735"/>
                </a:cubicBezTo>
              </a:path>
              <a:path w="3712" h="3355">
                <a:moveTo>
                  <a:pt x="19586" y="5874"/>
                </a:moveTo>
                <a:cubicBezTo>
                  <a:pt x="19602" y="5910"/>
                  <a:pt x="19617" y="5938"/>
                  <a:pt x="19625" y="5973"/>
                </a:cubicBezTo>
                <a:cubicBezTo>
                  <a:pt x="19656" y="5983"/>
                  <a:pt x="19646" y="6004"/>
                  <a:pt x="19665" y="6032"/>
                </a:cubicBezTo>
                <a:cubicBezTo>
                  <a:pt x="19681" y="6055"/>
                  <a:pt x="19723" y="6112"/>
                  <a:pt x="19745" y="6132"/>
                </a:cubicBezTo>
                <a:cubicBezTo>
                  <a:pt x="19774" y="6158"/>
                  <a:pt x="19805" y="6165"/>
                  <a:pt x="19844" y="6191"/>
                </a:cubicBezTo>
                <a:cubicBezTo>
                  <a:pt x="19875" y="6212"/>
                  <a:pt x="19905" y="6248"/>
                  <a:pt x="19943" y="6251"/>
                </a:cubicBezTo>
                <a:cubicBezTo>
                  <a:pt x="20067" y="6260"/>
                  <a:pt x="20195" y="6251"/>
                  <a:pt x="20320" y="6251"/>
                </a:cubicBezTo>
              </a:path>
              <a:path w="3712" h="3355">
                <a:moveTo>
                  <a:pt x="20141" y="6032"/>
                </a:moveTo>
                <a:cubicBezTo>
                  <a:pt x="20179" y="6040"/>
                  <a:pt x="20206" y="6069"/>
                  <a:pt x="20241" y="6072"/>
                </a:cubicBezTo>
                <a:cubicBezTo>
                  <a:pt x="20293" y="6076"/>
                  <a:pt x="20333" y="6099"/>
                  <a:pt x="20380" y="6112"/>
                </a:cubicBezTo>
                <a:cubicBezTo>
                  <a:pt x="20433" y="6127"/>
                  <a:pt x="20449" y="6152"/>
                  <a:pt x="20499" y="6152"/>
                </a:cubicBezTo>
                <a:cubicBezTo>
                  <a:pt x="20493" y="6170"/>
                  <a:pt x="20473" y="6190"/>
                  <a:pt x="20459" y="6211"/>
                </a:cubicBezTo>
                <a:cubicBezTo>
                  <a:pt x="20443" y="6235"/>
                  <a:pt x="20413" y="6318"/>
                  <a:pt x="20399" y="6330"/>
                </a:cubicBezTo>
                <a:cubicBezTo>
                  <a:pt x="20373" y="6352"/>
                  <a:pt x="20356" y="6353"/>
                  <a:pt x="20340" y="6390"/>
                </a:cubicBezTo>
                <a:cubicBezTo>
                  <a:pt x="20320" y="6436"/>
                  <a:pt x="20295" y="6425"/>
                  <a:pt x="20280" y="6469"/>
                </a:cubicBezTo>
                <a:cubicBezTo>
                  <a:pt x="20280" y="6476"/>
                  <a:pt x="20280" y="6482"/>
                  <a:pt x="20280" y="6489"/>
                </a:cubicBezTo>
              </a:path>
              <a:path w="3712" h="3355">
                <a:moveTo>
                  <a:pt x="19844" y="3949"/>
                </a:moveTo>
                <a:cubicBezTo>
                  <a:pt x="19877" y="3916"/>
                  <a:pt x="19907" y="3910"/>
                  <a:pt x="19943" y="3889"/>
                </a:cubicBezTo>
                <a:cubicBezTo>
                  <a:pt x="19990" y="3862"/>
                  <a:pt x="20007" y="3835"/>
                  <a:pt x="20062" y="3830"/>
                </a:cubicBezTo>
                <a:cubicBezTo>
                  <a:pt x="20093" y="3827"/>
                  <a:pt x="20107" y="3813"/>
                  <a:pt x="20141" y="3810"/>
                </a:cubicBezTo>
                <a:cubicBezTo>
                  <a:pt x="20181" y="3807"/>
                  <a:pt x="20227" y="3804"/>
                  <a:pt x="20260" y="3830"/>
                </a:cubicBezTo>
                <a:cubicBezTo>
                  <a:pt x="20318" y="3875"/>
                  <a:pt x="20376" y="3910"/>
                  <a:pt x="20439" y="3949"/>
                </a:cubicBezTo>
                <a:cubicBezTo>
                  <a:pt x="20498" y="3986"/>
                  <a:pt x="20588" y="4016"/>
                  <a:pt x="20638" y="4048"/>
                </a:cubicBezTo>
                <a:cubicBezTo>
                  <a:pt x="20694" y="4084"/>
                  <a:pt x="20702" y="4096"/>
                  <a:pt x="20776" y="4108"/>
                </a:cubicBezTo>
                <a:cubicBezTo>
                  <a:pt x="20799" y="4108"/>
                  <a:pt x="20807" y="4110"/>
                  <a:pt x="20816" y="4128"/>
                </a:cubicBezTo>
              </a:path>
              <a:path w="3712" h="3355">
                <a:moveTo>
                  <a:pt x="20717" y="3889"/>
                </a:moveTo>
                <a:cubicBezTo>
                  <a:pt x="20737" y="3889"/>
                  <a:pt x="20744" y="3889"/>
                  <a:pt x="20757" y="3889"/>
                </a:cubicBezTo>
                <a:cubicBezTo>
                  <a:pt x="20767" y="3921"/>
                  <a:pt x="20786" y="3902"/>
                  <a:pt x="20816" y="3929"/>
                </a:cubicBezTo>
                <a:cubicBezTo>
                  <a:pt x="20834" y="3947"/>
                  <a:pt x="20838" y="3954"/>
                  <a:pt x="20856" y="3949"/>
                </a:cubicBezTo>
                <a:cubicBezTo>
                  <a:pt x="20856" y="4032"/>
                  <a:pt x="20876" y="4118"/>
                  <a:pt x="20816" y="4167"/>
                </a:cubicBezTo>
                <a:cubicBezTo>
                  <a:pt x="20801" y="4179"/>
                  <a:pt x="20755" y="4222"/>
                  <a:pt x="20737" y="4227"/>
                </a:cubicBezTo>
                <a:cubicBezTo>
                  <a:pt x="20724" y="4227"/>
                  <a:pt x="20710" y="4227"/>
                  <a:pt x="20697" y="4227"/>
                </a:cubicBezTo>
                <a:cubicBezTo>
                  <a:pt x="20678" y="4256"/>
                  <a:pt x="20650" y="4238"/>
                  <a:pt x="20638" y="4286"/>
                </a:cubicBezTo>
              </a:path>
              <a:path w="3712" h="3355">
                <a:moveTo>
                  <a:pt x="19328" y="3909"/>
                </a:moveTo>
                <a:cubicBezTo>
                  <a:pt x="19349" y="3880"/>
                  <a:pt x="19354" y="3869"/>
                  <a:pt x="19387" y="3850"/>
                </a:cubicBezTo>
                <a:cubicBezTo>
                  <a:pt x="19422" y="3829"/>
                  <a:pt x="19479" y="3808"/>
                  <a:pt x="19506" y="3790"/>
                </a:cubicBezTo>
                <a:cubicBezTo>
                  <a:pt x="19536" y="3770"/>
                  <a:pt x="19569" y="3728"/>
                  <a:pt x="19586" y="3711"/>
                </a:cubicBezTo>
                <a:cubicBezTo>
                  <a:pt x="19618" y="3695"/>
                  <a:pt x="19653" y="3677"/>
                  <a:pt x="19685" y="3651"/>
                </a:cubicBezTo>
                <a:cubicBezTo>
                  <a:pt x="19710" y="3631"/>
                  <a:pt x="19746" y="3615"/>
                  <a:pt x="19764" y="3592"/>
                </a:cubicBezTo>
                <a:cubicBezTo>
                  <a:pt x="19764" y="3585"/>
                  <a:pt x="19764" y="3579"/>
                  <a:pt x="19764" y="3572"/>
                </a:cubicBezTo>
                <a:cubicBezTo>
                  <a:pt x="19781" y="3558"/>
                  <a:pt x="19794" y="3542"/>
                  <a:pt x="19824" y="3532"/>
                </a:cubicBezTo>
                <a:cubicBezTo>
                  <a:pt x="19831" y="3532"/>
                  <a:pt x="19837" y="3532"/>
                  <a:pt x="19844" y="3532"/>
                </a:cubicBezTo>
                <a:cubicBezTo>
                  <a:pt x="19851" y="3529"/>
                  <a:pt x="19895" y="3520"/>
                  <a:pt x="19923" y="3512"/>
                </a:cubicBezTo>
                <a:cubicBezTo>
                  <a:pt x="19968" y="3500"/>
                  <a:pt x="19985" y="3467"/>
                  <a:pt x="20022" y="3453"/>
                </a:cubicBezTo>
                <a:cubicBezTo>
                  <a:pt x="20062" y="3439"/>
                  <a:pt x="20085" y="3431"/>
                  <a:pt x="20122" y="3413"/>
                </a:cubicBezTo>
                <a:cubicBezTo>
                  <a:pt x="20149" y="3400"/>
                  <a:pt x="20172" y="3365"/>
                  <a:pt x="20201" y="3354"/>
                </a:cubicBezTo>
                <a:cubicBezTo>
                  <a:pt x="20221" y="3354"/>
                  <a:pt x="20228" y="3354"/>
                  <a:pt x="20241" y="3354"/>
                </a:cubicBezTo>
                <a:cubicBezTo>
                  <a:pt x="20261" y="3342"/>
                  <a:pt x="20258" y="3338"/>
                  <a:pt x="20300" y="3334"/>
                </a:cubicBezTo>
                <a:cubicBezTo>
                  <a:pt x="20307" y="3334"/>
                  <a:pt x="20313" y="3334"/>
                  <a:pt x="20320" y="3334"/>
                </a:cubicBezTo>
                <a:cubicBezTo>
                  <a:pt x="20339" y="3322"/>
                  <a:pt x="20338" y="3317"/>
                  <a:pt x="20380" y="3314"/>
                </a:cubicBezTo>
                <a:cubicBezTo>
                  <a:pt x="20482" y="3308"/>
                  <a:pt x="20587" y="3319"/>
                  <a:pt x="20677" y="3334"/>
                </a:cubicBezTo>
                <a:cubicBezTo>
                  <a:pt x="20714" y="3340"/>
                  <a:pt x="20759" y="3334"/>
                  <a:pt x="20796" y="3334"/>
                </a:cubicBezTo>
              </a:path>
              <a:path w="3712" h="3355">
                <a:moveTo>
                  <a:pt x="20757" y="3135"/>
                </a:moveTo>
                <a:cubicBezTo>
                  <a:pt x="20757" y="3177"/>
                  <a:pt x="20766" y="3185"/>
                  <a:pt x="20796" y="3215"/>
                </a:cubicBezTo>
                <a:cubicBezTo>
                  <a:pt x="20812" y="3231"/>
                  <a:pt x="20853" y="3269"/>
                  <a:pt x="20856" y="3274"/>
                </a:cubicBezTo>
                <a:cubicBezTo>
                  <a:pt x="20868" y="3298"/>
                  <a:pt x="20871" y="3318"/>
                  <a:pt x="20895" y="3354"/>
                </a:cubicBezTo>
                <a:cubicBezTo>
                  <a:pt x="20914" y="3382"/>
                  <a:pt x="20934" y="3410"/>
                  <a:pt x="20955" y="3433"/>
                </a:cubicBezTo>
                <a:cubicBezTo>
                  <a:pt x="20962" y="3440"/>
                  <a:pt x="20968" y="3446"/>
                  <a:pt x="20975" y="3453"/>
                </a:cubicBezTo>
                <a:cubicBezTo>
                  <a:pt x="20927" y="3453"/>
                  <a:pt x="20916" y="3437"/>
                  <a:pt x="20876" y="3433"/>
                </a:cubicBezTo>
                <a:cubicBezTo>
                  <a:pt x="20842" y="3429"/>
                  <a:pt x="20827" y="3416"/>
                  <a:pt x="20796" y="3413"/>
                </a:cubicBezTo>
                <a:cubicBezTo>
                  <a:pt x="20748" y="3408"/>
                  <a:pt x="20693" y="3406"/>
                  <a:pt x="20657" y="343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221600" y="422280"/>
            <a:ext cx="1030320" cy="378000"/>
          </a:xfrm>
          <a:custGeom>
            <a:avLst/>
            <a:gdLst/>
            <a:ahLst/>
            <a:rect l="l" t="t" r="r" b="b"/>
            <a:pathLst>
              <a:path w="2859" h="1052">
                <a:moveTo>
                  <a:pt x="20062" y="1865"/>
                </a:moveTo>
                <a:cubicBezTo>
                  <a:pt x="20062" y="1776"/>
                  <a:pt x="20055" y="1685"/>
                  <a:pt x="20082" y="1607"/>
                </a:cubicBezTo>
                <a:cubicBezTo>
                  <a:pt x="20093" y="1575"/>
                  <a:pt x="20096" y="1522"/>
                  <a:pt x="20102" y="1508"/>
                </a:cubicBezTo>
                <a:cubicBezTo>
                  <a:pt x="20111" y="1488"/>
                  <a:pt x="20120" y="1449"/>
                  <a:pt x="20122" y="1429"/>
                </a:cubicBezTo>
                <a:cubicBezTo>
                  <a:pt x="20126" y="1392"/>
                  <a:pt x="20134" y="1384"/>
                  <a:pt x="20141" y="1369"/>
                </a:cubicBezTo>
                <a:cubicBezTo>
                  <a:pt x="20150" y="1350"/>
                  <a:pt x="20156" y="1331"/>
                  <a:pt x="20161" y="1310"/>
                </a:cubicBezTo>
                <a:cubicBezTo>
                  <a:pt x="20189" y="1347"/>
                  <a:pt x="20211" y="1389"/>
                  <a:pt x="20241" y="1429"/>
                </a:cubicBezTo>
                <a:cubicBezTo>
                  <a:pt x="20273" y="1471"/>
                  <a:pt x="20302" y="1510"/>
                  <a:pt x="20340" y="1548"/>
                </a:cubicBezTo>
                <a:cubicBezTo>
                  <a:pt x="20350" y="1558"/>
                  <a:pt x="20415" y="1620"/>
                  <a:pt x="20419" y="1627"/>
                </a:cubicBezTo>
                <a:cubicBezTo>
                  <a:pt x="20427" y="1639"/>
                  <a:pt x="20434" y="1712"/>
                  <a:pt x="20439" y="1726"/>
                </a:cubicBezTo>
                <a:cubicBezTo>
                  <a:pt x="20456" y="1775"/>
                  <a:pt x="20458" y="1772"/>
                  <a:pt x="20499" y="1806"/>
                </a:cubicBezTo>
                <a:cubicBezTo>
                  <a:pt x="20520" y="1824"/>
                  <a:pt x="20521" y="1843"/>
                  <a:pt x="20538" y="1865"/>
                </a:cubicBezTo>
                <a:cubicBezTo>
                  <a:pt x="20556" y="1853"/>
                  <a:pt x="20574" y="1819"/>
                  <a:pt x="20578" y="1786"/>
                </a:cubicBezTo>
                <a:cubicBezTo>
                  <a:pt x="20582" y="1746"/>
                  <a:pt x="20598" y="1735"/>
                  <a:pt x="20598" y="1687"/>
                </a:cubicBezTo>
                <a:cubicBezTo>
                  <a:pt x="20598" y="1542"/>
                  <a:pt x="20584" y="1388"/>
                  <a:pt x="20618" y="1250"/>
                </a:cubicBezTo>
                <a:cubicBezTo>
                  <a:pt x="20624" y="1227"/>
                  <a:pt x="20618" y="1195"/>
                  <a:pt x="20618" y="1171"/>
                </a:cubicBezTo>
              </a:path>
              <a:path w="2859" h="1052">
                <a:moveTo>
                  <a:pt x="21015" y="1607"/>
                </a:moveTo>
                <a:cubicBezTo>
                  <a:pt x="20987" y="1607"/>
                  <a:pt x="20966" y="1612"/>
                  <a:pt x="20955" y="1627"/>
                </a:cubicBezTo>
                <a:cubicBezTo>
                  <a:pt x="20940" y="1648"/>
                  <a:pt x="20918" y="1702"/>
                  <a:pt x="20915" y="1726"/>
                </a:cubicBezTo>
                <a:cubicBezTo>
                  <a:pt x="20910" y="1771"/>
                  <a:pt x="20905" y="1832"/>
                  <a:pt x="20935" y="1865"/>
                </a:cubicBezTo>
                <a:cubicBezTo>
                  <a:pt x="20965" y="1899"/>
                  <a:pt x="21004" y="1898"/>
                  <a:pt x="21034" y="1925"/>
                </a:cubicBezTo>
                <a:cubicBezTo>
                  <a:pt x="21061" y="1950"/>
                  <a:pt x="21115" y="1973"/>
                  <a:pt x="21153" y="1984"/>
                </a:cubicBezTo>
                <a:cubicBezTo>
                  <a:pt x="21182" y="1993"/>
                  <a:pt x="21189" y="2000"/>
                  <a:pt x="21213" y="2024"/>
                </a:cubicBezTo>
                <a:cubicBezTo>
                  <a:pt x="21233" y="1977"/>
                  <a:pt x="21233" y="1956"/>
                  <a:pt x="21233" y="1905"/>
                </a:cubicBezTo>
                <a:cubicBezTo>
                  <a:pt x="21233" y="1838"/>
                  <a:pt x="21241" y="1838"/>
                  <a:pt x="21193" y="1786"/>
                </a:cubicBezTo>
                <a:cubicBezTo>
                  <a:pt x="21168" y="1759"/>
                  <a:pt x="21162" y="1735"/>
                  <a:pt x="21134" y="1707"/>
                </a:cubicBezTo>
                <a:cubicBezTo>
                  <a:pt x="21110" y="1683"/>
                  <a:pt x="21070" y="1683"/>
                  <a:pt x="21054" y="1647"/>
                </a:cubicBezTo>
                <a:cubicBezTo>
                  <a:pt x="21054" y="1627"/>
                  <a:pt x="21054" y="1620"/>
                  <a:pt x="21034" y="1627"/>
                </a:cubicBezTo>
              </a:path>
              <a:path w="2859" h="1052">
                <a:moveTo>
                  <a:pt x="21451" y="1310"/>
                </a:moveTo>
                <a:cubicBezTo>
                  <a:pt x="21457" y="1366"/>
                  <a:pt x="21475" y="1413"/>
                  <a:pt x="21491" y="1468"/>
                </a:cubicBezTo>
                <a:cubicBezTo>
                  <a:pt x="21518" y="1564"/>
                  <a:pt x="21585" y="1655"/>
                  <a:pt x="21630" y="1746"/>
                </a:cubicBezTo>
                <a:cubicBezTo>
                  <a:pt x="21665" y="1817"/>
                  <a:pt x="21685" y="1829"/>
                  <a:pt x="21689" y="1905"/>
                </a:cubicBezTo>
                <a:cubicBezTo>
                  <a:pt x="21693" y="1985"/>
                  <a:pt x="21659" y="2121"/>
                  <a:pt x="21709" y="2183"/>
                </a:cubicBezTo>
                <a:cubicBezTo>
                  <a:pt x="21732" y="2212"/>
                  <a:pt x="21775" y="2210"/>
                  <a:pt x="21808" y="2222"/>
                </a:cubicBezTo>
                <a:cubicBezTo>
                  <a:pt x="21837" y="2194"/>
                  <a:pt x="21839" y="2192"/>
                  <a:pt x="21868" y="2163"/>
                </a:cubicBezTo>
                <a:cubicBezTo>
                  <a:pt x="21883" y="2148"/>
                  <a:pt x="21904" y="2128"/>
                  <a:pt x="21908" y="2103"/>
                </a:cubicBezTo>
                <a:cubicBezTo>
                  <a:pt x="21914" y="2065"/>
                  <a:pt x="21918" y="1975"/>
                  <a:pt x="21888" y="1945"/>
                </a:cubicBezTo>
                <a:cubicBezTo>
                  <a:pt x="21856" y="1913"/>
                  <a:pt x="21808" y="1905"/>
                  <a:pt x="21769" y="1885"/>
                </a:cubicBezTo>
              </a:path>
              <a:path w="2859" h="1052">
                <a:moveTo>
                  <a:pt x="22205" y="1290"/>
                </a:moveTo>
                <a:cubicBezTo>
                  <a:pt x="22205" y="1485"/>
                  <a:pt x="22166" y="1747"/>
                  <a:pt x="22225" y="1925"/>
                </a:cubicBezTo>
                <a:cubicBezTo>
                  <a:pt x="22236" y="1957"/>
                  <a:pt x="22239" y="2015"/>
                  <a:pt x="22245" y="2044"/>
                </a:cubicBezTo>
                <a:cubicBezTo>
                  <a:pt x="22251" y="2072"/>
                  <a:pt x="22245" y="2113"/>
                  <a:pt x="22245" y="2143"/>
                </a:cubicBezTo>
              </a:path>
              <a:path w="2859" h="1052">
                <a:moveTo>
                  <a:pt x="22662" y="1965"/>
                </a:moveTo>
                <a:cubicBezTo>
                  <a:pt x="22707" y="1958"/>
                  <a:pt x="22740" y="1949"/>
                  <a:pt x="22761" y="1925"/>
                </a:cubicBezTo>
                <a:cubicBezTo>
                  <a:pt x="22790" y="1892"/>
                  <a:pt x="22844" y="1907"/>
                  <a:pt x="22880" y="1885"/>
                </a:cubicBezTo>
                <a:cubicBezTo>
                  <a:pt x="22922" y="1860"/>
                  <a:pt x="22920" y="1830"/>
                  <a:pt x="22920" y="1786"/>
                </a:cubicBezTo>
                <a:cubicBezTo>
                  <a:pt x="22920" y="1743"/>
                  <a:pt x="22880" y="1695"/>
                  <a:pt x="22860" y="1667"/>
                </a:cubicBezTo>
                <a:cubicBezTo>
                  <a:pt x="22840" y="1638"/>
                  <a:pt x="22812" y="1647"/>
                  <a:pt x="22781" y="1647"/>
                </a:cubicBezTo>
                <a:cubicBezTo>
                  <a:pt x="22727" y="1647"/>
                  <a:pt x="22742" y="1659"/>
                  <a:pt x="22721" y="1687"/>
                </a:cubicBezTo>
                <a:cubicBezTo>
                  <a:pt x="22688" y="1731"/>
                  <a:pt x="22697" y="1735"/>
                  <a:pt x="22681" y="1786"/>
                </a:cubicBezTo>
                <a:cubicBezTo>
                  <a:pt x="22670" y="1822"/>
                  <a:pt x="22640" y="1877"/>
                  <a:pt x="22622" y="1905"/>
                </a:cubicBezTo>
                <a:cubicBezTo>
                  <a:pt x="22602" y="1935"/>
                  <a:pt x="22575" y="1966"/>
                  <a:pt x="22562" y="2004"/>
                </a:cubicBezTo>
                <a:cubicBezTo>
                  <a:pt x="22551" y="2035"/>
                  <a:pt x="22562" y="2089"/>
                  <a:pt x="22562" y="2123"/>
                </a:cubicBezTo>
                <a:cubicBezTo>
                  <a:pt x="22641" y="2123"/>
                  <a:pt x="22707" y="2122"/>
                  <a:pt x="22781" y="2103"/>
                </a:cubicBezTo>
                <a:cubicBezTo>
                  <a:pt x="22810" y="2095"/>
                  <a:pt x="22834" y="2092"/>
                  <a:pt x="22860" y="2084"/>
                </a:cubicBezTo>
                <a:cubicBezTo>
                  <a:pt x="22880" y="2084"/>
                  <a:pt x="22887" y="2084"/>
                  <a:pt x="22900" y="208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 descr=""/>
          <p:cNvPicPr/>
          <p:nvPr/>
        </p:nvPicPr>
        <p:blipFill>
          <a:blip r:embed="rId6"/>
          <a:stretch/>
        </p:blipFill>
        <p:spPr>
          <a:xfrm>
            <a:off x="4038480" y="1905120"/>
            <a:ext cx="1214640" cy="16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rce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solidFill>
            <a:srgbClr val="48e21e"/>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medieval-castle-siege-weapons.com/medieval-clothing.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crusades4you.com/Medieval_Clothing.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man, Jeffery L. </a:t>
            </a:r>
            <a:r>
              <a:rPr b="0" lang="en-US" sz="2800" spc="-1" strike="noStrike" u="sng">
                <a:solidFill>
                  <a:srgbClr val="000000"/>
                </a:solidFill>
                <a:uFillTx/>
                <a:latin typeface="Arial"/>
              </a:rPr>
              <a:t>Daily Life in Medieval Europe</a:t>
            </a:r>
            <a:r>
              <a:rPr b="0" lang="en-US" sz="2800" spc="-1" strike="noStrike">
                <a:solidFill>
                  <a:srgbClr val="000000"/>
                </a:solidFill>
                <a:latin typeface="Arial"/>
              </a:rPr>
              <a:t>. Westport, CT: Greenwood Publishing Group, Inc., 1999.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tley, Dorothy. </a:t>
            </a:r>
            <a:r>
              <a:rPr b="0" lang="en-US" sz="2800" spc="-1" strike="noStrike" u="sng">
                <a:solidFill>
                  <a:srgbClr val="000000"/>
                </a:solidFill>
                <a:uFillTx/>
                <a:latin typeface="Arial"/>
              </a:rPr>
              <a:t>Medieval Costume And How to Recreate It</a:t>
            </a:r>
            <a:r>
              <a:rPr b="0" lang="en-US" sz="2800" spc="-1" strike="noStrike">
                <a:solidFill>
                  <a:srgbClr val="000000"/>
                </a:solidFill>
                <a:latin typeface="Arial"/>
              </a:rPr>
              <a:t>. London: B.T. Batsford, Ltd., 1931.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22:47:27Z</dcterms:created>
  <dc:creator>Larry Brick</dc:creator>
  <dc:description/>
  <dc:language>en-US</dc:language>
  <cp:lastModifiedBy>Larry Brick</cp:lastModifiedBy>
  <dcterms:modified xsi:type="dcterms:W3CDTF">2009-09-28T01:20:13Z</dcterms:modified>
  <cp:revision>5</cp:revision>
  <dc:subject/>
  <dc:title>Medieval Clothing</dc:title>
</cp:coreProperties>
</file>