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1CA-C18A-4589-AD50-7961738C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3BC-7523-42DB-9EA4-901F0E33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0EB-E910-4A7C-84AD-589C7C54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440-588C-4DFF-8866-63498AD5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32B-C093-4200-8851-434AB68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446-0624-468E-BDF0-3486E0A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353-33DA-44FF-A8DF-8D7E9C6A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9A0-084D-42F0-BAB0-DF71C10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870-E50B-42E4-AB8B-5C9BB266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9C0-A18F-4826-B6D4-9B4257F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905-6C85-467E-B692-C17195D5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9C4-EA1F-4A49-B342-FC9BDB16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876-8624-4017-9D39-EF1B9741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</cp:lastModifiedBy>
  <dcterms:modified xsi:type="dcterms:W3CDTF">2009-10-05T22:57:22Z</dcterms:modified>
  <cp:revision>3</cp:revision>
  <dc:subject/>
  <dc:title>Medieval Fashion</dc:title>
</cp:coreProperties>
</file>