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EC56-704B-49C9-8BDF-62FC0908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8002-46A2-43B3-B174-0CE154F9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AE85-81FD-42C2-9240-C0C12BAB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7BF8-A5F6-42E0-B67D-F7F06555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3BE8-4CA1-4627-B5A4-636AAE50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B270-6211-42E6-88B8-FF8002CE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C84B-60E1-4C87-9972-8EBFA880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E5FD-9C49-4D11-ACBF-32D1AAA3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E332-5A0D-4FBA-BE1E-AEFBC22D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0D28-DAB1-4B51-975B-CA278EB9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E283-72B1-4C39-8AC5-E49392E7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FF28-A222-4CB7-9106-5A968879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CA77-0554-4CF7-88EE-A18E2ABA1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arenswhimsy.com/public-domain-images/victorian-hair-styles/images/victorian-hair-styles-3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hairselect.com/gallery/medieval_hair05.jpg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eval Fash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saye Godfrey-Wil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26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ir &amp; Headd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62320" y="2057400"/>
            <a:ext cx="105732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05520" y="5029200"/>
            <a:ext cx="533160" cy="762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See full 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95880" y="5105520"/>
            <a:ext cx="666720" cy="761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191120" y="1371600"/>
            <a:ext cx="4076640" cy="3438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2133720" y="4221000"/>
            <a:ext cx="2624040" cy="2637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6781680" y="3276720"/>
            <a:ext cx="1868760" cy="2589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0" y="1905120"/>
            <a:ext cx="1971720" cy="2884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152280" y="4876920"/>
            <a:ext cx="16923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038400" cy="3600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705720" y="3505320"/>
            <a:ext cx="2106360" cy="3162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505320" y="2209680"/>
            <a:ext cx="2743200" cy="4114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09480" y="3886200"/>
            <a:ext cx="2590920" cy="2568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5791320" y="91440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twear &amp; Be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280" y="41148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971800" y="1295280"/>
            <a:ext cx="3962520" cy="2857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705720" y="144792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0" y="1371600"/>
            <a:ext cx="2971800" cy="3162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3276720" y="4114800"/>
            <a:ext cx="2555640" cy="2556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6019920" y="3809880"/>
            <a:ext cx="274608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18:12:47Z</dcterms:created>
  <dc:creator>esgodfrey</dc:creator>
  <dc:description/>
  <dc:language>en-US</dc:language>
  <cp:lastModifiedBy>esg</cp:lastModifiedBy>
  <dcterms:modified xsi:type="dcterms:W3CDTF">2009-10-05T22:57:22Z</dcterms:modified>
  <cp:revision>3</cp:revision>
  <dc:subject/>
  <dc:title>Medieval Fashion</dc:title>
</cp:coreProperties>
</file>