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B18-0AAA-4E0D-9B4C-D9294145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EB1-7FC1-473B-9758-C0C7FE7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3C7-6204-44E3-BAF0-11C0D42F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7B0-2656-4611-9017-41DC90C1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452-D115-424A-A7F8-E601D239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1A2-BA03-4D15-AAAF-89F4809A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F69-6FF3-49AE-9020-D9998046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C2C-082D-4F45-8C1D-5F981A2D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22D-980B-4C86-B9D0-0580C2E0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5E0-BB2C-428B-A073-498AB8C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4FA-7E93-4D73-84C6-6B554DB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616-4053-4D09-AEA7-7593C31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B74B-9FBB-4FE2-8EDF-4632D3912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</cp:lastModifiedBy>
  <dcterms:modified xsi:type="dcterms:W3CDTF">2009-10-05T22:57:22Z</dcterms:modified>
  <cp:revision>3</cp:revision>
  <dc:subject/>
  <dc:title>Medieval Fashion</dc:title>
</cp:coreProperties>
</file>