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A01-48E0-4A0A-8D84-C772EE8D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8FF-A653-4F1A-86C1-CF20E7D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AAF-B952-483B-A59F-92998860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4E6-983B-4BC6-B131-A3BAE67C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D68-C468-498E-855D-179323C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486-3080-432B-9D0A-F913C9DA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349-1B81-4E1E-8D47-B5482108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0F2-864D-48F9-B88B-02BB992C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120-A06F-404D-BA53-D6DCE13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1C3-D275-4899-9868-E3CA0B1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28F-AAB4-4448-8930-1F46359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A8A-6112-4959-A8A3-D4EE081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854-B886-4B4A-B6B6-6FCCBC47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renswhimsy.com/public-domain-images/victorian-hair-styles/images/victorian-hair-styles-3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hairselect.com/gallery/medieval_hair05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aye Godfrey-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&amp; He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05732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5029200"/>
            <a:ext cx="5331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51055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91120" y="1371600"/>
            <a:ext cx="407664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133720" y="4221000"/>
            <a:ext cx="262404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3276720"/>
            <a:ext cx="186876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1905120"/>
            <a:ext cx="1971720" cy="28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4876920"/>
            <a:ext cx="1692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038400" cy="360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106360" cy="316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25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791320" y="91440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ear &amp; B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297180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276720" y="41148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8:12:47Z</dcterms:created>
  <dc:creator>esgodfrey</dc:creator>
  <dc:description/>
  <dc:language>en-US</dc:language>
  <cp:lastModifiedBy>esg</cp:lastModifiedBy>
  <dcterms:modified xsi:type="dcterms:W3CDTF">2009-10-05T22:57:22Z</dcterms:modified>
  <cp:revision>3</cp:revision>
  <dc:subject/>
  <dc:title>Medieval Fashion</dc:title>
</cp:coreProperties>
</file>