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DBE-8A35-4B1A-8FF3-D2A33B86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728-C123-4C68-AF11-B72C5198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53C-B5E2-4249-8271-81463CFD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508-7F62-4BF3-81D8-8A805042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8B2-7EA1-4AA6-BEAB-6F81704F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F20-4907-47E2-BD45-ADB1011D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B50-99E5-4B57-A540-92348A05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12D-93AD-43F7-AA63-2F11D204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5B9-3CA5-42BD-96D3-F8EF413B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267-E7B1-4792-9EF4-5BC12BB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A0E-DB06-4821-BB72-147D75F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7C9-28C1-4DF9-87C0-3BCD020F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843E-01BF-4EB4-97F7-3D32AFD9D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ood and Banqu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eryl H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eri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7:05:20Z</dcterms:created>
  <dc:creator>Allen Hord</dc:creator>
  <dc:description/>
  <dc:language>en-US</dc:language>
  <cp:lastModifiedBy>Allen Hord</cp:lastModifiedBy>
  <dcterms:modified xsi:type="dcterms:W3CDTF">2009-09-20T17:10:27Z</dcterms:modified>
  <cp:revision>1</cp:revision>
  <dc:subject/>
  <dc:title>Medieval Food and Banquets </dc:title>
</cp:coreProperties>
</file>