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A01-4187-43D6-A4D9-F4E3537F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A11-692A-4E52-9E16-6A9F2678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861-97B3-406A-881F-21339267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F9A-D30E-481E-8366-57A0D904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772-711B-4BD2-B330-1405463A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F20-6680-4F04-B412-7384509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14A-0235-4BEE-A893-81C9D16B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742-BD92-4357-AD69-B16520F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EF9-1BF1-48BF-8084-B29AE29B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102-AFA9-47D3-9A51-B198F67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A45-95FF-479E-8A99-1475BA3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72F-10B0-4A2A-8FA3-2362E7F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B7BB-0D8F-43A1-AC6B-5175FC286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ood and Banqu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eryl H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05:20Z</dcterms:created>
  <dc:creator>Allen Hord</dc:creator>
  <dc:description/>
  <dc:language>en-US</dc:language>
  <cp:lastModifiedBy>Allen Hord</cp:lastModifiedBy>
  <dcterms:modified xsi:type="dcterms:W3CDTF">2009-09-20T17:10:27Z</dcterms:modified>
  <cp:revision>1</cp:revision>
  <dc:subject/>
  <dc:title>Medieval Food and Banquets </dc:title>
</cp:coreProperties>
</file>