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59D14-B489-4DF3-9222-75FC7109F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E6AAF-E5F8-445B-8C81-9A04C2FCB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38A2D-3096-455C-9C1D-BE25CCCFD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C718E-5082-4716-B1C6-73F5452C4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85645-8F80-47A5-AB25-57062B9E9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A4636-B521-480B-8BB9-7901EB585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E43DA-726A-4C3B-A9CD-9CA3A1DC4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3BC46-3676-42C8-BC19-7C3EDF913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0D23A-5E21-4851-AABF-BD09D4153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44EA3-BE92-4A42-9BB8-06094055C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FEE76-A62A-443F-A9C8-EE2024897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9D9E0-695D-4670-97FF-293BDDF28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0AB8C-E09E-4A51-B017-E76FBE4AF4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dieval Food and Banquet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Cheryl H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Peri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0T17:05:20Z</dcterms:created>
  <dc:creator>Allen Hord</dc:creator>
  <dc:description/>
  <dc:language>en-US</dc:language>
  <cp:lastModifiedBy>Allen Hord</cp:lastModifiedBy>
  <dcterms:modified xsi:type="dcterms:W3CDTF">2009-09-20T17:10:27Z</dcterms:modified>
  <cp:revision>1</cp:revision>
  <dc:subject/>
  <dc:title>Medieval Food and Banquets </dc:title>
</cp:coreProperties>
</file>