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88A-F9D0-467A-B381-1D5B2EB5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BAB-D6DB-4122-B382-E099B095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DD8-A571-4D5C-8667-EA7DCD07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487-16DA-4D2B-8805-6E0CCFEB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9AF-69AF-4119-8532-822405AD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20A-99B8-4134-9C32-583E6AD8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652-AEE7-4FA6-AE46-2FED8BD0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E65-5BE9-4ADC-9B65-BE3E897D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0F0-4311-4051-BAE3-67D71F23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AA1-2BE8-4B74-B901-E7C47E99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13B-918D-42EA-B16E-CEB10DF5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D22-D494-45A7-8AB6-BC82894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8662-4C41-402C-8392-BCAB34092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Food and Banqu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heryl H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eri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7:05:20Z</dcterms:created>
  <dc:creator>Allen Hord</dc:creator>
  <dc:description/>
  <dc:language>en-US</dc:language>
  <cp:lastModifiedBy>Allen Hord</cp:lastModifiedBy>
  <dcterms:modified xsi:type="dcterms:W3CDTF">2009-09-20T17:10:27Z</dcterms:modified>
  <cp:revision>1</cp:revision>
  <dc:subject/>
  <dc:title>Medieval Food and Banquets </dc:title>
</cp:coreProperties>
</file>