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28E-3924-4E3B-BA68-98792F2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9B3-B62E-45C6-80CD-6C9F7C1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723-63C4-4DB9-B644-8BF21C97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BC0-AC55-4C79-85AF-77858B18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275-3D85-46B5-818F-909DC671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F3F-155F-4473-B9AB-5591886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236-C371-46BC-89EC-C1E2A56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776-8D06-4CCD-81DE-B7E34DC6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105-6A72-4DA1-B0D8-E823BD7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0F5-99EF-49AF-8D50-E1C8168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2F9-F4CE-42E4-B73A-862C812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FC5-6029-41FF-BA73-5BB9AC3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5A47-5D87-476E-B642-B3B53722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orte"/>
              </a:rPr>
              <a:t>Olivia Julian and Jennie McC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075040" y="296712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3"/>
          <a:stretch/>
        </p:blipFill>
        <p:spPr>
          <a:xfrm>
            <a:off x="1060560" y="822240"/>
            <a:ext cx="67975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Seasonal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imgs.sfgate.com/c/pictures/2007/04/20/ba_locavore18jane208lh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35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51" name="Picture 6" descr="http://images.doba.com/products/474/9780064460507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62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Vege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farm4.static.flickr.com/3559/3331080686_8cbe47a110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8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Fru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8" descr="http://www.eatmedaily.com/wordpress/wp-content/uploads/2009/03/meat-frui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95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Earwig Factory"/>
              </a:rPr>
              <a:t>Meat, Poultry, and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www.owlspotting.com/wp-content/uploads/2006/07/Excalibur.jpg"/>
          <p:cNvPicPr/>
          <p:nvPr/>
        </p:nvPicPr>
        <p:blipFill>
          <a:blip r:embed="rId1"/>
          <a:stretch/>
        </p:blipFill>
        <p:spPr>
          <a:xfrm>
            <a:off x="1905120" y="1752480"/>
            <a:ext cx="5580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Bread and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67" name="Picture 6" descr="http://www.pastryscoop.com/images/scoop/yeast-1-medieval-bakers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Dri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71" name="Picture 8" descr="http://www.top-tour-of-spain.com/images/spanish-drinks1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1:44Z</dcterms:created>
  <dc:creator>Jenny McCarty</dc:creator>
  <dc:description/>
  <dc:language>en-US</dc:language>
  <cp:lastModifiedBy>Jon</cp:lastModifiedBy>
  <dcterms:modified xsi:type="dcterms:W3CDTF">2009-09-30T01:48:04Z</dcterms:modified>
  <cp:revision>14</cp:revision>
  <dc:subject/>
  <dc:title>Medieval Food</dc:title>
</cp:coreProperties>
</file>