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ACC-0832-4506-8C95-67F18375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1CF-AFD1-4A29-85DF-9284233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522-95B1-4A24-971B-6B33973C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2B1-251E-46E8-A37D-0340E5B5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6B0-7CC1-4974-B2CA-F5ED596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1D6-6886-4E8F-B84B-940AA99C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745-3349-48A4-B0AE-AB66D27A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BE7-33DC-4524-8D68-2A0A91C1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94F-6A81-43DC-9DD8-789EBD2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8AE-50C9-4445-AB80-1B4A06A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BB5-F8C5-4499-AFE9-AE78753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36B-BE3C-4212-B179-7C9EF26B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8599-77F9-4649-AAA0-24DBE5D18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orte"/>
              </a:rPr>
              <a:t>Olivia Julian and Jennie McC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075040" y="296712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9" descr=""/>
          <p:cNvPicPr/>
          <p:nvPr/>
        </p:nvPicPr>
        <p:blipFill>
          <a:blip r:embed="rId3"/>
          <a:stretch/>
        </p:blipFill>
        <p:spPr>
          <a:xfrm>
            <a:off x="1060560" y="822240"/>
            <a:ext cx="67975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Seasonal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imgs.sfgate.com/c/pictures/2007/04/20/ba_locavore18jane208lh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35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Me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51" name="Picture 6" descr="http://images.doba.com/products/474/9780064460507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62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Vege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farm4.static.flickr.com/3559/3331080686_8cbe47a110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80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Fru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Picture 8" descr="http://www.eatmedaily.com/wordpress/wp-content/uploads/2009/03/meat-frui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95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Earwig Factory"/>
              </a:rPr>
              <a:t>Meat, Poultry, and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www.owlspotting.com/wp-content/uploads/2006/07/Excalibur.jpg"/>
          <p:cNvPicPr/>
          <p:nvPr/>
        </p:nvPicPr>
        <p:blipFill>
          <a:blip r:embed="rId1"/>
          <a:stretch/>
        </p:blipFill>
        <p:spPr>
          <a:xfrm>
            <a:off x="1905120" y="1752480"/>
            <a:ext cx="5580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Bread and Bu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67" name="Picture 6" descr="http://www.pastryscoop.com/images/scoop/yeast-1-medieval-bakers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Dri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71" name="Picture 8" descr="http://www.top-tour-of-spain.com/images/spanish-drinks1.jpg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1:44Z</dcterms:created>
  <dc:creator>Jenny McCarty</dc:creator>
  <dc:description/>
  <dc:language>en-US</dc:language>
  <cp:lastModifiedBy>Jon</cp:lastModifiedBy>
  <dcterms:modified xsi:type="dcterms:W3CDTF">2009-09-30T01:48:04Z</dcterms:modified>
  <cp:revision>14</cp:revision>
  <dc:subject/>
  <dc:title>Medieval Food</dc:title>
</cp:coreProperties>
</file>