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ABB-87E8-4233-A155-C6B5DD9C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57D-C196-4DF2-9BD0-C125E32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531-1EBC-406E-9688-3795970C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446-04CF-4700-BA8E-5855BE22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827-3C3D-43E0-8FF9-F8E5AD4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3AD-1DDA-456B-818D-431D76E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983-FC1A-4568-B062-18F7872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79F-F4AC-4F09-AC3E-2DDAE91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BC9-A59D-40ED-8249-5BEBB13F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09-9E69-498A-BBFB-F2F99BC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809-9A7A-4500-8CF3-E3CC873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82C-7BDD-45B1-B96F-E8B8CCC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DF48-161F-4FF8-AC12-9F208781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orte"/>
              </a:rPr>
              <a:t>Olivia Julian and Jennie McC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075040" y="296712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9" descr=""/>
          <p:cNvPicPr/>
          <p:nvPr/>
        </p:nvPicPr>
        <p:blipFill>
          <a:blip r:embed="rId3"/>
          <a:stretch/>
        </p:blipFill>
        <p:spPr>
          <a:xfrm>
            <a:off x="1060560" y="822240"/>
            <a:ext cx="67975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Seasonal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imgs.sfgate.com/c/pictures/2007/04/20/ba_locavore18jane208lh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35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Me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51" name="Picture 6" descr="http://images.doba.com/products/474/9780064460507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62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Vege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farm4.static.flickr.com/3559/3331080686_8cbe47a110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80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Fru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Picture 8" descr="http://www.eatmedaily.com/wordpress/wp-content/uploads/2009/03/meat-frui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95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Earwig Factory"/>
              </a:rPr>
              <a:t>Meat, Poultry, and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www.owlspotting.com/wp-content/uploads/2006/07/Excalibur.jpg"/>
          <p:cNvPicPr/>
          <p:nvPr/>
        </p:nvPicPr>
        <p:blipFill>
          <a:blip r:embed="rId1"/>
          <a:stretch/>
        </p:blipFill>
        <p:spPr>
          <a:xfrm>
            <a:off x="1905120" y="1752480"/>
            <a:ext cx="5580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Bread and Bu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67" name="Picture 6" descr="http://www.pastryscoop.com/images/scoop/yeast-1-medieval-bakers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Dri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71" name="Picture 8" descr="http://www.top-tour-of-spain.com/images/spanish-drinks1.jpg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1:44Z</dcterms:created>
  <dc:creator>Jenny McCarty</dc:creator>
  <dc:description/>
  <dc:language>en-US</dc:language>
  <cp:lastModifiedBy>Jon</cp:lastModifiedBy>
  <dcterms:modified xsi:type="dcterms:W3CDTF">2009-09-30T01:48:04Z</dcterms:modified>
  <cp:revision>14</cp:revision>
  <dc:subject/>
  <dc:title>Medieval Food</dc:title>
</cp:coreProperties>
</file>