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740-F6B8-4FB6-A1DA-958FA0F9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EBB-86B8-4427-9940-D1A827B6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69F-DBDC-42D4-AF28-F946E852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EDD-609B-4B2C-97DA-65DBECD5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B21-21F1-4287-AA42-0DB1E9EE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53F-57D7-4DC1-92D9-18FA8B42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CDC-3C5A-48D2-B12E-F9E880F0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BC5-C36E-43F7-A8F4-2F929863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451-A0A9-4CB4-B4CF-9A87F037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8A9-1FAB-48DD-82EE-646977E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1C1-830A-412C-BA35-BFD066B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C70-BC58-4407-B6C8-878CFF24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AFBE-E941-444B-BDE6-35F4B6E0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orte"/>
              </a:rPr>
              <a:t>Olivia Julian and Jennie McCa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075040" y="2967120"/>
            <a:ext cx="185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9" descr=""/>
          <p:cNvPicPr/>
          <p:nvPr/>
        </p:nvPicPr>
        <p:blipFill>
          <a:blip r:embed="rId3"/>
          <a:stretch/>
        </p:blipFill>
        <p:spPr>
          <a:xfrm>
            <a:off x="1060560" y="822240"/>
            <a:ext cx="67975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Seasonal F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imgs.sfgate.com/c/pictures/2007/04/20/ba_locavore18jane208lh.jpg"/>
          <p:cNvPicPr/>
          <p:nvPr/>
        </p:nvPicPr>
        <p:blipFill>
          <a:blip r:embed="rId1"/>
          <a:stretch/>
        </p:blipFill>
        <p:spPr>
          <a:xfrm>
            <a:off x="1371600" y="1523880"/>
            <a:ext cx="6535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Me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51" name="Picture 6" descr="http://images.doba.com/products/474/9780064460507.jpg"/>
          <p:cNvPicPr/>
          <p:nvPr/>
        </p:nvPicPr>
        <p:blipFill>
          <a:blip r:embed="rId1"/>
          <a:stretch/>
        </p:blipFill>
        <p:spPr>
          <a:xfrm>
            <a:off x="2590920" y="1371600"/>
            <a:ext cx="39621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Vege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farm4.static.flickr.com/3559/3331080686_8cbe47a110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80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Frui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Picture 8" descr="http://www.eatmedaily.com/wordpress/wp-content/uploads/2009/03/meat-fruit.jpg"/>
          <p:cNvPicPr/>
          <p:nvPr/>
        </p:nvPicPr>
        <p:blipFill>
          <a:blip r:embed="rId1"/>
          <a:stretch/>
        </p:blipFill>
        <p:spPr>
          <a:xfrm>
            <a:off x="1066680" y="1676520"/>
            <a:ext cx="695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Earwig Factory"/>
              </a:rPr>
              <a:t>Meat, Poultry, and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www.owlspotting.com/wp-content/uploads/2006/07/Excalibur.jpg"/>
          <p:cNvPicPr/>
          <p:nvPr/>
        </p:nvPicPr>
        <p:blipFill>
          <a:blip r:embed="rId1"/>
          <a:stretch/>
        </p:blipFill>
        <p:spPr>
          <a:xfrm>
            <a:off x="1905120" y="1752480"/>
            <a:ext cx="5580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Bread and Bu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67" name="Picture 6" descr="http://www.pastryscoop.com/images/scoop/yeast-1-medieval-bakers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Earwig Factory"/>
              </a:rPr>
              <a:t>Dri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Teen"/>
            </a:endParaRPr>
          </a:p>
        </p:txBody>
      </p:sp>
      <p:pic>
        <p:nvPicPr>
          <p:cNvPr id="71" name="Picture 8" descr="http://www.top-tour-of-spain.com/images/spanish-drinks1.jpg"/>
          <p:cNvPicPr/>
          <p:nvPr/>
        </p:nvPicPr>
        <p:blipFill>
          <a:blip r:embed="rId1"/>
          <a:stretch/>
        </p:blipFill>
        <p:spPr>
          <a:xfrm>
            <a:off x="2438280" y="1752480"/>
            <a:ext cx="42674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0:51:44Z</dcterms:created>
  <dc:creator>Jenny McCarty</dc:creator>
  <dc:description/>
  <dc:language>en-US</dc:language>
  <cp:lastModifiedBy>Jon</cp:lastModifiedBy>
  <dcterms:modified xsi:type="dcterms:W3CDTF">2009-09-30T01:48:04Z</dcterms:modified>
  <cp:revision>14</cp:revision>
  <dc:subject/>
  <dc:title>Medieval Food</dc:title>
</cp:coreProperties>
</file>