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101BF-DC5A-4C45-AFDA-8E05D7774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01158-32DF-49CB-B7E1-8E3EC0F90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C0A30-2272-4FC2-A1B3-9EAB1DC6D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88DBE-F6F7-43A9-92B1-96D31D688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69A77-EDDD-4AD9-BFF5-2C0767664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B360A-C585-4625-AC50-259DD6763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05775-9939-46B1-A3E5-22F8C98F7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7A8B5-127D-431C-BB57-0083B910C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AF765-384D-4338-84F6-EE4E12FBC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04D39-F1CC-4C1F-9529-497DA097A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1349A-AEFC-4505-921F-F76A72A39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D8C6F-CCA0-4E10-BFC1-50E380A4E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CDA42-2866-4471-A387-A57C6313B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71942-D0FF-499C-A443-2D27F34E6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B554F-4D83-418B-891B-1A22F8994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50E64-5204-4432-93B2-E4F63CFF8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7335A-7A79-495F-AF41-FBB0F9E15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42AE-0C9A-460E-913A-F4AD130B0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899F9-D4F4-44A4-8444-CA7E3CDFD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281A7-E713-4A8E-AB75-69EC0BBB4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AD16B-708B-45ED-A71F-0F0C0389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FFAC-5415-44C0-BFAE-E44A06CB9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65500-29DC-4CA0-93C5-61F9B6652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4507D-2DC4-41C9-BEA2-301296369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B156-EDDD-4456-97D8-C869AB72859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28DA-EA80-4068-B24B-32DD63A667C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752480"/>
            <a:ext cx="8610480" cy="18288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Medieval Games and Entertainment</a:t>
            </a:r>
            <a:endParaRPr b="0" lang="en-US" sz="4200" spc="-1" strike="noStrike">
              <a:solidFill>
                <a:srgbClr val="ffffff"/>
              </a:solidFill>
              <a:latin typeface="Times New Roman"/>
            </a:endParaRPr>
          </a:p>
        </p:txBody>
      </p:sp>
      <p:sp>
        <p:nvSpPr>
          <p:cNvPr id="91" name="PlaceHolder 2"/>
          <p:cNvSpPr>
            <a:spLocks noGrp="1"/>
          </p:cNvSpPr>
          <p:nvPr>
            <p:ph type="subTitle"/>
          </p:nvPr>
        </p:nvSpPr>
        <p:spPr>
          <a:xfrm>
            <a:off x="144792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iel Parow- 2</a:t>
            </a:r>
            <a:r>
              <a:rPr b="0" lang="en-US" sz="3200" spc="-1" strike="noStrike" baseline="30000">
                <a:solidFill>
                  <a:srgbClr val="ffffff"/>
                </a:solidFill>
                <a:latin typeface="Arial"/>
              </a:rPr>
              <a:t>nd</a:t>
            </a:r>
            <a:r>
              <a:rPr b="0" lang="en-US" sz="3200" spc="-1" strike="noStrike">
                <a:solidFill>
                  <a:srgbClr val="ffffff"/>
                </a:solidFill>
                <a:latin typeface="Arial"/>
              </a:rPr>
              <a:t> Peri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 (continued)</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performing artist in Medieval times was a contortioni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contortionist has a very strange talent. Contortionists have extreme flexibility in their bodies and are able to bend their bodies in many different directio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ortionists are categorized as either front benders or back benders; depending on the direction the spine is more flexibl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2895120"/>
            <a:ext cx="8153280" cy="403884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conclusion, the games and entertainment used in the Middle Ages are not far from what we use and have toda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89512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Vivaldi"/>
              </a:rPr>
              <a:t>The End</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ve you ever thought about people in the Medieval Times? About what they did to have fun and keep themselves busy? What life was like without TVs, DVD players, computer games and the Internet?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dieval society participated in a number of games and recreation, which they played when the harsh lifestyle gave them a break.</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many games played in Medieval Times that we still play today.</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games they played</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e of the main games played during the Middle Ages was chess.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games played include bowling, prisoner’s base, blind man’s bluff, ring toss, and marbles.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mentioned above, people in the Middle Ages played many of the  games we still play today. I mentioned chess, but a few other games were played, including wrestling, swimming, fishing, and check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types of entertainment</a:t>
            </a:r>
            <a:endParaRPr b="0" lang="en-US" sz="4400" spc="-1" strike="noStrike">
              <a:solidFill>
                <a:srgbClr val="ffffff"/>
              </a:solidFill>
              <a:latin typeface="Times New Roman"/>
            </a:endParaRPr>
          </a:p>
        </p:txBody>
      </p:sp>
      <p:sp>
        <p:nvSpPr>
          <p:cNvPr id="97" name="PlaceHolder 2"/>
          <p:cNvSpPr>
            <a:spLocks noGrp="1"/>
          </p:cNvSpPr>
          <p:nvPr>
            <p:ph/>
          </p:nvPr>
        </p:nvSpPr>
        <p:spPr>
          <a:xfrm>
            <a:off x="533160" y="1752120"/>
            <a:ext cx="8839080" cy="403884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easts</a:t>
            </a:r>
            <a:endParaRPr b="0" lang="en-US" sz="31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forming arts </a:t>
            </a:r>
            <a:r>
              <a:rPr b="0" lang="en-US" sz="2800" spc="-1" strike="noStrike">
                <a:solidFill>
                  <a:srgbClr val="ffffff"/>
                </a:solidFill>
                <a:latin typeface="Arial"/>
              </a:rPr>
              <a:t>(music, dance, acting, comedy)</a:t>
            </a:r>
            <a:endParaRPr b="0" lang="en-US" sz="28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urnaments (fighting)</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98" name="" descr=""/>
          <p:cNvPicPr/>
          <p:nvPr/>
        </p:nvPicPr>
        <p:blipFill>
          <a:blip r:embed="rId1"/>
          <a:stretch/>
        </p:blipFill>
        <p:spPr>
          <a:xfrm>
            <a:off x="4648320" y="3460680"/>
            <a:ext cx="4114800" cy="255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east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asts were usually held on holidays or special occasions.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 dancing and gift exchanges also took place at these events.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ain meat eaten was pork, and the medieval society would use honey as a sweetener.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vorite drinks included wine, mead (alcoholic beverage fermented with yeast), and especially ale (which was generally home brewed).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asants would harvest fruits and vegetable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hting Tournaments</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urnaments were series of mounted and armored combats, fought as contests.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se tournaments were held in large arena like area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njoyed by commoners and nobl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urnaments were sometimes sponsored by Nobl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re were different kinds of tournaments and combat.</a:t>
            </a:r>
            <a:endParaRPr b="0" lang="en-US" sz="2700" spc="-1" strike="noStrike">
              <a:solidFill>
                <a:srgbClr val="fffff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ypes of Tournaments and Combat</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Joust a plaisance Tournament</a:t>
            </a:r>
            <a:r>
              <a:rPr b="0" lang="en-US" sz="2600" spc="-1" strike="noStrike">
                <a:solidFill>
                  <a:srgbClr val="ffffff"/>
                </a:solidFill>
                <a:latin typeface="Arial"/>
              </a:rPr>
              <a:t> - A series of elimination jousts over several days and an overall winner would be determined.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Pas d'armes or passage of arms Tournament </a:t>
            </a:r>
            <a:r>
              <a:rPr b="0" lang="en-US" sz="2600" spc="-1" strike="noStrike">
                <a:solidFill>
                  <a:srgbClr val="ffffff"/>
                </a:solidFill>
                <a:latin typeface="Arial"/>
              </a:rPr>
              <a:t>- A Knight sends out a proclamation that he would take on all challengers at a specific time and place.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Melee a pied Tournament</a:t>
            </a:r>
            <a:r>
              <a:rPr b="0" lang="en-US" sz="2600" spc="-1" strike="noStrike">
                <a:solidFill>
                  <a:srgbClr val="ffffff"/>
                </a:solidFill>
                <a:latin typeface="Arial"/>
              </a:rPr>
              <a:t> - Teams of knights fighting on foot.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Melee a cheval Tournament</a:t>
            </a:r>
            <a:r>
              <a:rPr b="0" lang="en-US" sz="2600" spc="-1" strike="noStrike">
                <a:solidFill>
                  <a:srgbClr val="ffffff"/>
                </a:solidFill>
                <a:latin typeface="Arial"/>
              </a:rPr>
              <a:t> - Teams of knights fighting on horseback.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forming Arts were greatly loved during Medieval Time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Performing Arts and Artists include…</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er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bat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mblers </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rtionis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7" name="" descr=""/>
          <p:cNvPicPr/>
          <p:nvPr/>
        </p:nvPicPr>
        <p:blipFill>
          <a:blip r:embed="rId1"/>
          <a:stretch/>
        </p:blipFill>
        <p:spPr>
          <a:xfrm>
            <a:off x="5486400" y="3276720"/>
            <a:ext cx="2590920" cy="27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 (continued)</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 gave musicians a chance to perform inside the castle walls for lords and ladies.</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jester would be used for humorous reasons such as being a wit-cracker, making jokes, or doing hilarious acts to entertain audiences.</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see tumblers and acrobats even today. A modern day comparison to the medieval acrobats and tumblers would be acrobats and tumblers at a circus. We see them put their lives in danger to provide entertainment. Example: (tight rop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7:34:09Z</dcterms:created>
  <dc:creator> </dc:creator>
  <dc:description/>
  <dc:language>en-US</dc:language>
  <cp:lastModifiedBy> </cp:lastModifiedBy>
  <dcterms:modified xsi:type="dcterms:W3CDTF">2009-10-04T21:02:43Z</dcterms:modified>
  <cp:revision>7</cp:revision>
  <dc:subject/>
  <dc:title>Medieval Games and Entertainment</dc:title>
</cp:coreProperties>
</file>