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C070B-ACB8-4351-BE7C-3B43BD64A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1CB44-B20F-4EC5-93A1-D89052BE9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4DD92-5605-4350-897A-50D5841F0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B23E9-46B2-41DD-9E46-03EF3CB21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3EAA33-8524-4CE8-8B65-E1551E82A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49781-9250-445E-9BBD-F5A7EEC44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560BC-A46E-46FE-8EB3-9051CC09F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E6925-4B17-44AD-AEBB-81E00A9A9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8FACA-0E25-4765-81DA-74EA9911F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0680D-1A37-4B2B-8C24-6F981F4EB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7EA6A-8CEF-4A3F-B092-BFE950362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4D145-BE5E-493C-B2D7-55491C35D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17F99-CBC8-40F2-9630-CD60AA95C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EFA54-6195-48CE-9E99-087DACEC7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72436-7D9B-46E2-94AB-165531203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0EA7F-E76B-497B-A432-8CF68C5FDD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F9EFAC-94F3-4F8C-BD98-C966EE417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E4C6C-F84C-46C7-81BD-C66E51220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4A378-7F32-4247-8541-77C244E7F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DAFFA-3696-4520-9F18-4281B181F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4D893-226E-421D-AAF2-EE16EEBC9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4D78B-FB81-42BB-8E13-9AA891D95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29483-A6D7-4AC0-B6E0-3488E5B0A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D2C60-1818-4EA0-8A35-81D887B16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19A3-8D46-41C6-A8A5-D4DF3F4D78B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274A-D464-45AD-8ED0-F837F537184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1752480"/>
            <a:ext cx="8610480" cy="182880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Medieval Games and Entertainment</a:t>
            </a:r>
            <a:endParaRPr b="0" lang="en-US" sz="4200" spc="-1" strike="noStrike">
              <a:solidFill>
                <a:srgbClr val="ffffff"/>
              </a:solidFill>
              <a:latin typeface="Times New Roman"/>
            </a:endParaRPr>
          </a:p>
        </p:txBody>
      </p:sp>
      <p:sp>
        <p:nvSpPr>
          <p:cNvPr id="91" name="PlaceHolder 2"/>
          <p:cNvSpPr>
            <a:spLocks noGrp="1"/>
          </p:cNvSpPr>
          <p:nvPr>
            <p:ph type="subTitle"/>
          </p:nvPr>
        </p:nvSpPr>
        <p:spPr>
          <a:xfrm>
            <a:off x="1447920" y="3580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niel Parow- 2</a:t>
            </a:r>
            <a:r>
              <a:rPr b="0" lang="en-US" sz="3200" spc="-1" strike="noStrike" baseline="30000">
                <a:solidFill>
                  <a:srgbClr val="ffffff"/>
                </a:solidFill>
                <a:latin typeface="Arial"/>
              </a:rPr>
              <a:t>nd</a:t>
            </a:r>
            <a:r>
              <a:rPr b="0" lang="en-US" sz="3200" spc="-1" strike="noStrike">
                <a:solidFill>
                  <a:srgbClr val="ffffff"/>
                </a:solidFill>
                <a:latin typeface="Arial"/>
              </a:rPr>
              <a:t> Perio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rforming Arts (continued)</a:t>
            </a: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other performing artist in Medieval times was a contortionis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 contortionist has a very strange talent. Contortionists have extreme flexibility in their bodies and are able to bend their bodies in many different direction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ntortionists are categorized as either front benders or back benders; depending on the direction the spine is more flexible.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a:t>
            </a:r>
            <a:endParaRPr b="0" lang="en-US" sz="4400" spc="-1" strike="noStrike">
              <a:solidFill>
                <a:srgbClr val="ffffff"/>
              </a:solidFill>
              <a:latin typeface="Times New Roman"/>
            </a:endParaRPr>
          </a:p>
        </p:txBody>
      </p:sp>
      <p:sp>
        <p:nvSpPr>
          <p:cNvPr id="113" name="PlaceHolder 2"/>
          <p:cNvSpPr>
            <a:spLocks noGrp="1"/>
          </p:cNvSpPr>
          <p:nvPr>
            <p:ph/>
          </p:nvPr>
        </p:nvSpPr>
        <p:spPr>
          <a:xfrm>
            <a:off x="533520" y="2895120"/>
            <a:ext cx="8153280" cy="403884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conclusion, the games and entertainment used in the Middle Ages are not far from what we use and have today.</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89512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Vivaldi"/>
              </a:rPr>
              <a:t>The End</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in Idea</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ve you ever thought about people in the Medieval Times? About what they did to have fun and keep themselves busy? What life was like without TVs, DVD players, computer games and the Internet? </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dieval society participated in a number of games and recreation, which they played when the harsh lifestyle gave them a break.</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 are many games played in Medieval Times that we still play today.</a:t>
            </a:r>
            <a:r>
              <a:rPr b="0" lang="en-US" sz="3100" spc="-1" strike="noStrike">
                <a:solidFill>
                  <a:srgbClr val="ffffff"/>
                </a:solidFill>
                <a:latin typeface="Arial"/>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few games they played</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e of the main games played during the Middle Ages was chess. </a:t>
            </a:r>
            <a:endParaRPr b="0" lang="en-US" sz="2600" spc="-1" strike="noStrike">
              <a:solidFill>
                <a:srgbClr val="ffffff"/>
              </a:solidFill>
              <a:latin typeface="Arial"/>
            </a:endParaRPr>
          </a:p>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ther games played include bowling, prisoner’s base, blind man’s bluff, ring toss, and marbles. </a:t>
            </a:r>
            <a:endParaRPr b="0" lang="en-US" sz="2600" spc="-1" strike="noStrike">
              <a:solidFill>
                <a:srgbClr val="ffffff"/>
              </a:solidFill>
              <a:latin typeface="Arial"/>
            </a:endParaRPr>
          </a:p>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 mentioned above, people in the Middle Ages played many of the  games we still play today. I mentioned chess, but a few other games were played, including wrestling, swimming, fishing, and check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ther types of entertainment</a:t>
            </a:r>
            <a:endParaRPr b="0" lang="en-US" sz="4400" spc="-1" strike="noStrike">
              <a:solidFill>
                <a:srgbClr val="ffffff"/>
              </a:solidFill>
              <a:latin typeface="Times New Roman"/>
            </a:endParaRPr>
          </a:p>
        </p:txBody>
      </p:sp>
      <p:sp>
        <p:nvSpPr>
          <p:cNvPr id="97" name="PlaceHolder 2"/>
          <p:cNvSpPr>
            <a:spLocks noGrp="1"/>
          </p:cNvSpPr>
          <p:nvPr>
            <p:ph/>
          </p:nvPr>
        </p:nvSpPr>
        <p:spPr>
          <a:xfrm>
            <a:off x="533160" y="1752120"/>
            <a:ext cx="8839080" cy="403884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easts</a:t>
            </a:r>
            <a:endParaRPr b="0" lang="en-US" sz="31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forming arts </a:t>
            </a:r>
            <a:r>
              <a:rPr b="0" lang="en-US" sz="2800" spc="-1" strike="noStrike">
                <a:solidFill>
                  <a:srgbClr val="ffffff"/>
                </a:solidFill>
                <a:latin typeface="Arial"/>
              </a:rPr>
              <a:t>(music, dance, acting, comedy)</a:t>
            </a:r>
            <a:endParaRPr b="0" lang="en-US" sz="28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urnaments (fighting)</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98" name="" descr=""/>
          <p:cNvPicPr/>
          <p:nvPr/>
        </p:nvPicPr>
        <p:blipFill>
          <a:blip r:embed="rId1"/>
          <a:stretch/>
        </p:blipFill>
        <p:spPr>
          <a:xfrm>
            <a:off x="4648320" y="3460680"/>
            <a:ext cx="4114800" cy="255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easts</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easts were usually held on holidays or special occasions. </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ic, dancing and gift exchanges also took place at these events. </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ain meat eaten was pork, and the medieval society would use honey as a sweetener. </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vorite drinks included wine, mead (alcoholic beverage fermented with yeast), and especially ale (which was generally home brewed). </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asants would harvest fruits and vegetables.</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ghting Tournaments</a:t>
            </a: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urnaments were series of mounted and armored combats, fought as contests.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se tournaments were held in large arena like areas.</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njoyed by commoners and nobles.</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urnaments were sometimes sponsored by Nobles.</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re were different kinds of tournaments and combat.</a:t>
            </a:r>
            <a:endParaRPr b="0" lang="en-US" sz="2700" spc="-1" strike="noStrike">
              <a:solidFill>
                <a:srgbClr val="ffffff"/>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ypes of Tournaments and Combat</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752120"/>
            <a:ext cx="8153280" cy="4343400"/>
          </a:xfrm>
          <a:prstGeom prst="rect">
            <a:avLst/>
          </a:prstGeom>
          <a:noFill/>
          <a:ln w="0">
            <a:noFill/>
          </a:ln>
        </p:spPr>
        <p:txBody>
          <a:bodyPr lIns="90000" rIns="90000" tIns="46800" bIns="46800" anchor="t">
            <a:normAutofit/>
          </a:bodyPr>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t>
            </a:r>
            <a:r>
              <a:rPr b="0" lang="en-US" sz="2600" spc="-1" strike="noStrike" u="sng">
                <a:solidFill>
                  <a:srgbClr val="ffffff"/>
                </a:solidFill>
                <a:uFillTx/>
                <a:latin typeface="Arial"/>
              </a:rPr>
              <a:t>Joust a plaisance Tournament</a:t>
            </a:r>
            <a:r>
              <a:rPr b="0" lang="en-US" sz="2600" spc="-1" strike="noStrike">
                <a:solidFill>
                  <a:srgbClr val="ffffff"/>
                </a:solidFill>
                <a:latin typeface="Arial"/>
              </a:rPr>
              <a:t> - A series of elimination jousts over several days and an overall winner would be determined. </a:t>
            </a:r>
            <a:endParaRPr b="0" lang="en-US" sz="2600" spc="-1" strike="noStrike">
              <a:solidFill>
                <a:srgbClr val="ffffff"/>
              </a:solidFill>
              <a:latin typeface="Arial"/>
            </a:endParaRPr>
          </a:p>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t>
            </a:r>
            <a:r>
              <a:rPr b="0" lang="en-US" sz="2600" spc="-1" strike="noStrike" u="sng">
                <a:solidFill>
                  <a:srgbClr val="ffffff"/>
                </a:solidFill>
                <a:uFillTx/>
                <a:latin typeface="Arial"/>
              </a:rPr>
              <a:t>Pas d'armes or passage of arms Tournament </a:t>
            </a:r>
            <a:r>
              <a:rPr b="0" lang="en-US" sz="2600" spc="-1" strike="noStrike">
                <a:solidFill>
                  <a:srgbClr val="ffffff"/>
                </a:solidFill>
                <a:latin typeface="Arial"/>
              </a:rPr>
              <a:t>- A Knight sends out a proclamation that he would take on all challengers at a specific time and place. </a:t>
            </a:r>
            <a:endParaRPr b="0" lang="en-US" sz="2600" spc="-1" strike="noStrike">
              <a:solidFill>
                <a:srgbClr val="ffffff"/>
              </a:solidFill>
              <a:latin typeface="Arial"/>
            </a:endParaRPr>
          </a:p>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t>
            </a:r>
            <a:r>
              <a:rPr b="0" lang="en-US" sz="2600" spc="-1" strike="noStrike" u="sng">
                <a:solidFill>
                  <a:srgbClr val="ffffff"/>
                </a:solidFill>
                <a:uFillTx/>
                <a:latin typeface="Arial"/>
              </a:rPr>
              <a:t>Melee a pied Tournament</a:t>
            </a:r>
            <a:r>
              <a:rPr b="0" lang="en-US" sz="2600" spc="-1" strike="noStrike">
                <a:solidFill>
                  <a:srgbClr val="ffffff"/>
                </a:solidFill>
                <a:latin typeface="Arial"/>
              </a:rPr>
              <a:t> - Teams of knights fighting on foot. </a:t>
            </a:r>
            <a:endParaRPr b="0" lang="en-US" sz="2600" spc="-1" strike="noStrike">
              <a:solidFill>
                <a:srgbClr val="ffffff"/>
              </a:solidFill>
              <a:latin typeface="Arial"/>
            </a:endParaRPr>
          </a:p>
          <a:p>
            <a:pPr marL="343080" indent="-343080">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t>
            </a:r>
            <a:r>
              <a:rPr b="0" lang="en-US" sz="2600" spc="-1" strike="noStrike" u="sng">
                <a:solidFill>
                  <a:srgbClr val="ffffff"/>
                </a:solidFill>
                <a:uFillTx/>
                <a:latin typeface="Arial"/>
              </a:rPr>
              <a:t>Melee a cheval Tournament</a:t>
            </a:r>
            <a:r>
              <a:rPr b="0" lang="en-US" sz="2600" spc="-1" strike="noStrike">
                <a:solidFill>
                  <a:srgbClr val="ffffff"/>
                </a:solidFill>
                <a:latin typeface="Arial"/>
              </a:rPr>
              <a:t> - Teams of knights fighting on horseback.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rforming Arts</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rforming Arts were greatly loved during Medieval Times.</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Performing Arts and Artists include…</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ic</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ers</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robats</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mblers </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ortionis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7" name="" descr=""/>
          <p:cNvPicPr/>
          <p:nvPr/>
        </p:nvPicPr>
        <p:blipFill>
          <a:blip r:embed="rId1"/>
          <a:stretch/>
        </p:blipFill>
        <p:spPr>
          <a:xfrm>
            <a:off x="5486400" y="3276720"/>
            <a:ext cx="2590920" cy="27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rforming Arts (continued)</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ic gave musicians a chance to perform inside the castle walls for lords and ladies.</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jester would be used for humorous reasons such as being a wit-cracker, making jokes, or doing hilarious acts to entertain audiences.</a:t>
            </a:r>
            <a:endParaRPr b="0" lang="en-US" sz="2600" spc="-1" strike="noStrike">
              <a:solidFill>
                <a:srgbClr val="ffffff"/>
              </a:solidFill>
              <a:latin typeface="Arial"/>
            </a:endParaRPr>
          </a:p>
          <a:p>
            <a:pPr marL="343080" indent="-343080">
              <a:lnSpc>
                <a:spcPct val="90000"/>
              </a:lnSpc>
              <a:spcBef>
                <a:spcPts val="6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 see tumblers and acrobats even today. A modern day comparison to the medieval acrobats and tumblers would be acrobats and tumblers at a circus. We see them put their lives in danger to provide entertainment. Example: (tight rope)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17:34:09Z</dcterms:created>
  <dc:creator> </dc:creator>
  <dc:description/>
  <dc:language>en-US</dc:language>
  <cp:lastModifiedBy> </cp:lastModifiedBy>
  <dcterms:modified xsi:type="dcterms:W3CDTF">2009-10-04T21:02:43Z</dcterms:modified>
  <cp:revision>7</cp:revision>
  <dc:subject/>
  <dc:title>Medieval Games and Entertainment</dc:title>
</cp:coreProperties>
</file>