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21A-F19D-4029-BEDC-E3E439CF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4B8-0EBD-42BB-8DE1-AD0EF2C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3A3-B009-41E3-A8C8-BA68B7C8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8FE-0FCC-4BA1-954D-6EE72412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B3CC-E04E-426D-A1C8-52342056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EC9-CAEC-42FD-A4C6-FFC347C7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5A87-3BD0-42DE-A46C-182A5DB5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D535-6CDB-4693-BB74-1E780655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337-DE37-4B50-8B50-67DAAEE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3A3A-E58B-4ED2-88A3-2ABA40A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7A4-7226-4877-BA7C-5A869B6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BC6-956C-4F4A-BE41-6622B3B0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A8A9-EFC1-4A80-BE55-5CF3243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4436-0862-4AF7-A2ED-325DC96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751A-5AD4-4A23-B60B-B371922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4877-5772-4ADD-9087-84100298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383-6898-4C2E-9413-796F85DB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5F1-51D2-4033-9FE1-822C1C5F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849-395D-4B48-A207-259467F7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96A-3F05-415C-AD07-4958839B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351-2DDA-4F96-A677-2300B531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FA8-E516-48F1-B93B-29013E3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130-F029-485B-880C-0CC80796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079-2049-463C-BF61-B0CEB44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C871-B42E-462B-B625-29A288259F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204C-CC4F-4AEC-8670-EB7CA98C07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Mozetta" TargetMode="External"/><Relationship Id="rId3" Type="http://schemas.openxmlformats.org/officeDocument/2006/relationships/hyperlink" Target="http://en.wikipedia.org/wiki/Canon_(priest)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lieur_JPG0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. Justice Willi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Period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Honors 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609480"/>
            <a:ext cx="7391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3ce0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Medieval Occupations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d3ce0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ORR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88840" y="2671920"/>
            <a:ext cx="317520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RRI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5105520"/>
            <a:ext cx="426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ur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mozet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worn by a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can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Flan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RAVEDIG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38720" y="18129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RA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24560" y="1979640"/>
            <a:ext cx="22860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NSTRE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EDDL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76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POTHECAR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dical professional who formulates and dispenses material medication to physicians, surgeons and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or she offered general medical advice and other services, like surgery and midwif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work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2004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TROLO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895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OOKBIND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24600" y="1600200"/>
            <a:ext cx="30859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RRI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RTOGRAPH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9960" y="2703600"/>
            <a:ext cx="31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PLO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Y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GRAV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18:39Z</dcterms:created>
  <dc:creator>Tuwanda Williams</dc:creator>
  <dc:description/>
  <dc:language>en-US</dc:language>
  <cp:lastModifiedBy>wks1</cp:lastModifiedBy>
  <dcterms:modified xsi:type="dcterms:W3CDTF">2009-10-01T12:49:54Z</dcterms:modified>
  <cp:revision>7</cp:revision>
  <dc:subject/>
  <dc:title>Slide 1</dc:title>
</cp:coreProperties>
</file>