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53C-8220-483A-A4E3-1D175AD5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AE3-C0F3-4F2D-82B5-911FAFB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556-6722-4E32-8485-3D710A6B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AA5-1B26-45EB-B9B5-2B05A1B2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E4E6-A601-4DCE-BF62-8FE3AB14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B8F4-40A9-4F4C-965A-B32D7A1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A028-C951-44A0-B193-7767C49F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5A66-4CC0-4AC8-A0AE-60096E0E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134-5640-413B-8C4D-DE44AF6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441E-CE74-4EF7-AA82-21845D7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A72-D58B-4B26-B2A9-30C1E6C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765-45F5-4FB0-B866-0C7E002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822-3195-4B23-AC3E-32869F7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5E27-651F-4151-A701-EDB3F90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3431-E4B1-469F-8A1D-F91A2767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B4D-318F-4D39-9FA0-596C8BC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A45-AF9D-49E4-8D08-C8F7E235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BF8-F408-4DB1-B30E-BFE748F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FB4-466F-415D-9DAA-297AE062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00F-58D3-47CC-9307-9EEA9065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1CE-6970-43F0-AD4D-357B28D3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782-3376-4204-B3BC-C15345F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D0C-B65D-4AF6-A667-766830B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8A2-3DE0-4D01-95A6-F74AAB7A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B8F-4A4A-4FAF-9E50-25075C5CF2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B53-C601-4E90-8707-B79641360C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Mozetta" TargetMode="External"/><Relationship Id="rId3" Type="http://schemas.openxmlformats.org/officeDocument/2006/relationships/hyperlink" Target="http://en.wikipedia.org/wiki/Canon_(priest)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lieur_JPG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. Justice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eriod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Honors 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6094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3ce0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Medieval Occupations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d3ce0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RR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88840" y="2671920"/>
            <a:ext cx="3175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RI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5105520"/>
            <a:ext cx="426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ur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mozet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worn by a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can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Flan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RAVEDIG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38720" y="18129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RA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979640"/>
            <a:ext cx="22860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NSTRE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DDL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76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POTHECAR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dical professional who formulates and dispenses material medication to physicians, surgeons and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or she offered general medical advice and other services, like surgery and midwif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work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00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TROLO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95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OOKBIND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600200"/>
            <a:ext cx="30859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RRI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RTOGRAPH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960" y="2703600"/>
            <a:ext cx="31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PLO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Y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GRA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18:39Z</dcterms:created>
  <dc:creator>Tuwanda Williams</dc:creator>
  <dc:description/>
  <dc:language>en-US</dc:language>
  <cp:lastModifiedBy>wks1</cp:lastModifiedBy>
  <dcterms:modified xsi:type="dcterms:W3CDTF">2009-10-01T12:49:54Z</dcterms:modified>
  <cp:revision>7</cp:revision>
  <dc:subject/>
  <dc:title>Slide 1</dc:title>
</cp:coreProperties>
</file>