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D87-9F73-46F9-B477-DEFB715D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098-5B78-4DF0-AC23-7F5ACC2D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537-34CB-44C7-ADFC-96568BC3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EA56-8D78-487F-8DC3-FC8DFF0A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08C6-AA88-45CC-A858-0220A8CD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F352-AFF4-4E36-B34D-9600A315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3305-D4F9-4BF9-8F27-306F7C61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A8DF-5D27-409E-9A71-7FAECCA8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219E-0BA5-4AD2-8877-8F4A91ED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9A46-98B6-4CA0-892A-3AD1463C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0FE7-4765-4784-8E07-9C5D164F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E6F9-5680-456E-8B11-E5004B37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8B69-96CD-4408-B486-84619024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1E5F-E0C1-4A9D-ADAF-D4A754CC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5844-7F48-4AFE-A6DB-C7F045D5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15C3-7D04-4F94-A20A-B6E6D3A9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2552-403B-42BF-AF0C-AD7AD481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529-9271-4EE7-B188-A893F8B0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C8E-2290-4467-8E2F-6DBCF7BA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707-7388-4546-A53D-83DB0D3C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980-7217-461F-8274-2137FED3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C89-D8BA-471A-9CE1-B663AD05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DBA-2192-4BCB-ADC8-A042F138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9D7-DC02-4DF0-847D-27A57649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041C-9239-4B9E-A157-99198FD39F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91EF-0245-4CB9-80CE-14DC80C447D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en.wikipedia.org/wiki/Mozetta" TargetMode="External"/><Relationship Id="rId3" Type="http://schemas.openxmlformats.org/officeDocument/2006/relationships/hyperlink" Target="http://en.wikipedia.org/wiki/Canon_(priest)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elieur_JPG0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A. Justice Willi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Period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Honors 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14400" y="609480"/>
            <a:ext cx="73915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d3ce0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"/>
              </a:rPr>
              <a:t>Medieval Occupations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solidFill>
                <a:srgbClr val="d3ce0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ORREST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88840" y="2671920"/>
            <a:ext cx="317520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URRI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724280" y="5105520"/>
            <a:ext cx="4267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fur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mozett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worn by a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can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Fland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RAVEDIGG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38720" y="181296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ERAL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EST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524560" y="1979640"/>
            <a:ext cx="228600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INSTRE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EDDL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2763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POTHECARIS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edical professional who formulates and dispenses material medication to physicians, surgeons and pati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or she offered general medical advice and other services, like surgery and midwif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r work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32004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STROLOG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8958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BOOKBIND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24600" y="1600200"/>
            <a:ext cx="30859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BARRIST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RTOGRAPH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79960" y="2703600"/>
            <a:ext cx="317520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PLO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8954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Y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GRAV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819520" cy="243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1:18:39Z</dcterms:created>
  <dc:creator>Tuwanda Williams</dc:creator>
  <dc:description/>
  <dc:language>en-US</dc:language>
  <cp:lastModifiedBy>wks1</cp:lastModifiedBy>
  <dcterms:modified xsi:type="dcterms:W3CDTF">2009-10-01T12:49:54Z</dcterms:modified>
  <cp:revision>7</cp:revision>
  <dc:subject/>
  <dc:title>Slide 1</dc:title>
</cp:coreProperties>
</file>