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329-1FA0-4D81-8C47-442D231E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AA3-50A6-41E8-BDB8-A481B70E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93C-9E79-43A9-B2BA-80552BE0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CDE-98F8-4CE3-9112-23A31076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F907-9D2F-484C-B497-C04676EC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DB85-644E-480B-A7E9-5A152981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07D1-4301-448D-9E63-31D0B5A3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5C8E-DF73-41EE-A082-03086A38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9D12-C795-4DD4-83A5-C5D7888C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D316-9AB7-4CB6-AC3F-B9CB7871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A392-120A-48B6-81DD-F76DDB40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300-24B0-4572-B033-7B8F8583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583B-95A5-4FC9-B023-9CCC9281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BE72-3C62-40D5-A272-54EB8BEA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2728-070C-4482-B00B-DF2B5FB9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4CF9-467F-44C3-929E-4B538FD9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EE77-FE20-4118-8308-170482BB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1B5-9D73-4818-9742-AB91B7FB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28B-9559-4B5B-A259-85D7D1DA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D79-DB07-4EB8-B3EC-E96DAFE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551-09D7-4B39-8E98-52E4AA39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6A1-D36E-43AC-A7A8-90A57D8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377-BBE7-4C2E-97EE-0940D5BA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447-0F7F-409D-843B-C207D2ED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741F-D414-40C2-90FC-120D415ABD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389B-C99B-4416-9A98-6A1831FCD1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Mozetta" TargetMode="External"/><Relationship Id="rId3" Type="http://schemas.openxmlformats.org/officeDocument/2006/relationships/hyperlink" Target="http://en.wikipedia.org/wiki/Canon_(priest)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elieur_JPG0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. Justice Willi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Period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Honors 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400" y="609480"/>
            <a:ext cx="7391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d3ce0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"/>
              </a:rPr>
              <a:t>Medieval Occupations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d3ce0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ORRE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88840" y="2671920"/>
            <a:ext cx="317520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RRI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24280" y="5105520"/>
            <a:ext cx="426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fur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mozet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worn by a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can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Fland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RAVEDIGG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38720" y="18129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RAL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E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24560" y="1979640"/>
            <a:ext cx="228600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NSTRE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EDDL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2763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POTHECARIS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edical professional who formulates and dispenses material medication to physicians, surgeons and pati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or she offered general medical advice and other services, like surgery and midwif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work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2004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TROLOG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8958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OOKBIND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24600" y="1600200"/>
            <a:ext cx="30859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ARRI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RTOGRAPH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79960" y="2703600"/>
            <a:ext cx="31752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PLO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Y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GRAV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8195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1:18:39Z</dcterms:created>
  <dc:creator>Tuwanda Williams</dc:creator>
  <dc:description/>
  <dc:language>en-US</dc:language>
  <cp:lastModifiedBy>wks1</cp:lastModifiedBy>
  <dcterms:modified xsi:type="dcterms:W3CDTF">2009-10-01T12:49:54Z</dcterms:modified>
  <cp:revision>7</cp:revision>
  <dc:subject/>
  <dc:title>Slide 1</dc:title>
</cp:coreProperties>
</file>