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491-9E00-4B9F-9144-24EADAE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3B8-C702-4667-A273-40BE4FF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518-2A0F-4B06-9B3A-2E02B594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2F1-AAD2-42F7-9836-B1C5FB57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7F4-A1BA-4ED0-A009-464A609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841-C923-4E2B-9A51-AD5340F1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C1E-09BC-4B8E-B823-0F5BFA7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859-1CED-4A4B-846E-CE81216D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2AD-AF84-4D6A-9791-17C900B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48C-DC79-4ED0-99A8-B705293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CA1-6D50-4638-ADEA-59E2DC9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CCA-F1CB-4766-A63F-477D4902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B810-E0B5-4EAB-B82D-E648E239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tephanie Col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ors to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 Luther was a reformer and a key contributor to the movement of Protestantism. He also led to the new religious group called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ligion of medieval England was Christian monasticism. This was founded by Anthony of the Desert and his disciple Pachom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ors to Medieval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 was a great contributor to the church and to theology. He asked questions like “Why God was reincarnated?” And found the answer that only a man could repay a man’s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’s contribution to theology was the ontological proof of God’s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an could become a monk. First, they must take their vows before being accepted into th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became a monk, you remained one for the rest of your life. The monks would live under strict discip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reasons for becoming a monk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devote your life to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ive a saf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escape the violence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ead a quiet and peacefu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onk or nun took their final vows, they were clothed by the order they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Benedictine monks were black giving them the name “black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Cistercian monks were white giving them the name “white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uns, it was the wimple that made them distinct. The men were distinguished by their ton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s either completely shaved their heads or cut their hair very short. Either way their head would be covered by the w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ir cut of both nuns and monks symbolized them putting aside their old lives and joining a new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nsure might also indicate the clerical status of a mo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type of ton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4724280"/>
            <a:ext cx="33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n’s w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62720" y="5335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 in Medieval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iritual quests of the middle ages influenced the culture of the medieval times in man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Catholic and Protestant were the two major religions in medieval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idea of the Roman Catholic religion was that they remain aposto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idea of the church was that Peter was the first pope picked by Jesus himself. All the popes chosen after Peter were considered his succ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ecided that the New Testament was God’s holy word and the Holy Spirit worked through the chu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believed that the people couldn’t fully understand the scripture without the church’s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you could go to three different places for your after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Purgatory – a place for the people who did half the requirements to get into heaven. It was a sentence of torture. The sentence varied depending on the pope’s choice to use the office of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rotestant movement was led by Martin Luther who disagreed with certain Roman Catholic practices. Hence, they became known as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gan as a series of independent religious movements. At first, most who followed were those who rejected Catholicism and the excommun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believe in the trinity and that there is only one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differences from the catholic religio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only need faith in God to be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all gracious and his grace comes from Jesus dying on the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not save themselves; they are saved by God’s g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ble is the only document of thei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only go to either heaven or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gion’s Influence on Dail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in medieval England had a huge impact on everyday life. Religion had a far greater role in life than it doe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everyone’s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taught that the only way to get to heaven was if the Roman Catholic Church le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had complete power over every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s would work for free on church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had to pay yearly tithe’s or else you were told your soul would go to 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was very wealthy and you had to pay i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pt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rri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 of which you would be sent to hell for with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did not have to pa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9:58Z</dcterms:created>
  <dc:creator>Stephanie Collins</dc:creator>
  <dc:description/>
  <dc:language>en-US</dc:language>
  <cp:lastModifiedBy>Stephanie Collins</cp:lastModifiedBy>
  <dcterms:modified xsi:type="dcterms:W3CDTF">2009-10-04T23:22:12Z</dcterms:modified>
  <cp:revision>9</cp:revision>
  <dc:subject/>
  <dc:title>Medieval Religion</dc:title>
</cp:coreProperties>
</file>