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292-90EC-466D-9BF1-2CB82F98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EFF-8B80-4447-A0DA-855D59B3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CC8-7558-4E8D-B56E-9D464EC2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FFE-C6A2-48CB-BD7B-5BB19F69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904-3A4E-4141-8428-916D76A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B0E-0196-47C5-9CDF-F6528D72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763-52B3-4EFB-9853-CF2EFC3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0BE-3FBE-465F-8207-CE69A2A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614-4A6E-4B10-828E-FD3B9E6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B8F-A04D-43E5-95D1-50814BD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791-67C6-4365-A598-6C83608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9A1-1FFA-444A-AB95-3BC95BD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1175-04F7-41DF-9805-8988F6AA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phan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ors to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Luther was a reformer and a key contributor to the movement of Protestantism. He also led to the new religious group called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ligion of medieval England was Christian monasticism. This was founded by Anthony of the Desert and his disciple Pachom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ors to Medieval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 was a great contributor to the church and to theology. He asked questions like “Why God was reincarnated?” And found the answer that only a man could repay a man’s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’s contribution to theology was the ontological proof of God’s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an could become a monk. First, they must take their vows before being accepted into th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became a monk, you remained one for the rest of your life. The monks would live under strict discip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reasons for becoming a monk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devote your life to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ive a saf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escape the violenc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ead a quiet and peace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nk or nun took their final vows, they were clothed by the order they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Benedictine monks were black giving them the name “black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Cistercian monks were white giving them the name “white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uns, it was the wimple that made them distinct. The men were distinguished by their to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s either completely shaved their heads or cut their hair very short. Either way their head would be covered by the w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 cut of both nuns and monks symbolized them putting aside their old lives and joining a new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nsure might also indicate the clerical status of a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type of ton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4724280"/>
            <a:ext cx="33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n’s w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62720" y="533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in Medieval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iritual quests of the middle ages influenced the culture of the medieval times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Catholic and Protestant were the two major religions in medieva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idea of the Roman Catholic religion was that they remain apost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idea of the church was that Peter was the first pope picked by Jesus himself. All the popes chosen after Peter were considered his succ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ecided that the New Testament was God’s holy word and the Holy Spirit worked through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believed that the people couldn’t fully understand the scripture without the church’s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you could go to three different places for your after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urgatory – a place for the people who did half the requirements to get into heaven. It was a sentence of torture. The sentence varied depending on the pope’s choice to use the office of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testant movement was led by Martin Luther who disagreed with certain Roman Catholic practices. Hence, they became known as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gan as a series of independent religious movements. At first, most who followed were those who rejected Catholicism and the excommun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believe in the trinity and that there is only one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differences from the catholic religio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only need faith in God to be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all gracious and his grace comes from Jesus dying on the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not save themselves; they are saved by God’s g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ble is the only document of thei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go to either heaven or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n’s Influence on Dai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n medieval England had a huge impact on everyday life. Religion had a far greater role in life than it doe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everyone’s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taught that the only way to get to heaven was if the Roman Catholic Church le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had complete power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s would work for free on church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had to pay yearly tithe’s or else you were told your soul would go to 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as very wealthy and you had to pay i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rri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which you would be sent to hell for with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did not have to pa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9:58Z</dcterms:created>
  <dc:creator>Stephanie Collins</dc:creator>
  <dc:description/>
  <dc:language>en-US</dc:language>
  <cp:lastModifiedBy>Stephanie Collins</cp:lastModifiedBy>
  <dcterms:modified xsi:type="dcterms:W3CDTF">2009-10-04T23:22:12Z</dcterms:modified>
  <cp:revision>9</cp:revision>
  <dc:subject/>
  <dc:title>Medieval Religion</dc:title>
</cp:coreProperties>
</file>