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BD8-DE01-46E6-A668-E4E9F71B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4826-10E0-4773-81DD-E21B2739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45A-CB40-44E6-ABB3-A99BD704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E36-36B1-4311-870B-6B256887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7B0-4A80-4250-AAAD-7E4CFC96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620-C158-4119-8930-20BFFD63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0F2-D147-45D0-855E-390FCC0A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74B-4A9B-4BF5-B9ED-99DF1768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4A4-D2B0-4D2E-BEBF-BEE747C8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949-A0E1-49A3-9079-D971103C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91F-B04E-452C-ABBB-FEAB6242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AB6-9D05-43BC-A8E8-C1348FDC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516B-D129-40AC-B4D4-ED75F6DF2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tephanie Coll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ors to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n Luther was a reformer and a key contributor to the movement of Protestantism. He also led to the new religious group called the Luther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religion of medieval England was Christian monasticism. This was founded by Anthony of the Desert and his disciple Pachom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ibutors to Medieval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lem was a great contributor to the church and to theology. He asked questions like “Why God was reincarnated?” And found the answer that only a man could repay a man’s de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lem’s contribution to theology was the ontological proof of God’s 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man could become a monk. First, they must take their vows before being accepted into th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became a monk, you remained one for the rest of your life. The monks would live under strict discip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reasons for becoming a monk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devote your life to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live a safe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escape the violence of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lead a quiet and peacefu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mples and Ton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onk or nun took their final vows, they were clothed by the order they jo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robes of the Benedictine monks were black giving them the name “black mon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robes of the Cistercian monks were white giving them the name “white mon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uns, it was the wimple that made them distinct. The men were distinguished by their ton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mples and Ton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ns either completely shaved their heads or cut their hair very short. Either way their head would be covered by the wi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ir cut of both nuns and monks symbolized them putting aside their old lives and joining a new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nsure might also indicate the clerical status of a mo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160" y="4648320"/>
            <a:ext cx="33526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type of ton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4191120" cy="388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4120" y="4724280"/>
            <a:ext cx="3352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n’s w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562720" y="53352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 in Medieval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iritual quests of the middle ages influenced the culture of the medieval times in many w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 Catholic and Protestant were the two major religions in medieval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Catho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idea of the Roman Catholic religion was that they remain aposto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idea of the church was that Peter was the first pope picked by Jesus himself. All the popes chosen after Peter were considered his success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Catho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decided that the New Testament was God’s holy word and the Holy Spirit worked through the chu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believed that the people couldn’t fully understand the scripture without the church’s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Catho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d you could go to three different places for your after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Hea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Purgatory – a place for the people who did half the requirements to get into heaven. It was a sentence of torture. The sentence varied depending on the pope’s choice to use the office of ke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protestant movement was led by Martin Luther who disagreed with certain Roman Catholic practices. Hence, they became known as the Luther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began as a series of independent religious movements. At first, most who followed were those who rejected Catholicism and the excommun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s believe in the trinity and that there is only one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differences from the catholic religion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only need faith in God to be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 is all gracious and his grace comes from Jesus dying on the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cannot save themselves; they are saved by God’s gr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ble is the only document of their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only go to either heaven or 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igion’s Influence on Daily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 in medieval England had a huge impact on everyday life. Religion had a far greater role in life than it doe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dominated everyone’s l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taught that the only way to get to heaven was if the Roman Catholic Church le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urch had complete power over every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sants would work for free on church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had to pay yearly tithe’s or else you were told your soul would go to 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urch was very wealthy and you had to pay i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apt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rri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u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l of which you would be sent to hell for with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urch did not have to pay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0:59:58Z</dcterms:created>
  <dc:creator>Stephanie Collins</dc:creator>
  <dc:description/>
  <dc:language>en-US</dc:language>
  <cp:lastModifiedBy>Stephanie Collins</cp:lastModifiedBy>
  <dcterms:modified xsi:type="dcterms:W3CDTF">2009-10-04T23:22:12Z</dcterms:modified>
  <cp:revision>9</cp:revision>
  <dc:subject/>
  <dc:title>Medieval Religion</dc:title>
</cp:coreProperties>
</file>