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CAF-1F15-41B2-B2CD-7268590A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91C-9684-4CA7-9591-3CAC0249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017-545A-4A86-B52F-FB09C523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C4F-2E7B-4380-8F46-78162EB9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C46-316F-4B31-969A-F6F2464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DDF-C0D1-4818-A8C6-2E8921FB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3E2-5B6D-4606-B6AC-739F0CA5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87F-A7E0-41CA-807D-9E7C386F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851-CD21-4C37-BC18-2890FAEB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E20-A2E7-46C6-A5AC-527E012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499-6FB4-441E-BB87-AA22F0A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4D4-1562-4574-97A9-67E9319A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985F-277C-4957-AA37-0F8FD1B59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tephanie Col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ors to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n Luther was a reformer and a key contributor to the movement of Protestantism. He also led to the new religious group called the Luther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religion of medieval England was Christian monasticism. This was founded by Anthony of the Desert and his disciple Pachom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ors to Medieval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lem was a great contributor to the church and to theology. He asked questions like “Why God was reincarnated?” And found the answer that only a man could repay a man’s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lem’s contribution to theology was the ontological proof of God’s 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an could become a monk. First, they must take their vows before being accepted into th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became a monk, you remained one for the rest of your life. The monks would live under strict discip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reasons for becoming a monk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devote your life to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live a saf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escape the violence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lead a quiet and peacefu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mples and Ton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onk or nun took their final vows, they were clothed by the order they jo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obes of the Benedictine monks were black giving them the name “black mo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obes of the Cistercian monks were white giving them the name “white mon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uns, it was the wimple that made them distinct. The men were distinguished by their ton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mples and Ton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s either completely shaved their heads or cut their hair very short. Either way their head would be covered by the w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ir cut of both nuns and monks symbolized them putting aside their old lives and joining a new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nsure might also indicate the clerical status of a mo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160" y="4648320"/>
            <a:ext cx="33526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type of ton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19112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4120" y="4724280"/>
            <a:ext cx="335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n’s w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562720" y="5335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 in Medieval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iritual quests of the middle ages influenced the culture of the medieval times in many 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 Catholic and Protestant were the two major religions in medieval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idea of the Roman Catholic religion was that they remain aposto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idea of the church was that Peter was the first pope picked by Jesus himself. All the popes chosen after Peter were considered his succes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ecided that the New Testament was God’s holy word and the Holy Spirit worked through the chu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believed that the people couldn’t fully understand the scripture without the church’s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you could go to three different places for your after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Purgatory – a place for the people who did half the requirements to get into heaven. It was a sentence of torture. The sentence varied depending on the pope’s choice to use the office of 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protestant movement was led by Martin Luther who disagreed with certain Roman Catholic practices. Hence, they became known as the Luther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egan as a series of independent religious movements. At first, most who followed were those who rejected Catholicism and the excommun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s believe in the trinity and that there is only one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differences from the catholic religion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only need faith in God to be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is all gracious and his grace comes from Jesus dying on the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not save themselves; they are saved by God’s gr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ble is the only document of their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only go to either heaven or 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gion’s Influence on Daily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in medieval England had a huge impact on everyday life. Religion had a far greater role in life than it doe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ominated everyone’s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taught that the only way to get to heaven was if the Roman Catholic Church le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had complete power over every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s would work for free on church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had to pay yearly tithe’s or else you were told your soul would go to 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was very wealthy and you had to pay i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pt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rri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u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 of which you would be sent to hell for with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did not have to pa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0:59:58Z</dcterms:created>
  <dc:creator>Stephanie Collins</dc:creator>
  <dc:description/>
  <dc:language>en-US</dc:language>
  <cp:lastModifiedBy>Stephanie Collins</cp:lastModifiedBy>
  <dcterms:modified xsi:type="dcterms:W3CDTF">2009-10-04T23:22:12Z</dcterms:modified>
  <cp:revision>9</cp:revision>
  <dc:subject/>
  <dc:title>Medieval Religion</dc:title>
</cp:coreProperties>
</file>