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F00-7007-4D0B-852D-73A3C731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6D2-3EFB-4E96-8027-554E92B9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D88-2326-4163-8DF0-76919099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D1-9001-4C57-B329-9D55A61F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643-6E69-4D3B-9559-B05E6C08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397-C031-4790-94B7-916CA79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20D7-8299-4932-94ED-3EE76F18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31C6-0511-4BD4-8B24-D1D6268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7FF-133A-4576-A214-216E295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6C0-23DE-4414-A559-112AF672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4985-E113-4D9B-8AAB-7ED036A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B01-9907-4B2B-B0CD-5A68A369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1F3-E6DD-421C-8297-581D27F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B8A-7063-4A31-AAA2-7819B80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4A1-9A9D-420F-8346-BA39FA3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211-2A52-414F-879F-7FDAFAED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D321-212E-415B-975F-086693C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52D-8777-40F6-AE55-2104B8A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20A-4FBF-4D0F-88ED-19F19B66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BE9-BD6A-4FC0-B44B-0B8D019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68E-F7F6-40DC-8B41-B2DC7FB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9D2-1B74-49C6-B81D-A4F0089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BE1-DA33-4A3E-91FB-30FA90F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AEC-9436-476B-AEA9-2D2FB88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57EE-9A46-441F-A756-F8F4FD23D7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7C16-C156-46A5-BC5A-645D0AB38D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10-21T02:07:04Z</dcterms:modified>
  <cp:revision>12</cp:revision>
  <dc:subject/>
  <dc:title>Medieval Weapons and Warfare</dc:title>
</cp:coreProperties>
</file>