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7B94-7EC2-411C-97F2-DBEA1C502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8A5D-9700-4E02-A014-D794D242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3563-284D-47C0-93D6-DC0CB0EEC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800A-41E1-4CB6-A70C-FDF12660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1160-8CC0-4ABE-916C-8442B5C00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5406-6503-452F-8F3F-25B0BA07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26FD-669B-4973-8B55-508763B7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5332-5B50-4D5F-B6D5-38613BF1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21FF-A86C-468D-8CD0-E340FFB1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7207-6A07-45E6-916E-9DCF66AC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0926-F886-479A-8044-7E74C278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A3F3-E56A-4D5C-B587-548E145A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909E-9697-4DB8-9441-53269685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2CF2-A9DC-4C85-A769-255B1FE0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A24D-20D3-4097-A5C7-93023614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3959-4A7E-428C-8618-6EDB164EF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7735-67FE-4657-93A7-DDDE5009F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4225-7E79-4A32-85D0-847889F4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6834-CDD9-48F3-BF06-A2023773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738F-908B-4B45-8483-EAE71DF6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3826-80FA-4F02-8F94-DA7A158D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4285-DCA2-4781-9D62-B360AA2A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839F-E618-4543-B778-CC33022E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E1C8-A679-4062-87A4-812A97E4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A550-8433-40BD-92AE-382B69DA6A6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B43F-F265-427B-8D5A-C449C2961C4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Evolution of Medieval Weapon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ew Hay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rossbo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apon consisting of a bow mounted on a stock that shoots projectiles, often called bolts. The medieval crossbow was called by many names, most of which derived from the word ballist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s weapon was used by almost every army or empi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crossbow gave a great advantage to whomever used it because you could shoot it from far range and it was easy to relo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rossbow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3505320" cy="3505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505320" y="2324160"/>
            <a:ext cx="3276360" cy="2874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334200" y="1143000"/>
            <a:ext cx="2809800" cy="18684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ongbo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ngbow is a type of bow that is tall (roughly equal to the height of a person who uses it) this will allow its user a fairly long draw, at least to the jaw. A longbow is not significantly recurved. Its limbs are relatively narrow so that they are circular or D-shaped in cross section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cause the longbow can be made from a single piece of wood, it can be crafted relatively easily and quickl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ngbows were more deadly than any other bow because they had further range, could reload faster, and were quie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s weapon was the most significant development during the 1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centu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ongbow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200400" y="2057400"/>
            <a:ext cx="2936880" cy="3533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095880" y="129528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Siege Weapon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rebuche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trebuchet is a siege engine somewhat like a catapult that was employed in the Middle Ages either to smash giant walls or to throw projectiles over th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Trebuche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ppeared in both Christian and Muslim lands around the Mediterranean in the twelfth centur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t could fling up to three-hundred and fifty pound projectiles at high speeds into enemy fortificatio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 occasion, disease-infected corpses were flung into cities in an attempt to infect or terrorize the people under sieg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rebuchet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3581280"/>
            <a:ext cx="2668680" cy="3276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666880" y="2557440"/>
            <a:ext cx="3505320" cy="2836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019920" y="1371600"/>
            <a:ext cx="2779560" cy="3314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ngon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mangonel was a type of catapult or siege machine used in the medieval period to throw projectiles at a castle's walls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t consisted of a heavy frame which supported a long arm with a cup at the free e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ngonels shot heavy projectiles from a bowl-shaped bucket at the end of the arm. The bucket could launch more rocks than a sling which gave it an advantag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mangonel's principal role in battle, particularly medieval battle, was to knock down a castle or city's walls and infrastructure, not to kill/demoralize troops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ngonel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394344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124080" y="2438280"/>
            <a:ext cx="3429000" cy="2511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791320" y="1328760"/>
            <a:ext cx="3352680" cy="2421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llist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llista was a siege engine in the form of a large bow which shot heavy arrows or st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range was about 400 yards throwing a stone of 60 pound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ts power was derived from twisted ropes called skei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early Roman ballista were made of wood, and held together with iron plates around the frames and iron nails in the stand. The main stand had a slider on the top, into which were loaded the bolts or ston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portance of Weap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uring medieval times empires and tribes were constantly at war with one ano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chnology was very limi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 new weapons that could be acquired would be considered a huge advant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 time more complex and deadly weapons were develop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llista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4052880"/>
            <a:ext cx="3962520" cy="2805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124080" y="259092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6324480" y="1371600"/>
            <a:ext cx="2536920" cy="3000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reek Fi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was a volatile combination of petroleum, oil, and other natural produ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generated a highly flammable substance that burned on water and was excruciatingly h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ldiers would turn to this as the enemy advanced closer and were trying to break down wa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substance was used to create incendiary arrows but could also be blown through tubes at close rang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reek Fire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2927520" cy="32004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895480" y="2270160"/>
            <a:ext cx="3581640" cy="3058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3124080" cy="2506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ttering Ra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battering ram has a sharp end , and the objective of it was to break away stones so that infantry could breach a castle or an empi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ts primary use was against large doors because they were easier to breach than stone wal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a more sophisticated design, a battering ram was slung from a wheeled support frame by ropes or chains so that it could be much more massive and also more easily swung against its target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me battering rams were not slung from ropes or chains, but were instead supported by rollers. This allowed the ram to achieve a greater speed before striking its target and was therefore more destructiv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ttering Ram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4013280"/>
            <a:ext cx="3200400" cy="2844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200400" y="2739960"/>
            <a:ext cx="3124080" cy="2792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248520" y="1447920"/>
            <a:ext cx="289548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of these weapons seen in this presentation were used all over the world. They all were a vital part of an empire’s victory against it’s enemy. Eventually though, a new age appeared as gunpowder was created in the 1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entury, which took war to a whole new leve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ibliograph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. Sheppard, Shirley Jean. "The Medieval World Series: The Life of a Knight; Life in a Castle; Medieval Society; Places of Worship in the Middle Ages; Women and Girls in the Middle Ages; Medieval Warfare.(Non-Fiction: Preschool--Grade 6)(Brief Article)(Children's Review)(Book Review)."  Resource Links. 9. 3 (Feb 2004): 25(2). Student Resource Center - Gold. Gale. Greater Atlanta Christian School. 27 Sep. 2009 &lt;http://find.galegroup.com/srcx/infomark.do?&amp;contentSet=IAC-Documents&amp;type=retrieve&amp;tabID=T003&amp;prodId=SRC-1&amp;docId=A114703937&amp;source=gale&amp;srcprod=SRCG&amp;userGroupName=norc72195&amp;version=1.0&gt;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 Blademaster, Steve. "Medieval weapons and Tactics of the Knights." </a:t>
            </a:r>
            <a:r>
              <a:rPr b="1" i="1" lang="en" sz="1200" spc="-1" strike="noStrike">
                <a:solidFill>
                  <a:srgbClr val="ffffff"/>
                </a:solidFill>
                <a:latin typeface="Tahoma"/>
              </a:rPr>
              <a:t>Www.buzzle.com</a:t>
            </a: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. Steve Bladematser, 7 May 2008. Web. 27 Sept. 2009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3. Hull, Lise. "Medieval Weaponry." </a:t>
            </a:r>
            <a:r>
              <a:rPr b="1" i="1" lang="en" sz="1200" spc="-1" strike="noStrike">
                <a:solidFill>
                  <a:srgbClr val="ffffff"/>
                </a:solidFill>
                <a:latin typeface="Tahoma"/>
              </a:rPr>
              <a:t>Www.castles-of-britian.com</a:t>
            </a: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. Lise Hull, 23 June 2008. Web. 27 Sept. 2009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4. Chrisp, Peter. </a:t>
            </a:r>
            <a:r>
              <a:rPr b="1" i="1" lang="en" sz="1200" spc="-1" strike="noStrike">
                <a:solidFill>
                  <a:srgbClr val="ffffff"/>
                </a:solidFill>
                <a:latin typeface="Tahoma"/>
              </a:rPr>
              <a:t>Medieval Realms: Warfare</a:t>
            </a: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. Farmington Hills,Minnesota: Hodder Wayland, 2004. Pri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5. Grant, R.G. </a:t>
            </a:r>
            <a:r>
              <a:rPr b="1" i="1" lang="en" sz="1200" spc="-1" strike="noStrike">
                <a:solidFill>
                  <a:srgbClr val="ffffff"/>
                </a:solidFill>
                <a:latin typeface="Tahoma"/>
              </a:rPr>
              <a:t>Warrior: A Visual History of the Fighting Man</a:t>
            </a: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. New York City: Jonathan Metcalf, 2007. Pri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Additional Sour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ffffff"/>
                </a:solidFill>
                <a:latin typeface="Tahoma"/>
              </a:rPr>
              <a:t>"Medieval Weapons." </a:t>
            </a:r>
            <a:r>
              <a:rPr b="0" i="1" lang="en" sz="1200" spc="-1" strike="noStrike">
                <a:solidFill>
                  <a:srgbClr val="ffffff"/>
                </a:solidFill>
                <a:latin typeface="Tahoma"/>
              </a:rPr>
              <a:t>Www.wikipedia.com</a:t>
            </a:r>
            <a:r>
              <a:rPr b="0" lang="en" sz="1200" spc="-1" strike="noStrike">
                <a:solidFill>
                  <a:srgbClr val="ffffff"/>
                </a:solidFill>
                <a:latin typeface="Tahoma"/>
              </a:rPr>
              <a:t>. Ed. Various. Www.wikipedia.org. Web. 27 Sept. 2009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eapons Prior to Medieval Tim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ly stone and wood were used to craft weap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materials were difficult to produce and unreliable on the battlefi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roduction of Metal Weap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use of metal dramatically changed the number and type of weapons availab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weapons were more reliable, accurate, and deadly than prior weap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Knight’s Weapon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wor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edieval swords were the primary weapons of the Knight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edieval swords changed as Medieval Warfare and armor chang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t the beginning of the Middle Ages a double edged slashing sword was used but as time went by it evolved into a stronger, diamond-shaped sword that could thrust between the rings of chain mail more easil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13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century saw modification of swords, which could pierce a knight’s armo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names of the different Medieval swords included the Broadsword, Falchion sword, Longsword, Scimitar, and Greatswor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words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403848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819520" y="2003400"/>
            <a:ext cx="3124080" cy="3111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943600" y="1219320"/>
            <a:ext cx="3200400" cy="3009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ttle Ax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attle Axes were weapons that were designed as single and double-handed battle ax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y were used as a close contact weapon in the early Medieval period of the Middle Ages and could apply tremendous blows but could also be hurled as a projecti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xes designed in warfare ranged from 1 to 6 pounds and was at a length of up to 30 c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attle axes were an improvement from splitting axes due to the fact that battle axes were meant to cut through limbs and create devastating blows rather than cut woo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ttle Axes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3527280" cy="3733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505320" y="2209680"/>
            <a:ext cx="2851200" cy="3171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324480" y="1295280"/>
            <a:ext cx="2849760" cy="3581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22:08:46Z</dcterms:created>
  <dc:creator>greg</dc:creator>
  <dc:description/>
  <dc:language>en-US</dc:language>
  <cp:lastModifiedBy>greg</cp:lastModifiedBy>
  <dcterms:modified xsi:type="dcterms:W3CDTF">2009-10-21T02:07:04Z</dcterms:modified>
  <cp:revision>12</cp:revision>
  <dc:subject/>
  <dc:title>Medieval Weapons and Warfare</dc:title>
</cp:coreProperties>
</file>