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7A4-371A-44F2-BB98-81B1947F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FB0-CD8B-48BF-A000-4CBD5001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E02-EEF4-4856-9A9F-CCAF7E60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95D-E2E2-4F6A-872C-931FE641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EC07-49C2-4551-827B-28FDEF5E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1E4D-5F93-4E20-B94A-6389806C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0E75-773C-4964-906F-92D9E7CA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7C50-1ADD-4956-A447-04A4C7A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C17D-D2F7-4754-8DD9-0CAA205B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E748-1470-40E8-9533-8CDD7FB8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8B62-C0E2-4CD4-BAF9-385F0FED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FD1-0E3B-4A52-A412-95AB084E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C5E6-7734-48B0-902B-B4A01F7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7CEB-F438-4E94-A25F-F5C1B2F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6BC4-74F0-4847-B0FF-0F515E1A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CF94-97C5-4B89-9020-4F45957E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11F-1DD0-4FF5-B6D3-95D90445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BA6-E576-4049-BDC0-AEF17146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036-A4E8-45DB-9515-7A0E8473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2EE-1FA6-44EF-A8DC-B27DA601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653-7A97-438D-B2C5-61EB6732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47F-B70B-4371-98A9-EFAE0DFC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617-EA46-4118-8AB1-1E3BE1C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956-2E28-438C-AFFD-C59BEEC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3D4D-597D-4E51-A735-07E05C2F62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5D04-1416-471D-B3B3-9F2D44CC68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volution of Medieval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 Ha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 consisting of a bow mounted on a stock that shoots projectiles, often called bolts. The medieval crossbow was called by many names, most of which derived from the word bal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weapon was used by almost every army or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rossbow gave a great advantage to whomever used it because you could shoot it from far range and it was easy to re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2324160"/>
            <a:ext cx="3276360" cy="28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34200" y="1143000"/>
            <a:ext cx="28098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gbow is a type of bow that is tall (roughly equal to the height of a person who uses it) this will allow its user a fairly long draw, at least to the jaw. A longbow is not significantly recurved. Its limbs are relatively narrow so that they are circular or D-shaped in cross sectio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use the longbow can be made from a single piece of wood, it can be crafted relatively easily and quick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bows were more deadly than any other bow because they had further range, could reload faster, and were qui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weapon was the most significant development during the 1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36880" cy="3533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iege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ebuchet is a siege engine somewhat like a catapult that was employed in the Middle Ages either to smash giant walls or to throw projectiles over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rebuch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ed in both Christian and Muslim lands around the Mediterranean in the twelfth centu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uld fling up to three-hundred and fifty pound projectiles at high speeds into enemy fortif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 occasion, disease-infected corpses were flung into cities in an attempt to infect or terrorize the people under sie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266868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66880" y="2557440"/>
            <a:ext cx="35053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7795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angonel was a type of catapult or siege machine used in the medieval period to throw projectiles at a castle's wa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sisted of a heavy frame which supported a long arm with a cup at the free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gonels shot heavy projectiles from a bowl-shaped bucket at the end of the arm. The bucket could launch more rocks than a sling which gave it an advantag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ngonel's principal role in battle, particularly medieval battle, was to knock down a castle or city's walls and infrastructure, not to kill/demoralize troop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42900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1320" y="1328760"/>
            <a:ext cx="335268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llista was a siege engine in the form of a large bow which shot heavy arrows or s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ange was about 400 yards throwing a stone of 60 pou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s power was derived from twisted ropes called sk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ly Roman ballista were made of wood, and held together with iron plates around the frames and iron nails in the stand. The main stand had a slider on the top, into which were loaded the bolts or st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medieval times empires and tribes were constantly at wa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was very lim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new weapons that could be acquired would be considered a huge adva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ime more complex and deadly weapons were develo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0528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25369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a volatile combination of petroleum, oil, and other natural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generated a highly flammable substance that burned on water and was excruciatingly h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iers would turn to this as the enemy advanced closer and were trying to break dow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ubstance was used to create incendiary arrows but could also be blown through tubes at close ran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275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95480" y="2270160"/>
            <a:ext cx="3581640" cy="30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312408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battering ram has a sharp end , and the objective of it was to break away stones so that infantry could breach a castle or an emp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primary use was against large doors because they were easier to breach than stone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 more sophisticated design, a battering ram was slung from a wheeled support frame by ropes or chains so that it could be much more massive and also more easily swung against its targe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battering rams were not slung from ropes or chains, but were instead supported by rollers. This allowed the ram to achieve a greater speed before striking its target and was therefore more destru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01328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00400" y="2739960"/>
            <a:ext cx="312408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se weapons seen in this presentation were used all over the world. They all were a vital part of an empire’s victory against it’s enemy. Eventually though, a new age appeared as gunpowder was creat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, which took war to a whole new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Sheppard, Shirley Jean. "The Medieval World Series: The Life of a Knight; Life in a Castle; Medieval Society; Places of Worship in the Middle Ages; Women and Girls in the Middle Ages; Medieval Warfare.(Non-Fiction: Preschool--Grade 6)(Brief Article)(Children's Review)(Book Review)."  Resource Links. 9. 3 (Feb 2004): 25(2). Student Resource Center - Gold. Gale. Greater Atlanta Christian School. 27 Sep. 2009 &lt;http://find.galegroup.com/srcx/infomark.do?&amp;contentSet=IAC-Documents&amp;type=retrieve&amp;tabID=T003&amp;prodId=SRC-1&amp;docId=A114703937&amp;source=gale&amp;srcprod=SRCG&amp;userGroupName=norc72195&amp;version=1.0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 Blademaster, Steve. "Medieval weapons and Tactics of the Knights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buzzle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Steve Bladematser, 7 May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3. Hull, Lise. "Medieval Weaponry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castles-of-britian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Lise Hull, 23 June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4. Chrisp, Peter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Medieval Realms: Warfare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Farmington Hills,Minnesota: Hodder Wayland, 2004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5. Grant, R.G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arrior: A Visual History of the Fighting Man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New York City: Jonathan Metcalf, 2007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Additional 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"Medieval Weapons." </a:t>
            </a:r>
            <a:r>
              <a:rPr b="0" i="1" lang="en" sz="1200" spc="-1" strike="noStrike">
                <a:solidFill>
                  <a:srgbClr val="ffffff"/>
                </a:solidFill>
                <a:latin typeface="Tahoma"/>
              </a:rPr>
              <a:t>Www.wikipedia.com</a:t>
            </a: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. Ed. Various. Www.wikipedia.org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apons Prior to Medieval Ti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 stone and wood were used to craft weap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aterials were difficult to produce and unreliable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 of Metal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metal dramatically changed the number and type of weapons avail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apons were more reliable, accurate, and deadly than prior weap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night’s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were the primary weapons of the Knigh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changed as Medieval Warfare and armor chang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beginning of the Middle Ages a double edged slashing sword was used but as time went by it evolved into a stronger, diamond-shaped sword that could thrust between the rings of chain mail more eas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1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ntury saw modification of swords, which could pierce a knight’s arm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names of the different Medieval swords included the Broadsword, Falchion sword, Longsword, Scimitar, and Greatsw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2003400"/>
            <a:ext cx="3124080" cy="31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32004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weapons that were designed as single and double-handed battle ax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were used as a close contact weapon in the early Medieval period of the Middle Ages and could apply tremendous blows but could also be hurled as a project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es designed in warfare ranged from 1 to 6 pounds and was at a length of up to 30 c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an improvement from splitting axes due to the fact that battle axes were meant to cut through limbs and create devastating blows rather than cut w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5272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2851200" cy="317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84976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2:08:46Z</dcterms:created>
  <dc:creator>greg</dc:creator>
  <dc:description/>
  <dc:language>en-US</dc:language>
  <cp:lastModifiedBy>greg</cp:lastModifiedBy>
  <dcterms:modified xsi:type="dcterms:W3CDTF">2009-10-21T02:07:04Z</dcterms:modified>
  <cp:revision>12</cp:revision>
  <dc:subject/>
  <dc:title>Medieval Weapons and Warfare</dc:title>
</cp:coreProperties>
</file>