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BC3C-A972-4B73-99A6-2DA87EB0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BED8-C964-4032-8D4E-F4EF2911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573-06C8-4366-A9AB-79F34F4D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4B11-7099-4902-9349-145D76A3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510F-FCC9-4A66-981D-9BD5738B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5DA6-E61C-4B31-A6CE-37C81B56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8543-9840-4689-A486-4727590F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5591-E313-472C-A397-365E4F50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8641-71A6-4834-B52B-9BBD29B0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0F46-CC78-44AA-9BC1-85167804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8BCC-2EFF-4715-9D36-61BAB140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31C2-01ED-4965-88EA-EC6CBED0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29B1-550D-4256-B233-81CBC536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E65E-38E3-429D-A99C-52283E3A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2F4F-5163-4295-AA89-B1E941F5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B5FD-57A8-41ED-9D06-BD7881E5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21F7-EA4F-4328-ABAA-C93D24B4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F1C4-860D-4FD9-B221-CA91E85E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0DDE-0134-420D-93AF-24547132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8796-129B-4410-9C14-4BE58983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44A7-E1AD-4BDE-8CEC-DCC6F668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27E-D155-4819-AE44-2B958A80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65E-2BED-49AB-8C8D-4AA492EE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B88-E531-4A22-B9C2-77217FA0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D0E8-6A93-4015-BC19-D4072E65C4F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8D42-FBCD-475F-848F-38B424462D8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Evolution of Medieval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ew Hay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ossb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apon consisting of a bow mounted on a stock that shoots projectiles, often called bolts. The medieval crossbow was called by many names, most of which derived from the word bal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weapon was used by almost every army or empi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crossbow gave a great advantage to whomever used it because you could shoot it from far range and it was easy to relo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ossbow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05320" y="2324160"/>
            <a:ext cx="3276360" cy="2874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334200" y="1143000"/>
            <a:ext cx="2809800" cy="18684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ngb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gbow is a type of bow that is tall (roughly equal to the height of a person who uses it) this will allow its user a fairly long draw, at least to the jaw. A longbow is not significantly recurved. Its limbs are relatively narrow so that they are circular or D-shaped in cross sectio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cause the longbow can be made from a single piece of wood, it can be crafted relatively easily and quickl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bows were more deadly than any other bow because they had further range, could reload faster, and were qui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weapon was the most significant development during the 1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entu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ngbow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00400" y="2057400"/>
            <a:ext cx="2936880" cy="3533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95880" y="12952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iege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ebuche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trebuchet is a siege engine somewhat like a catapult that was employed in the Middle Ages either to smash giant walls or to throw projectiles over th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Trebuch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eared in both Christian and Muslim lands around the Mediterranean in the twelfth centur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could fling up to three-hundred and fifty pound projectiles at high speeds into enemy fortificati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 occasion, disease-infected corpses were flung into cities in an attempt to infect or terrorize the people under sie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ebuchet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2668680" cy="3276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666880" y="2557440"/>
            <a:ext cx="3505320" cy="2836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019920" y="1371600"/>
            <a:ext cx="277956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gon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mangonel was a type of catapult or siege machine used in the medieval period to throw projectiles at a castle's wall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consisted of a heavy frame which supported a long arm with a cup at the free 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gonels shot heavy projectiles from a bowl-shaped bucket at the end of the arm. The bucket could launch more rocks than a sling which gave it an advantag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mangonel's principal role in battle, particularly medieval battle, was to knock down a castle or city's walls and infrastructure, not to kill/demoralize troop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gonel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394344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124080" y="2438280"/>
            <a:ext cx="3429000" cy="2511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791320" y="1328760"/>
            <a:ext cx="335268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llis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llista was a siege engine in the form of a large bow which shot heavy arrows or st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ange was about 400 yards throwing a stone of 60 pound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s power was derived from twisted ropes called ske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early Roman ballista were made of wood, and held together with iron plates around the frames and iron nails in the stand. The main stand had a slider on the top, into which were loaded the bolts or ston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ortance of Weap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ing medieval times empires and tribes were constantly at war with one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ology was very limi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new weapons that could be acquired would be considered a huge advan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time more complex and deadly weapons were develop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llista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4052880"/>
            <a:ext cx="3962520" cy="280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24080" y="25909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324480" y="1371600"/>
            <a:ext cx="253692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eek Fi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was a volatile combination of petroleum, oil, and other natural produ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generated a highly flammable substance that burned on water and was excruciatingly h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diers would turn to this as the enemy advanced closer and were trying to break down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substance was used to create incendiary arrows but could also be blown through tubes at close rang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eek Fire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927520" cy="3200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895480" y="2270160"/>
            <a:ext cx="3581640" cy="3058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3124080" cy="2506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ering Ra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battering ram has a sharp end , and the objective of it was to break away stones so that infantry could breach a castle or an emp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s primary use was against large doors because they were easier to breach than stone wal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 more sophisticated design, a battering ram was slung from a wheeled support frame by ropes or chains so that it could be much more massive and also more easily swung against its targe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battering rams were not slung from ropes or chains, but were instead supported by rollers. This allowed the ram to achieve a greater speed before striking its target and was therefore more destru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ering Ram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4013280"/>
            <a:ext cx="3200400" cy="2844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00400" y="2739960"/>
            <a:ext cx="3124080" cy="2792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248520" y="1447920"/>
            <a:ext cx="289548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f these weapons seen in this presentation were used all over the world. They all were a vital part of an empire’s victory against it’s enemy. Eventually though, a new age appeared as gunpowder was created in the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, which took war to a whole new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 Sheppard, Shirley Jean. "The Medieval World Series: The Life of a Knight; Life in a Castle; Medieval Society; Places of Worship in the Middle Ages; Women and Girls in the Middle Ages; Medieval Warfare.(Non-Fiction: Preschool--Grade 6)(Brief Article)(Children's Review)(Book Review)."  Resource Links. 9. 3 (Feb 2004): 25(2). Student Resource Center - Gold. Gale. Greater Atlanta Christian School. 27 Sep. 2009 &lt;http://find.galegroup.com/srcx/infomark.do?&amp;contentSet=IAC-Documents&amp;type=retrieve&amp;tabID=T003&amp;prodId=SRC-1&amp;docId=A114703937&amp;source=gale&amp;srcprod=SRCG&amp;userGroupName=norc72195&amp;version=1.0&gt;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 Blademaster, Steve. "Medieval weapons and Tactics of the Knights."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ww.buzzle.com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Steve Bladematser, 7 May 2008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3. Hull, Lise. "Medieval Weaponry."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ww.castles-of-britian.com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Lise Hull, 23 June 2008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4. Chrisp, Peter.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Medieval Realms: Warfare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Farmington Hills,Minnesota: Hodder Wayland, 2004. Pr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5. Grant, R.G.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arrior: A Visual History of the Fighting Man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New York City: Jonathan Metcalf, 2007. Pr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Additional Sour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ffffff"/>
                </a:solidFill>
                <a:latin typeface="Tahoma"/>
              </a:rPr>
              <a:t>"Medieval Weapons." </a:t>
            </a:r>
            <a:r>
              <a:rPr b="0" i="1" lang="en" sz="1200" spc="-1" strike="noStrike">
                <a:solidFill>
                  <a:srgbClr val="ffffff"/>
                </a:solidFill>
                <a:latin typeface="Tahoma"/>
              </a:rPr>
              <a:t>Www.wikipedia.com</a:t>
            </a:r>
            <a:r>
              <a:rPr b="0" lang="en" sz="1200" spc="-1" strike="noStrike">
                <a:solidFill>
                  <a:srgbClr val="ffffff"/>
                </a:solidFill>
                <a:latin typeface="Tahoma"/>
              </a:rPr>
              <a:t>. Ed. Various. Www.wikipedia.org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eapons Prior to Medieval Tim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ly stone and wood were used to craft weap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materials were difficult to produce and unreliable on the battlefi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 of Metal Weap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se of metal dramatically changed the number and type of weapons availab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weapons were more reliable, accurate, and deadly than prior weap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Knight’s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wor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dieval swords were the primary weapons of the Knigh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dieval swords changed as Medieval Warfare and armor chang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t the beginning of the Middle Ages a double edged slashing sword was used but as time went by it evolved into a stronger, diamond-shaped sword that could thrust between the rings of chain mail more easi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13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century saw modification of swords, which could pierce a knight’s armo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names of the different Medieval swords included the Broadsword, Falchion sword, Longsword, Scimitar, and Greatswor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words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819520" y="2003400"/>
            <a:ext cx="3124080" cy="311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943600" y="1219320"/>
            <a:ext cx="3200400" cy="3009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Ax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ttle Axes were weapons that were designed as single and double-handed battle ax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y were used as a close contact weapon in the early Medieval period of the Middle Ages and could apply tremendous blows but could also be hurled as a projecti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xes designed in warfare ranged from 1 to 6 pounds and was at a length of up to 30 c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ttle axes were an improvement from splitting axes due to the fact that battle axes were meant to cut through limbs and create devastating blows rather than cut wo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Axes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3527280" cy="3733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505320" y="2209680"/>
            <a:ext cx="2851200" cy="3171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24480" y="1295280"/>
            <a:ext cx="2849760" cy="3581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22:08:46Z</dcterms:created>
  <dc:creator>greg</dc:creator>
  <dc:description/>
  <dc:language>en-US</dc:language>
  <cp:lastModifiedBy>greg</cp:lastModifiedBy>
  <dcterms:modified xsi:type="dcterms:W3CDTF">2009-09-28T02:20:23Z</dcterms:modified>
  <cp:revision>12</cp:revision>
  <dc:subject/>
  <dc:title>Medieval Weapons and Warfare</dc:title>
</cp:coreProperties>
</file>