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385-1A5F-4000-8B6B-50132356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282-0F4F-4632-9456-C47EB957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940-4884-4348-B677-5A2A0A25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AF6-620A-4AED-B6AF-1061B61C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B507-EF57-4573-A3F7-64F88AE3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8945-75F8-41B0-AF25-3514CB9A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728-3E42-437D-A028-E804980E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F476-9A57-4ED7-936A-55B49422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DF78-9B33-4EB8-A9E7-241B0C5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4231-3E06-43C9-B696-4307BDC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25C6-EBEF-4AAD-B14B-F067578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673-B8AE-413B-909F-5D3A79C5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3021-BDF9-4C34-9923-23B3BE4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6E7-75AD-4FFA-A1F0-54E711A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9E2A-B3A0-4919-8037-42EF6AC4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CB9C-1CD5-4CFC-8EA8-71D9AE3E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9D1A-9824-4FA2-A99A-4AA17EB8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02E-23F2-4A85-B77B-E34B61EB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010-096C-49A3-9F19-2FCD985A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947-EEAF-48D4-A696-7222E63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888-BF0C-4DCE-AD64-6E59F647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ACA-5B6B-4034-AEB1-D29A8AE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0F4-C293-4A43-8DF5-2455D7E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B5B-6264-4828-99F7-70C22E7D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443-34FC-4D05-A04C-06C95CDD99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E20-4E05-4DB0-A93C-347006C9A8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09-28T02:20:23Z</dcterms:modified>
  <cp:revision>12</cp:revision>
  <dc:subject/>
  <dc:title>Medieval Weapons and Warfare</dc:title>
</cp:coreProperties>
</file>