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3A0E-4E81-4331-84C7-3E27A28C9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80F8-0D6B-4E40-9BB7-FC3319BFC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1592-A836-4524-AA5B-EF2AB2EF4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70BD-710F-42E4-9209-2B2FB4E6F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FBB9C-3E47-478C-BEB2-58E8E35B0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22C46-9BC3-4FA0-9591-870D7C936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A7239-2A45-4A47-BDAD-5DE65729D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A7EE0-520C-42D5-8B76-E914177FB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E4B51-E7A1-4CCE-829B-7D994D554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1E85D-EF95-41AB-BF16-3AE0D4B72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1CEB8-F9D2-44EE-AE73-65371404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5567-B302-4AD5-A0E7-4AB778AAC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5CEC8-4063-4FA3-BD97-9682A674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B4022-8955-41AC-BDEF-ED7F7566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CFA45-2B27-4724-BC7D-8D55B9A50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1FED1-A96A-4F7A-9020-ED1E80416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40723-D29E-4744-91C0-A76F65DBB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2D02-3AAF-4262-8270-351999E31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420E-EFE4-4B4D-A3B0-5E31B7A26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2F2B-0BD0-422F-A3DB-1EEE05253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553F-F3B0-4643-AA3D-842197805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8D2A-67A0-49E3-8FB5-5C571EC5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0271-3110-4B95-8AD6-DB8E2CAF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DB92-5648-4983-BE35-412E1971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AE283-90AC-406F-92D8-8ADE022E245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C7692-3752-47D9-A926-9E450006221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Evolution of Medieval Weapon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rew Hay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rossbow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eapon consisting of a bow mounted on a stock that shoots projectiles, often called bolts. The medieval crossbow was called by many names, most of which derived from the word ballist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s weapon was used by almost every army or empi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crossbow gave a great advantage to whomever used it because you could shoot it from far range and it was easy to relo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rossbow-Pictur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3505320" cy="35053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505320" y="2324160"/>
            <a:ext cx="3276360" cy="2874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6334200" y="1143000"/>
            <a:ext cx="2809800" cy="186840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ongbow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ngbow is a type of bow that is tall (roughly equal to the height of a person who uses it) this will allow its user a fairly long draw, at least to the jaw. A longbow is not significantly recurved. Its limbs are relatively narrow so that they are circular or D-shaped in cross section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cause the longbow can be made from a single piece of wood, it can be crafted relatively easily and quickl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ongbows were more deadly than any other bow because they had further range, could reload faster, and were quiet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is weapon was the most significant development during the 1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centur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mb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ongbow-Pictur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36576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200400" y="2057400"/>
            <a:ext cx="2936880" cy="35337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6095880" y="129528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Siege Weapon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mb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rebuche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trebuchet is a siege engine somewhat like a catapult that was employed in the Middle Ages either to smash giant walls or to throw projectiles over the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Trebuche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ppeared in both Christian and Muslim lands around the Mediterranean in the twelfth centur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t could fling up to three-hundred and fifty pound projectiles at high speeds into enemy fortification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n occasion, disease-infected corpses were flung into cities in an attempt to infect or terrorize the people under sieg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3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rebuchet-Pictur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3581280"/>
            <a:ext cx="2668680" cy="3276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666880" y="2557440"/>
            <a:ext cx="3505320" cy="28368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6019920" y="1371600"/>
            <a:ext cx="2779560" cy="33148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angone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mangonel was a type of catapult or siege machine used in the medieval period to throw projectiles at a castle's walls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t consisted of a heavy frame which supported a long arm with a cup at the free en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ngonels shot heavy projectiles from a bowl-shaped bucket at the end of the arm. The bucket could launch more rocks than a sling which gave it an advantag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mangonel's principal role in battle, particularly medieval battle, was to knock down a castle or city's walls and infrastructure, not to kill/demoralize troops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3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angonel-Pictur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394344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124080" y="2438280"/>
            <a:ext cx="3429000" cy="25117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791320" y="1328760"/>
            <a:ext cx="3352680" cy="2421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allist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ballista was a siege engine in the form of a large bow which shot heavy arrows or st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range was about 400 yards throwing a stone of 60 pound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ts power was derived from twisted ropes called skei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early Roman ballista were made of wood, and held together with iron plates around the frames and iron nails in the stand. The main stand had a slider on the top, into which were loaded the bolts or stone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mportance of Weap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uring medieval times empires and tribes were constantly at war with one anoth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chnology was very limit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y new weapons that could be acquired would be considered a huge advant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ver time more complex and deadly weapons were develop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allista-Pictur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4052880"/>
            <a:ext cx="3962520" cy="2805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124080" y="2590920"/>
            <a:ext cx="3429000" cy="25714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6324480" y="1371600"/>
            <a:ext cx="2536920" cy="30002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reek Fir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was a volatile combination of petroleum, oil, and other natural produc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t generated a highly flammable substance that burned on water and was excruciatingly ho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ldiers would turn to this as the enemy advanced closer and were trying to break down wal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substance was used to create incendiary arrows but could also be blown through tubes at close rang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reek Fire-Pictur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3657600"/>
            <a:ext cx="2927520" cy="32004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895480" y="2270160"/>
            <a:ext cx="3581640" cy="30589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3124080" cy="25066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attering Ram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battering ram has a sharp end , and the objective of it was to break away stones so that infantry could breach a castle or an empi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ts primary use was against large doors because they were easier to breach than stone wal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 a more sophisticated design, a battering ram was slung from a wheeled support frame by ropes or chains so that it could be much more massive and also more easily swung against its target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me battering rams were not slung from ropes or chains, but were instead supported by rollers. This allowed the ram to achieve a greater speed before striking its target and was therefore more destructiv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attering Ram-Pictur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4013280"/>
            <a:ext cx="3200400" cy="28447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3200400" y="2739960"/>
            <a:ext cx="3124080" cy="2792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6248520" y="1447920"/>
            <a:ext cx="2895480" cy="30477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of these weapons seen in this presentation were used all over the world. They all were a vital part of an empire’s victory against it’s enemy. Eventually though, a new age appeared as gunpowder was created in the 1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entury, which took war to a whole new leve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ibliograph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1. Sheppard, Shirley Jean. "The Medieval World Series: The Life of a Knight; Life in a Castle; Medieval Society; Places of Worship in the Middle Ages; Women and Girls in the Middle Ages; Medieval Warfare.(Non-Fiction: Preschool--Grade 6)(Brief Article)(Children's Review)(Book Review)."  Resource Links. 9. 3 (Feb 2004): 25(2). Student Resource Center - Gold. Gale. Greater Atlanta Christian School. 27 Sep. 2009 &lt;http://find.galegroup.com/srcx/infomark.do?&amp;contentSet=IAC-Documents&amp;type=retrieve&amp;tabID=T003&amp;prodId=SRC-1&amp;docId=A114703937&amp;source=gale&amp;srcprod=SRCG&amp;userGroupName=norc72195&amp;version=1.0&gt;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1" lang="en" sz="1200" spc="-1" strike="noStrike">
                <a:solidFill>
                  <a:srgbClr val="ffffff"/>
                </a:solidFill>
                <a:latin typeface="Tahoma"/>
              </a:rPr>
              <a:t> Blademaster, Steve. "Medieval weapons and Tactics of the Knights." </a:t>
            </a:r>
            <a:r>
              <a:rPr b="1" i="1" lang="en" sz="1200" spc="-1" strike="noStrike">
                <a:solidFill>
                  <a:srgbClr val="ffffff"/>
                </a:solidFill>
                <a:latin typeface="Tahoma"/>
              </a:rPr>
              <a:t>Www.buzzle.com</a:t>
            </a:r>
            <a:r>
              <a:rPr b="1" lang="en" sz="1200" spc="-1" strike="noStrike">
                <a:solidFill>
                  <a:srgbClr val="ffffff"/>
                </a:solidFill>
                <a:latin typeface="Tahoma"/>
              </a:rPr>
              <a:t>. Steve Bladematser, 7 May 2008. Web. 27 Sept. 2009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ffffff"/>
                </a:solidFill>
                <a:latin typeface="Tahoma"/>
              </a:rPr>
              <a:t>3. Hull, Lise. "Medieval Weaponry." </a:t>
            </a:r>
            <a:r>
              <a:rPr b="1" i="1" lang="en" sz="1200" spc="-1" strike="noStrike">
                <a:solidFill>
                  <a:srgbClr val="ffffff"/>
                </a:solidFill>
                <a:latin typeface="Tahoma"/>
              </a:rPr>
              <a:t>Www.castles-of-britian.com</a:t>
            </a:r>
            <a:r>
              <a:rPr b="1" lang="en" sz="1200" spc="-1" strike="noStrike">
                <a:solidFill>
                  <a:srgbClr val="ffffff"/>
                </a:solidFill>
                <a:latin typeface="Tahoma"/>
              </a:rPr>
              <a:t>. Lise Hull, 23 June 2008. Web. 27 Sept. 2009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ffffff"/>
                </a:solidFill>
                <a:latin typeface="Tahoma"/>
              </a:rPr>
              <a:t>4. Chrisp, Peter. </a:t>
            </a:r>
            <a:r>
              <a:rPr b="1" i="1" lang="en" sz="1200" spc="-1" strike="noStrike">
                <a:solidFill>
                  <a:srgbClr val="ffffff"/>
                </a:solidFill>
                <a:latin typeface="Tahoma"/>
              </a:rPr>
              <a:t>Medieval Realms: Warfare</a:t>
            </a:r>
            <a:r>
              <a:rPr b="1" lang="en" sz="1200" spc="-1" strike="noStrike">
                <a:solidFill>
                  <a:srgbClr val="ffffff"/>
                </a:solidFill>
                <a:latin typeface="Tahoma"/>
              </a:rPr>
              <a:t>. Farmington Hills,Minnesota: Hodder Wayland, 2004. Pri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ffffff"/>
                </a:solidFill>
                <a:latin typeface="Tahoma"/>
              </a:rPr>
              <a:t>5. Grant, R.G. </a:t>
            </a:r>
            <a:r>
              <a:rPr b="1" i="1" lang="en" sz="1200" spc="-1" strike="noStrike">
                <a:solidFill>
                  <a:srgbClr val="ffffff"/>
                </a:solidFill>
                <a:latin typeface="Tahoma"/>
              </a:rPr>
              <a:t>Warrior: A Visual History of the Fighting Man</a:t>
            </a:r>
            <a:r>
              <a:rPr b="1" lang="en" sz="1200" spc="-1" strike="noStrike">
                <a:solidFill>
                  <a:srgbClr val="ffffff"/>
                </a:solidFill>
                <a:latin typeface="Tahoma"/>
              </a:rPr>
              <a:t>. New York City: Jonathan Metcalf, 2007. Pri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ffffff"/>
                </a:solidFill>
                <a:latin typeface="Tahoma"/>
              </a:rPr>
              <a:t>Additional Sourc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ffffff"/>
                </a:solidFill>
                <a:latin typeface="Tahoma"/>
              </a:rPr>
              <a:t>"Medieval Weapons." </a:t>
            </a:r>
            <a:r>
              <a:rPr b="0" i="1" lang="en" sz="1200" spc="-1" strike="noStrike">
                <a:solidFill>
                  <a:srgbClr val="ffffff"/>
                </a:solidFill>
                <a:latin typeface="Tahoma"/>
              </a:rPr>
              <a:t>Www.wikipedia.com</a:t>
            </a:r>
            <a:r>
              <a:rPr b="0" lang="en" sz="1200" spc="-1" strike="noStrike">
                <a:solidFill>
                  <a:srgbClr val="ffffff"/>
                </a:solidFill>
                <a:latin typeface="Tahoma"/>
              </a:rPr>
              <a:t>. Ed. Various. Www.wikipedia.org. Web. 27 Sept. 2009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Weapons Prior to Medieval Tim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erally stone and wood were used to craft weap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se materials were difficult to produce and unreliable on the battlefi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ntroduction of Metal Weap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use of metal dramatically changed the number and type of weapons availabl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se weapons were more reliable, accurate, and deadly than prior weapo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Knight’s Weapon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word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edieval swords were the primary weapons of the Knight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edieval swords changed as Medieval Warfare and armor change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t the beginning of the Middle Ages a double edged slashing sword was used but as time went by it evolved into a stronger, diamond-shaped sword that could thrust between the rings of chain mail more easil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e 13</a:t>
            </a:r>
            <a:r>
              <a:rPr b="1" lang="en-US" sz="2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century saw modification of swords, which could pierce a knight’s armor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e names of the different Medieval swords included the Broadsword, Falchion sword, Longsword, Scimitar, and Greatswor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words-Pictur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4038480"/>
            <a:ext cx="2819520" cy="28195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819520" y="2003400"/>
            <a:ext cx="3124080" cy="31114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943600" y="1219320"/>
            <a:ext cx="3200400" cy="3009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attle Ax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attle Axes were weapons that were designed as single and double-handed battle ax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y were used as a close contact weapon in the early Medieval period of the Middle Ages and could apply tremendous blows but could also be hurled as a projectil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xes designed in warfare ranged from 1 to 6 pounds and was at a length of up to 30 c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attle axes were an improvement from splitting axes due to the fact that battle axes were meant to cut through limbs and create devastating blows rather than cut woo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attle Axes-Pictur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3124080"/>
            <a:ext cx="3527280" cy="3733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505320" y="2209680"/>
            <a:ext cx="2851200" cy="3171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324480" y="1295280"/>
            <a:ext cx="2849760" cy="3581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7T22:08:46Z</dcterms:created>
  <dc:creator>greg</dc:creator>
  <dc:description/>
  <dc:language>en-US</dc:language>
  <cp:lastModifiedBy>greg</cp:lastModifiedBy>
  <dcterms:modified xsi:type="dcterms:W3CDTF">2009-09-28T02:20:23Z</dcterms:modified>
  <cp:revision>12</cp:revision>
  <dc:subject/>
  <dc:title>Medieval Weapons and Warfare</dc:title>
</cp:coreProperties>
</file>