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7F2-88F7-4315-B994-875EED02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C10-1475-4740-B74A-D772233F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C82-88B5-435D-930A-DC3B5090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60F-F94F-4C12-A7F5-A7BECF23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DFCA-B891-48FF-B74E-7B6BF798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ECDA-6777-47C6-8CF4-8E5230AC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39A9-F404-44B3-9789-9D68DE1B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5DDA-F987-4CC1-9F4D-CAC03334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DCD0-A40E-451B-BF15-0D6F9B15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3D54-CC03-44B4-98F1-14D2AA4E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113D-B0EE-4C35-8E09-A9B92636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B3F-CC86-4284-A20C-11F4B7A9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2CD2-3AF2-450F-925A-7BC7CC2C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CA22-384A-4597-9FE5-1C5EEBBB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0FF7-EE50-4E1B-9B0A-42D21BC4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F433-D9C6-4E02-A402-31B0AFF9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7DC0-B27E-4DF6-B468-B100684F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AC6-188B-4E45-8AF1-750D007A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406-9310-462B-A0E4-EE61DE55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141-81EE-4869-8368-8611A99E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F25-8B28-4FC9-985F-113FC697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722-8AA9-4F18-9583-06678F99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5CF-E43C-4DD7-B1C9-044EE366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6DC-29B8-432B-AB80-CF500FE9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A990-3980-426D-B9DB-F13588D0C6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47C2-5019-496E-B09C-92A2BD0F4E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volution of Medieval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ew Hay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ossb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apon consisting of a bow mounted on a stock that shoots projectiles, often called bolts. The medieval crossbow was called by many names, most of which derived from the word bal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weapon was used by almost every army or emp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rossbow gave a great advantage to whomever used it because you could shoot it from far range and it was easy to re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ossbow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05320" y="2324160"/>
            <a:ext cx="3276360" cy="287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334200" y="1143000"/>
            <a:ext cx="2809800" cy="18684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gb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gbow is a type of bow that is tall (roughly equal to the height of a person who uses it) this will allow its user a fairly long draw, at least to the jaw. A longbow is not significantly recurved. Its limbs are relatively narrow so that they are circular or D-shaped in cross sectio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cause the longbow can be made from a single piece of wood, it can be crafted relatively easily and quick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bows were more deadly than any other bow because they had further range, could reload faster, and were qui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weapon was the most significant development during the 1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entu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gbow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936880" cy="3533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iege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buch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trebuchet is a siege engine somewhat like a catapult that was employed in the Middle Ages either to smash giant walls or to throw projectiles over th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Trebuch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eared in both Christian and Muslim lands around the Mediterranean in the twelfth centu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uld fling up to three-hundred and fifty pound projectiles at high speeds into enemy fortificat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 occasion, disease-infected corpses were flung into cities in an attempt to infect or terrorize the people under sie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buchet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2668680" cy="327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66880" y="2557440"/>
            <a:ext cx="3505320" cy="2836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19920" y="1371600"/>
            <a:ext cx="277956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gon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mangonel was a type of catapult or siege machine used in the medieval period to throw projectiles at a castle's wall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nsisted of a heavy frame which supported a long arm with a cup at the free 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gonels shot heavy projectiles from a bowl-shaped bucket at the end of the arm. The bucket could launch more rocks than a sling which gave it an advantag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angonel's principal role in battle, particularly medieval battle, was to knock down a castle or city's walls and infrastructure, not to kill/demoralize troop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gonel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124080" y="2438280"/>
            <a:ext cx="342900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91320" y="1328760"/>
            <a:ext cx="335268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lis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llista was a siege engine in the form of a large bow which shot heavy arrows or st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ange was about 400 yards throwing a stone of 60 poun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s power was derived from twisted ropes called ske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arly Roman ballista were made of wood, and held together with iron plates around the frames and iron nails in the stand. The main stand had a slider on the top, into which were loaded the bolts or st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Weap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medieval times empires and tribes were constantly at war with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y was very limi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new weapons that could be acquired would be considered a huge advan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time more complex and deadly weapons were develop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lista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4052880"/>
            <a:ext cx="3962520" cy="280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24080" y="25909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253692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ek Fi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as a volatile combination of petroleum, oil, and other natural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generated a highly flammable substance that burned on water and was excruciatingly h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diers would turn to this as the enemy advanced closer and were trying to break dow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substance was used to create incendiary arrows but could also be blown through tubes at close ran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ek Fire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27520" cy="3200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895480" y="2270160"/>
            <a:ext cx="3581640" cy="3058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3124080" cy="2506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ering Ra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battering ram has a sharp end , and the objective of it was to break away stones so that infantry could breach a castle or an emp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primary use was against large doors because they were easier to breach than stone wa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 more sophisticated design, a battering ram was slung from a wheeled support frame by ropes or chains so that it could be much more massive and also more easily swung against its targe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battering rams were not slung from ropes or chains, but were instead supported by rollers. This allowed the ram to achieve a greater speed before striking its target and was therefore more destru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ering Ram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4013280"/>
            <a:ext cx="3200400" cy="2844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00400" y="2739960"/>
            <a:ext cx="3124080" cy="2792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248520" y="1447920"/>
            <a:ext cx="28954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these weapons seen in this presentation were used all over the world. They all were a vital part of an empire’s victory against it’s enemy. Eventually though, a new age appeared as gunpowder was created in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, which took war to a whole new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 Sheppard, Shirley Jean. "The Medieval World Series: The Life of a Knight; Life in a Castle; Medieval Society; Places of Worship in the Middle Ages; Women and Girls in the Middle Ages; Medieval Warfare.(Non-Fiction: Preschool--Grade 6)(Brief Article)(Children's Review)(Book Review)."  Resource Links. 9. 3 (Feb 2004): 25(2). Student Resource Center - Gold. Gale. Greater Atlanta Christian School. 27 Sep. 2009 &lt;http://find.galegroup.com/srcx/infomark.do?&amp;contentSet=IAC-Documents&amp;type=retrieve&amp;tabID=T003&amp;prodId=SRC-1&amp;docId=A114703937&amp;source=gale&amp;srcprod=SRCG&amp;userGroupName=norc72195&amp;version=1.0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 Blademaster, Steve. "Medieval weapons and Tactics of the Knights."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ww.buzzle.com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Steve Bladematser, 7 May 2008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3. Hull, Lise. "Medieval Weaponry."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ww.castles-of-britian.com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Lise Hull, 23 June 2008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4. Chrisp, Peter.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Medieval Realms: Warfare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Farmington Hills,Minnesota: Hodder Wayland, 2004.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5. Grant, R.G. </a:t>
            </a:r>
            <a:r>
              <a:rPr b="1" i="1" lang="en" sz="1200" spc="-1" strike="noStrike">
                <a:solidFill>
                  <a:srgbClr val="ffffff"/>
                </a:solidFill>
                <a:latin typeface="Tahoma"/>
              </a:rPr>
              <a:t>Warrior: A Visual History of the Fighting Man</a:t>
            </a: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. New York City: Jonathan Metcalf, 2007.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ffffff"/>
                </a:solidFill>
                <a:latin typeface="Tahoma"/>
              </a:rPr>
              <a:t>Additional 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ffffff"/>
                </a:solidFill>
                <a:latin typeface="Tahoma"/>
              </a:rPr>
              <a:t>"Medieval Weapons." </a:t>
            </a:r>
            <a:r>
              <a:rPr b="0" i="1" lang="en" sz="1200" spc="-1" strike="noStrike">
                <a:solidFill>
                  <a:srgbClr val="ffffff"/>
                </a:solidFill>
                <a:latin typeface="Tahoma"/>
              </a:rPr>
              <a:t>Www.wikipedia.com</a:t>
            </a:r>
            <a:r>
              <a:rPr b="0" lang="en" sz="1200" spc="-1" strike="noStrike">
                <a:solidFill>
                  <a:srgbClr val="ffffff"/>
                </a:solidFill>
                <a:latin typeface="Tahoma"/>
              </a:rPr>
              <a:t>. Ed. Various. Www.wikipedia.org. Web. 27 Sept.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eapons Prior to Medieval Tim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ly stone and wood were used to craft weap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materials were difficult to produce and unreliable on the battlefi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 of Metal Weap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e of metal dramatically changed the number and type of weapons availa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weapons were more reliable, accurate, and deadly than prior weap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Knight’s Weap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dieval swords were the primary weapons of the Knigh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dieval swords changed as Medieval Warfare and armor chang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t the beginning of the Middle Ages a double edged slashing sword was used but as time went by it evolved into a stronger, diamond-shaped sword that could thrust between the rings of chain mail more easi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1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entury saw modification of swords, which could pierce a knight’s arm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names of the different Medieval swords included the Broadsword, Falchion sword, Longsword, Scimitar, and Greatswor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rds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19520" y="2003400"/>
            <a:ext cx="3124080" cy="311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43600" y="1219320"/>
            <a:ext cx="3200400" cy="3009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Ax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le Axes were weapons that were designed as single and double-handed battle ax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y were used as a close contact weapon in the early Medieval period of the Middle Ages and could apply tremendous blows but could also be hurled as a project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xes designed in warfare ranged from 1 to 6 pounds and was at a length of up to 30 c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le axes were an improvement from splitting axes due to the fact that battle axes were meant to cut through limbs and create devastating blows rather than cut w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Axes-Pic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3527280" cy="373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05320" y="2209680"/>
            <a:ext cx="2851200" cy="3171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24480" y="1295280"/>
            <a:ext cx="2849760" cy="358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2:08:46Z</dcterms:created>
  <dc:creator>greg</dc:creator>
  <dc:description/>
  <dc:language>en-US</dc:language>
  <cp:lastModifiedBy>greg</cp:lastModifiedBy>
  <dcterms:modified xsi:type="dcterms:W3CDTF">2009-09-28T02:20:23Z</dcterms:modified>
  <cp:revision>12</cp:revision>
  <dc:subject/>
  <dc:title>Medieval Weapons and Warfare</dc:title>
</cp:coreProperties>
</file>