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B526D9-43C0-4EF9-B872-64F34D7A89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7D27D-3826-41CD-9460-5CA4B99BA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0BEBB7-C45F-4CB5-B5B3-3713C4801A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2128BD-F334-4318-860D-9A4B689085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9FA78-DE82-41BF-BBC8-BBCF3B9F8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E863A-DCFD-4582-A2E2-10E5D59FB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58242-42D4-41EF-BE22-F02F67E8B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9887-6ECB-4971-AFF4-D243DBD7D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EB776-E79D-46FF-80BC-45E22EA37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97FC8-C18B-485B-BB06-DB83327E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8D228-7436-4B4B-B411-09B277C0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614949-A822-45C8-9430-6D3407204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6E13B-530D-44F6-8A2B-F8A183AEE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1BA8-BE00-421A-9520-A1911B4C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22A97-91EF-4330-AC94-F120F8F9A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F27FE-A93D-4D94-BF47-B2C1255AF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239EC-C84C-4E16-A3CC-8990EC9E0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38E9B8-9CA1-4F8A-8144-6DA5F44CF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D6F9A-F5E5-456D-AF15-01AC51516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5C0442-8E6B-46F5-BA71-9454749C9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7BE19-4E5A-44C7-806E-FA4CAA19A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AC732-BFC1-48D7-AFBC-26C47E611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532BF-5257-4BFB-8AD6-C18093507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4E705C-EA7D-44B4-8A42-4F97FF1CF8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7DA4-9785-4151-919A-EF3CA4B65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E556-7305-4792-8643-8E7844131D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3:17Z</dcterms:modified>
  <cp:revision>17</cp:revision>
  <dc:subject/>
  <dc:title>Hey Emma! You can work on me now</dc:title>
</cp:coreProperties>
</file>