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691F99-0B9A-49D9-89AD-646548498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B95C3B-DAB4-420F-8639-E75AF5853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9E7C71-3FBE-4D10-A9EE-D96DC47BBA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5A7DE6-2A08-46CA-A402-39AEA52D7E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4BC99-74B5-4A6C-B2B3-0EDD053FA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4182A-0609-44F7-9309-9C4F7615A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FC07D-7794-4C5E-BF35-D3F55C681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31453-E559-48D1-9243-62209E606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9407C-A341-42DF-BAD4-0E00323D3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4FDC3-1921-4447-9298-CA366B926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7163-9794-450E-9F18-E8AE28F46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CA3086-FFBD-45BB-8A6F-44073F9A6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784CA-6461-4FFF-874F-5750AE6DC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FE092-31D4-43CE-BA03-4CB6468EA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C8500-A8EB-4F75-A6F4-EDD9CACCF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789F6-D69D-4089-B6DD-332AC62ED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1B403-DD64-40C2-A11A-4253F228D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981E06-B5D2-4934-852D-70E280EF6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D98987-9393-4651-9951-F201ABA17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7498A7-1951-4EBA-8C01-890E0D729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C13BE3-9872-446B-9B09-22E246D46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FA6B3-E6FB-4159-98E5-A31B81AB6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7A3E0F-5665-4BF7-BFFA-C23B85DCD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CEFAB-3B21-4906-A147-5FC763CB87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A44C-7F8D-45CD-A5B1-D4A84BF1AD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58F5-47CA-40F2-BCAD-7DE73291A8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5:06Z</dcterms:modified>
  <cp:revision>17</cp:revision>
  <dc:subject/>
  <dc:title>Hey Emma! You can work on me now</dc:title>
</cp:coreProperties>
</file>