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47A-F9EC-4250-B8DE-DF62902B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C67-CCC1-481B-A65C-F2C4BC70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54F-7479-4DDA-9053-F08B8115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480-6970-4EAC-81ED-5CD07058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EEB-0174-4122-8E3E-FEF44AC8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3B0-E474-44AE-BDB9-2033C42B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4DA-3281-4DB4-BF7A-D574CDAD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EB1-8A76-4EDC-A113-37D6C919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0A2-BA4D-432F-861C-9945FF43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FB3-1A32-4FB7-A5BA-3C78C321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716-78D2-4155-AA1B-C722BB04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3CF-653B-48A0-981D-9209C454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2576-48AA-4DC3-A133-614DFD7F9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renswhimsy.com/public-domain-images/victorian-hair-styles/images/victorian-hair-styles-3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hairselect.com/gallery/medieval_hair05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Fash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aye Godfrey-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r &amp; He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105732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5029200"/>
            <a:ext cx="53316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51055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191120" y="1371600"/>
            <a:ext cx="4076640" cy="34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133720" y="4221000"/>
            <a:ext cx="2624040" cy="263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81680" y="3276720"/>
            <a:ext cx="186876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0" y="1905120"/>
            <a:ext cx="1971720" cy="28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52280" y="4876920"/>
            <a:ext cx="1692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038400" cy="360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106360" cy="316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05320" y="22096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2590920" cy="25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791320" y="91440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wear &amp; Be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1295280"/>
            <a:ext cx="39625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05720" y="14479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2971800" cy="316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276720" y="411480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019920" y="3809880"/>
            <a:ext cx="2746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8:12:47Z</dcterms:created>
  <dc:creator>esgodfrey</dc:creator>
  <dc:description/>
  <dc:language>en-US</dc:language>
  <cp:lastModifiedBy>esgodfrey</cp:lastModifiedBy>
  <dcterms:modified xsi:type="dcterms:W3CDTF">2009-10-21T22:53:36Z</dcterms:modified>
  <cp:revision>3</cp:revision>
  <dc:subject/>
  <dc:title>Medieval Fashion</dc:title>
</cp:coreProperties>
</file>