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A2E4-8591-4E0C-B228-FEF15764A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01ED-D460-43DA-8F55-A43EDC56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31F5-AA88-4923-AB9C-3A58FAD68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F929-88DF-4516-AF9B-935D99391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D220-FFE2-464B-90AC-ECD65FF9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6657-CCAC-43A5-AC06-9EB747A4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696F-34B2-4582-B374-A236FA67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A530-BD7E-4A02-AB69-CC2B1299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3E3E-7FF2-482A-A2B0-AF97694E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AAF1-6E0C-48B8-B8FE-B52D18C2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95E8-ED64-49F0-B06C-B3C0AB92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FB6F-8DE9-427C-8895-FA334FA7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A813-08C1-4754-8845-FE28AE85F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arenswhimsy.com/public-domain-images/victorian-hair-styles/images/victorian-hair-styles-3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hairselect.com/gallery/medieval_hair05.jpg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eval Fash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saye Godfrey-Wil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26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ir &amp; Headd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62320" y="2057400"/>
            <a:ext cx="1057320" cy="1371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05520" y="5029200"/>
            <a:ext cx="533160" cy="762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See full 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95880" y="5105520"/>
            <a:ext cx="666720" cy="761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4191120" y="1371600"/>
            <a:ext cx="4076640" cy="3438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2133720" y="4221000"/>
            <a:ext cx="2624040" cy="2637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6781680" y="3276720"/>
            <a:ext cx="1868760" cy="2589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0" y="1905120"/>
            <a:ext cx="1971720" cy="2884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152280" y="4876920"/>
            <a:ext cx="16923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038400" cy="3600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705720" y="3505320"/>
            <a:ext cx="2106360" cy="3162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505320" y="2209680"/>
            <a:ext cx="2743200" cy="4114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09480" y="3886200"/>
            <a:ext cx="2590920" cy="2568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5791320" y="91440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twear &amp; Be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280" y="41148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971800" y="1295280"/>
            <a:ext cx="3962520" cy="2857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705720" y="1447920"/>
            <a:ext cx="2095560" cy="2095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0" y="1371600"/>
            <a:ext cx="2971800" cy="3162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3276720" y="4114800"/>
            <a:ext cx="2555640" cy="2556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6019920" y="3809880"/>
            <a:ext cx="274608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18:12:47Z</dcterms:created>
  <dc:creator>esgodfrey</dc:creator>
  <dc:description/>
  <dc:language>en-US</dc:language>
  <cp:lastModifiedBy>esgodfrey</cp:lastModifiedBy>
  <dcterms:modified xsi:type="dcterms:W3CDTF">2009-10-21T22:53:36Z</dcterms:modified>
  <cp:revision>3</cp:revision>
  <dc:subject/>
  <dc:title>Medieval Fashion</dc:title>
</cp:coreProperties>
</file>