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DC2-B074-40DC-B10A-3551145B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E71-9259-48CD-9327-A3EBC43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F40-D686-4AD2-A17C-5570C260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408-5E88-4236-B857-2D208575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4F1-89A7-494B-A30C-4FF717FA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4DF-C539-477F-A729-204767E8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550-0C7D-4247-92C7-37B7076B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4EC-1950-47FC-AAD3-752CFDB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9BA-030A-49D2-9C55-211800FF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7C7-A53F-435E-BE77-8BC4436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A95-B47D-4895-8A69-574D7EC2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6C8-617C-44E1-AB37-DEC83E02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CD8D-93D7-47CC-B911-3E3538749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renswhimsy.com/public-domain-images/victorian-hair-styles/images/victorian-hair-styles-3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hairselect.com/gallery/medieval_hair05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aye Godfrey-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&amp; He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0573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5029200"/>
            <a:ext cx="5331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51055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91120" y="1371600"/>
            <a:ext cx="407664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133720" y="4221000"/>
            <a:ext cx="262404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3276720"/>
            <a:ext cx="186876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1905120"/>
            <a:ext cx="1971720" cy="28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4876920"/>
            <a:ext cx="1692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03840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106360" cy="316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25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ear &amp; Be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9625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297180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276720" y="41148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8:12:47Z</dcterms:created>
  <dc:creator>esgodfrey</dc:creator>
  <dc:description/>
  <dc:language>en-US</dc:language>
  <cp:lastModifiedBy>esgodfrey</cp:lastModifiedBy>
  <dcterms:modified xsi:type="dcterms:W3CDTF">2009-10-21T22:53:36Z</dcterms:modified>
  <cp:revision>3</cp:revision>
  <dc:subject/>
  <dc:title>Medieval Fashion</dc:title>
</cp:coreProperties>
</file>