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A1C-581A-43BB-A203-FE49AA19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D53-04ED-444B-9CE8-035F8C29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43A-4926-4E3E-A93C-10F3570D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33D-9165-42E1-9A9D-7970C799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E19-26F5-417A-B7E8-A199EBCA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8AA-0FFF-4C7E-970E-8C79F27D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CB1-BB2A-4A6A-B3E5-7D058DA5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4CA-AC6B-43DE-AA34-83EC6A49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550-7799-4E71-B62B-753C9A3E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1A4-A7B1-4C2D-A1C4-E6414099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28F-43DD-40C8-A4A7-4EF4E450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72F-68CA-4E01-8191-7B5F9ECE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795B-5255-4219-9AA0-2CFD94E63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renswhimsy.com/public-domain-images/victorian-hair-styles/images/victorian-hair-styles-3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hairselect.com/gallery/medieval_hair05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aye Godfrey-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 &amp; He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105732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5029200"/>
            <a:ext cx="53316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51055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191120" y="1371600"/>
            <a:ext cx="407664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133720" y="4221000"/>
            <a:ext cx="2624040" cy="263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81680" y="3276720"/>
            <a:ext cx="186876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1905120"/>
            <a:ext cx="1971720" cy="28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4876920"/>
            <a:ext cx="1692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038400" cy="360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106360" cy="316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590920" cy="25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791320" y="91440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wear &amp; Be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39625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05720" y="14479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2971800" cy="316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276720" y="411480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8:12:47Z</dcterms:created>
  <dc:creator>esgodfrey</dc:creator>
  <dc:description/>
  <dc:language>en-US</dc:language>
  <cp:lastModifiedBy>esgodfrey</cp:lastModifiedBy>
  <dcterms:modified xsi:type="dcterms:W3CDTF">2009-10-21T22:53:36Z</dcterms:modified>
  <cp:revision>3</cp:revision>
  <dc:subject/>
  <dc:title>Medieval Fashion</dc:title>
</cp:coreProperties>
</file>