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6F1E-DF05-4AE3-B1CD-FCA6D736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88AF-7355-4F47-B4A8-7B9A15E8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4F1-1CA8-4D45-9F9C-52C949F8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D4F-3CF5-4EBA-BDAC-31C27E2F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7878-B528-4FBA-9CBB-14A779F6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1F08-0A92-4398-A36C-E63999A7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F63-2A4F-4AD9-8983-CE4AC8D6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014-649E-4CA5-9C7A-5790E3DF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AC0-61F8-4F4F-9344-B49327F2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ACA-F867-46E7-887E-666268E5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B09E-CEB1-47CA-8484-CE5DE31A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913-FC26-45A9-83C2-4FACBAEB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1676-880E-426B-BEBB-847C249F8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9246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ngravers MT"/>
              </a:rPr>
              <a:t>Medieval Punish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By: Emma Davis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Engravers MT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when kings and queens would rule harshly to stay i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ad to punishments that were sometimes even more violent and more ethically wrong than the cr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f unfairness dealing with soci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ntroversial type of pun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used to acquire information, as a punishment, or to control the group in which the victim belo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used during the                            Spanish In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ell known torture                          device was the 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3276720"/>
            <a:ext cx="35431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Devices of 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e we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aratuses for crushing head,                toes, thumbs, and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gue sl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 bo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ish b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8000">
            <a:off x="3505320" y="3885840"/>
            <a:ext cx="182880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534600">
            <a:off x="380520" y="5029200"/>
            <a:ext cx="2381400" cy="149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2195640" cy="31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858000" y="1295280"/>
            <a:ext cx="199080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ful tor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a cra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st ri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’s p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81680" y="380880"/>
            <a:ext cx="1865520" cy="2895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breast.JPG (9635 bytes)"/>
          <p:cNvPicPr/>
          <p:nvPr/>
        </p:nvPicPr>
        <p:blipFill>
          <a:blip r:embed="rId2"/>
          <a:stretch/>
        </p:blipFill>
        <p:spPr>
          <a:xfrm>
            <a:off x="3276720" y="2057400"/>
            <a:ext cx="2971800" cy="247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ar.gif (19191 bytes)"/>
          <p:cNvPicPr/>
          <p:nvPr/>
        </p:nvPicPr>
        <p:blipFill>
          <a:blip r:embed="rId3"/>
          <a:stretch/>
        </p:blipFill>
        <p:spPr>
          <a:xfrm>
            <a:off x="762120" y="3962520"/>
            <a:ext cx="160020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cat1.jpg (11153 bytes)"/>
          <p:cNvPicPr/>
          <p:nvPr/>
        </p:nvPicPr>
        <p:blipFill>
          <a:blip r:embed="rId4"/>
          <a:stretch/>
        </p:blipFill>
        <p:spPr>
          <a:xfrm>
            <a:off x="6477120" y="3809880"/>
            <a:ext cx="2324160" cy="1898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43200" y="4800600"/>
            <a:ext cx="26290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or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ge confi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to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rligi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whirligig.jpg (16004 bytes)"/>
          <p:cNvPicPr/>
          <p:nvPr/>
        </p:nvPicPr>
        <p:blipFill>
          <a:blip r:embed="rId1"/>
          <a:stretch/>
        </p:blipFill>
        <p:spPr>
          <a:xfrm>
            <a:off x="1143000" y="3429000"/>
            <a:ext cx="2157480" cy="3181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86240" y="1219320"/>
            <a:ext cx="3857760" cy="2090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714840" y="2971800"/>
            <a:ext cx="2577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Facts about 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chambers-in lower parts of the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dungeons were very small; some measuring only 11 feet by 7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to twenty prisoners were confined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was finally abolished in England in 16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on of executi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on by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a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g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m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14800" y="2590920"/>
            <a:ext cx="42292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ddle Ages was a very violent and gory time of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many cruel and brutal pun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our society today still has some cruelties, we have greatly evolved to become much more civiliz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37:33Z</dcterms:created>
  <dc:creator>Claire</dc:creator>
  <dc:description/>
  <dc:language>en-US</dc:language>
  <cp:lastModifiedBy>Claire</cp:lastModifiedBy>
  <dcterms:modified xsi:type="dcterms:W3CDTF">2009-09-28T00:17:12Z</dcterms:modified>
  <cp:revision>24</cp:revision>
  <dc:subject/>
  <dc:title>Medieval Punishments</dc:title>
</cp:coreProperties>
</file>